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F4425-4147-4F3C-B2B4-E3D1098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9E17B-17CA-4FB7-8F98-88E6E34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8CAEE-9B11-412A-8F74-165BD1BD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EB239-254A-4F16-8AB0-BD16C939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18E4B-2357-4F12-9E49-0801F670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E676-C7F5-4248-A775-7F5E249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D5B74-6BCD-4B7A-89BD-4E3F9B7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500DC-DEDA-4191-B48E-18CE002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FD92-EAA1-489A-A46C-0202AF2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07270-660F-42D2-A48C-3E4C9CD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0DF24-912F-47FA-AC34-B0E34EE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A1357-9F3B-4EB9-B6E2-EB3CE69B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4571640" y="6313320"/>
            <a:ext cx="44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3 / </a:t>
            </a:r>
            <a:fld id="{5E2D6F08-C206-4411-888C-2790AF0BF02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8A2-AF77-48F3-B8EE-9C7223B4A4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36040" y="15228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09680" y="1438200"/>
            <a:ext cx="5005440" cy="41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perators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ression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1371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Unicode MS"/>
              </a:rPr>
              <a:t>Divides the first operand by the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666880" y="3111480"/>
            <a:ext cx="20574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324480" y="2819520"/>
            <a:ext cx="144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636200" y="5105520"/>
            <a:ext cx="62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The division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2847960"/>
            <a:ext cx="914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/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70320" y="34718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</a:rPr>
              <a:t>resul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5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1371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Unicode MS"/>
              </a:rPr>
              <a:t>Store the remainder after integer di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666880" y="3111480"/>
            <a:ext cx="20574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324480" y="2819520"/>
            <a:ext cx="144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244160" y="5237280"/>
            <a:ext cx="659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The modulus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3600" y="3471840"/>
            <a:ext cx="20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</a:rPr>
              <a:t>answer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600" y="2819520"/>
            <a:ext cx="1228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%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-936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6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1525680"/>
            <a:ext cx="73911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{        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ut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_dist = f_speed * f_tim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ut&lt;&lt;"The distance covered by the vehicle = " ;     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ut&lt;&lt; f_dist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ut &lt;&lt; endl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00400" y="2819520"/>
            <a:ext cx="1447920" cy="457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3352680"/>
            <a:ext cx="3519360" cy="825480"/>
          </a:xfrm>
          <a:prstGeom prst="rect">
            <a:avLst/>
          </a:prstGeom>
          <a:gradFill rotWithShape="0">
            <a:gsLst>
              <a:gs pos="0">
                <a:srgbClr val="476728"/>
              </a:gs>
              <a:gs pos="100000">
                <a:srgbClr val="9ce1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Multiplication op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936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7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5760" y="152280"/>
            <a:ext cx="88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nary arithmetic operato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371600"/>
            <a:ext cx="5486400" cy="9144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41560" y="1371600"/>
            <a:ext cx="5121360" cy="1556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3357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i="1" lang="en-US" sz="4800" spc="-1" strike="noStrike">
                <a:solidFill>
                  <a:srgbClr val="ff0066"/>
                </a:solidFill>
                <a:latin typeface="Monotype Corsiva"/>
              </a:rPr>
              <a:t>Require one oper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320" y="312408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Unicode MS"/>
              </a:rPr>
              <a:t>Negation operator      </a:t>
            </a:r>
            <a:r>
              <a:rPr b="1" lang="en-US" sz="4400" spc="-1" strike="noStrike">
                <a:solidFill>
                  <a:srgbClr val="ffff00"/>
                </a:solidFill>
                <a:latin typeface="Arial Unicode MS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2040" y="5105520"/>
            <a:ext cx="54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Unicode MS"/>
              </a:rPr>
              <a:t>Increment operator   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+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9960" y="4038480"/>
            <a:ext cx="52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Unicode MS"/>
              </a:rPr>
              <a:t>Decrement operator   </a:t>
            </a:r>
            <a:r>
              <a:rPr b="1" lang="en-US" sz="4800" spc="-1" strike="noStrike">
                <a:solidFill>
                  <a:srgbClr val="ffff00"/>
                </a:solidFill>
                <a:latin typeface="Arial Unicode MS"/>
              </a:rPr>
              <a:t>- 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35268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t x;  int x= 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75840" y="5181480"/>
            <a:ext cx="32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tnd ++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++st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7520" y="4267080"/>
            <a:ext cx="31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uls - -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- - pu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467000"/>
            <a:ext cx="883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int value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value = 1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THE INCREMENT OPERATOR"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Pre-fix increment operator (++value): " &lt;&lt; ++value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Post-fix increment operator (value++): " &lt;&lt; value++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275760" y="90360"/>
            <a:ext cx="88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nary arithmetic operato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7600" y="1752480"/>
            <a:ext cx="9096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\n\nTHE DECREMENT OPERATOR" &lt;&lt; endl 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Pre-fix decrement operator (--value): " &lt;&lt; --value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t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t &lt;&lt; "Post-fix decrement operator (value--): " &lt;&lt; value--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cout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Value of value: " &lt;&lt; value &lt;&lt; endl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" y="90360"/>
            <a:ext cx="88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nary arithmetic operator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33960" y="76320"/>
            <a:ext cx="625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ssignment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943280" y="1752480"/>
            <a:ext cx="5371920" cy="151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000044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General format</a:t>
            </a:r>
            <a:endParaRPr b="1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000044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28880" y="3200400"/>
            <a:ext cx="735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</a:rPr>
              <a:t>variable_name = expression  ;</a:t>
            </a:r>
            <a:endParaRPr b="1" lang="en-US" sz="24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809880"/>
            <a:ext cx="533160" cy="685800"/>
          </a:xfrm>
          <a:prstGeom prst="up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33cc33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51520" y="480060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Assignment opera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9280" y="76320"/>
            <a:ext cx="60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ultiple assig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990720"/>
            <a:ext cx="8991720" cy="2531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var_1, var_2, var_3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var_1 = 70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var_2 = 70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var_3 = 70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733920"/>
            <a:ext cx="8991720" cy="10688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var_1 = var_2 = var_3 = 70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5029200"/>
            <a:ext cx="899172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var_1 = int var_2 = int var_3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105520"/>
            <a:ext cx="3124080" cy="114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057400" y="5029200"/>
            <a:ext cx="2209680" cy="1295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8960" y="763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lational operato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362320" y="1371600"/>
            <a:ext cx="36576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cc0099"/>
                    </a:gs>
                    <a:gs pos="100000">
                      <a:srgbClr val="ffccff"/>
                    </a:gs>
                  </a:gsLst>
                  <a:lin ang="13500000"/>
                </a:gradFill>
                <a:latin typeface="Impact"/>
              </a:rPr>
              <a:t>Used f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cc0099"/>
                  </a:gs>
                  <a:gs pos="100000">
                    <a:srgbClr val="ffcc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32" name=""/>
          <p:cNvSpPr/>
          <p:nvPr/>
        </p:nvSpPr>
        <p:spPr>
          <a:xfrm>
            <a:off x="251640" y="348948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ff"/>
                </a:solidFill>
                <a:latin typeface="Monotype Corsiva"/>
              </a:rPr>
              <a:t>- Comparative action on d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0" y="4937040"/>
            <a:ext cx="89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ff"/>
                </a:solidFill>
                <a:latin typeface="Monotype Corsiva"/>
              </a:rPr>
              <a:t>- test relationship between variab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8960" y="763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lational operato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523880"/>
            <a:ext cx="7086600" cy="388620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==       Equal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&gt;         Greater th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&lt;         Less th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!=        Not equal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&gt;=       Greater than or equal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70f"/>
                </a:solidFill>
                <a:latin typeface="Arial Unicode MS"/>
              </a:rPr>
              <a:t>&lt;=       Less than or equal to</a:t>
            </a:r>
            <a:r>
              <a:rPr b="0" lang="en-US" sz="2800" spc="-1" strike="noStrike">
                <a:solidFill>
                  <a:srgbClr val="33570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32960" y="15228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Identify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55760" y="1752480"/>
            <a:ext cx="388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rithm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Comp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Rel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Logi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Bitw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38240" y="5029200"/>
            <a:ext cx="86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Understand precedence and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of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8960" y="763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lational operator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5400" y="2405160"/>
            <a:ext cx="134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=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==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520" y="182880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Equal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16560" y="4221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Greater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4280" y="49068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gt;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2200" y="5516640"/>
            <a:ext cx="10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gt;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15238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45840" y="17524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Less t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68960" y="22096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lt;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76880" y="2895480"/>
            <a:ext cx="10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lt;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2670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  </a:t>
            </a: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Less th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  </a:t>
            </a: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Equal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71480" y="521172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lt;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69680" y="574524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lt;=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175248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Greater than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     </a:t>
            </a: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Equal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67440" y="2819520"/>
            <a:ext cx="134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 &gt;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&gt;=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426708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   </a:t>
            </a: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Not equal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7480" y="5029200"/>
            <a:ext cx="11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!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Unicode MS"/>
              </a:rPr>
              <a:t>b!=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84280" y="76320"/>
            <a:ext cx="63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ogical operato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371600" y="1219320"/>
            <a:ext cx="62485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Symbols used t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combine or negate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expressions containing 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relational operators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84280" y="76320"/>
            <a:ext cx="63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ogical operato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990720"/>
            <a:ext cx="20811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57120" y="2743200"/>
            <a:ext cx="20811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R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3197880" y="1219320"/>
            <a:ext cx="540936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qual ==</a:t>
            </a: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12</a:t>
            </a: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&amp;&amp;</a:t>
            </a: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age == 1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03560" y="2971800"/>
            <a:ext cx="52264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qual ==</a:t>
            </a: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10</a:t>
            </a: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|| 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age == 1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71600" y="1752120"/>
            <a:ext cx="4419360" cy="762120"/>
            <a:chOff x="1371600" y="1752120"/>
            <a:chExt cx="4419360" cy="762120"/>
          </a:xfrm>
        </p:grpSpPr>
        <p:sp>
          <p:nvSpPr>
            <p:cNvPr id="263" name=""/>
            <p:cNvSpPr/>
            <p:nvPr/>
          </p:nvSpPr>
          <p:spPr>
            <a:xfrm>
              <a:off x="1371600" y="2057040"/>
              <a:ext cx="0" cy="45720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71600" y="2514240"/>
              <a:ext cx="441936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790960" y="1752120"/>
              <a:ext cx="0" cy="7621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28840" y="3580920"/>
            <a:ext cx="4362480" cy="762120"/>
            <a:chOff x="1428840" y="3580920"/>
            <a:chExt cx="4362480" cy="762120"/>
          </a:xfrm>
        </p:grpSpPr>
        <p:sp>
          <p:nvSpPr>
            <p:cNvPr id="267" name=""/>
            <p:cNvSpPr/>
            <p:nvPr/>
          </p:nvSpPr>
          <p:spPr>
            <a:xfrm>
              <a:off x="1428840" y="3885840"/>
              <a:ext cx="0" cy="45720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28840" y="4343040"/>
              <a:ext cx="436248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791320" y="3580920"/>
              <a:ext cx="0" cy="7621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57200" y="4629240"/>
            <a:ext cx="20811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4952880"/>
            <a:ext cx="472464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( </a:t>
            </a:r>
            <a:r>
              <a:rPr b="1" lang="en-US" sz="3600" spc="-1" strike="noStrike">
                <a:solidFill>
                  <a:srgbClr val="ff3300"/>
                </a:solidFill>
                <a:latin typeface="Arial Unicode MS"/>
              </a:rPr>
              <a:t>!</a:t>
            </a: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 Unicode MS"/>
              </a:rPr>
              <a:t>( age &gt;= 18)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5562720"/>
            <a:ext cx="2362320" cy="457200"/>
            <a:chOff x="1371600" y="5562720"/>
            <a:chExt cx="2362320" cy="457200"/>
          </a:xfrm>
        </p:grpSpPr>
        <p:sp>
          <p:nvSpPr>
            <p:cNvPr id="273" name=""/>
            <p:cNvSpPr/>
            <p:nvPr/>
          </p:nvSpPr>
          <p:spPr>
            <a:xfrm>
              <a:off x="1371600" y="5745600"/>
              <a:ext cx="0" cy="274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6019920"/>
              <a:ext cx="23623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733920" y="5562720"/>
              <a:ext cx="0" cy="45720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440" y="7632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Precedence and Order of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520" y="685800"/>
          <a:ext cx="83055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305560" cy="542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19520" y="3505320"/>
            <a:ext cx="4572000" cy="1904760"/>
          </a:xfrm>
          <a:prstGeom prst="irregularSeal2">
            <a:avLst/>
          </a:prstGeom>
          <a:gradFill rotWithShape="0">
            <a:gsLst>
              <a:gs pos="0">
                <a:srgbClr val="ff33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1720" y="76320"/>
            <a:ext cx="88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 Unicode MS"/>
              </a:rPr>
              <a:t>Mixed mode Expressions &amp; Implicit Type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5240" y="1143000"/>
            <a:ext cx="42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 Unicode MS"/>
              </a:rPr>
              <a:t>X = 5 * 6.7 ;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133720"/>
            <a:ext cx="0" cy="838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2133720"/>
            <a:ext cx="0" cy="838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67400" y="2895480"/>
            <a:ext cx="15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inte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24800" y="29718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Unicode MS"/>
              </a:rPr>
              <a:t>flo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4159080"/>
            <a:ext cx="1905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err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040" y="5516640"/>
            <a:ext cx="8242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Unicode MS"/>
              </a:rPr>
              <a:t>Integer converted to double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911240"/>
            <a:ext cx="39621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92a0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Impact"/>
              </a:rPr>
              <a:t>Implicit conver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92a0f"/>
                  </a:gs>
                  <a:gs pos="100000">
                    <a:srgbClr val="ffcc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40640" y="76320"/>
            <a:ext cx="500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version ta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1601640"/>
          <a:ext cx="807732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1640"/>
                    <a:ext cx="80773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87200" y="166680"/>
            <a:ext cx="57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 conversion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3080" y="3048120"/>
            <a:ext cx="1447920" cy="19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46600" y="3613320"/>
            <a:ext cx="15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loa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3048120"/>
            <a:ext cx="1447920" cy="19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8200" y="365760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nteg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1486080"/>
            <a:ext cx="0" cy="1447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1523880"/>
            <a:ext cx="5638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38880" y="148608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2320" y="3124080"/>
            <a:ext cx="4038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Integer value converted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to its floating- point equivalen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2232720" y="510552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Value is not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87200" y="166680"/>
            <a:ext cx="57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 conversion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3048120"/>
            <a:ext cx="1447920" cy="19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46600" y="3613320"/>
            <a:ext cx="15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loa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048120"/>
            <a:ext cx="1447920" cy="19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200" y="365760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Integ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8880" y="1486080"/>
            <a:ext cx="0" cy="1447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523880"/>
            <a:ext cx="5638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362320" y="3124080"/>
            <a:ext cx="4038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Floating-point value converted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to integer typ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0" name=""/>
          <p:cNvSpPr/>
          <p:nvPr/>
        </p:nvSpPr>
        <p:spPr>
          <a:xfrm>
            <a:off x="2674080" y="510552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 Unicode MS"/>
              </a:rPr>
              <a:t>Value is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148608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7480" y="76320"/>
            <a:ext cx="86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dding integers to charact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09680" y="1143000"/>
          <a:ext cx="4824360" cy="22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824360" cy="2298600"/>
                  </a:xfrm>
                  <a:prstGeom prst="rect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 txBox="1"/>
          <p:nvPr/>
        </p:nvSpPr>
        <p:spPr>
          <a:xfrm>
            <a:off x="2209680" y="3867120"/>
            <a:ext cx="5257800" cy="154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ff66"/>
                    </a:gs>
                  </a:gsLst>
                  <a:lin ang="5400000"/>
                </a:gradFill>
                <a:latin typeface="Arial Black"/>
              </a:rPr>
              <a:t>Character type data</a:t>
            </a:r>
            <a:endParaRPr b="0" lang="en-US" sz="2800" spc="1" strike="noStrike">
              <a:ln w="1260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66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1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38240" y="5067360"/>
            <a:ext cx="300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ASCII valu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334120"/>
            <a:ext cx="1143000" cy="304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48520" y="514368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0 to 255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53840" y="152280"/>
            <a:ext cx="463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 casting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19320" y="914400"/>
            <a:ext cx="70102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53755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Impact"/>
              </a:rPr>
              <a:t>Implicit Type Conversion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d53755"/>
                  </a:gs>
                  <a:gs pos="100000">
                    <a:srgbClr val="ffcc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14800" y="2895480"/>
            <a:ext cx="1514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rr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2108520" y="3930480"/>
            <a:ext cx="533196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 Unicode MS"/>
              </a:rPr>
              <a:t>Use explicit type conve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Arial Unicode MS"/>
              </a:rPr>
              <a:t>in mixed mode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640" y="4800600"/>
            <a:ext cx="20887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Arial Unicode MS"/>
              </a:rPr>
              <a:t>float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 a </a:t>
            </a:r>
            <a:r>
              <a:rPr b="1" lang="en-US" sz="4000" spc="-1" strike="noStrike">
                <a:solidFill>
                  <a:srgbClr val="ffffcc"/>
                </a:solidFill>
                <a:latin typeface="Arial Unicode MS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Arial Unicode MS"/>
              </a:rPr>
              <a:t>(int)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 a </a:t>
            </a:r>
            <a:r>
              <a:rPr b="1" lang="en-US" sz="4000" spc="-1" strike="noStrike">
                <a:solidFill>
                  <a:srgbClr val="ffffcc"/>
                </a:solidFill>
                <a:latin typeface="Arial Unicode MS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53720" y="2189160"/>
            <a:ext cx="42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 Unicode MS"/>
              </a:rPr>
              <a:t>Often leads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93920" y="1447920"/>
            <a:ext cx="724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Discuss mixed mode express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and implicit type con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Understand type cas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and type compat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480" y="5105520"/>
            <a:ext cx="72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Identify C++ shorthand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2960" y="152280"/>
            <a:ext cx="624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495680" y="5257800"/>
            <a:ext cx="4419720" cy="914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438280"/>
            <a:ext cx="4419720" cy="914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6640" y="152280"/>
            <a:ext cx="463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 casting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24000" y="1447920"/>
            <a:ext cx="637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float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a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=10.0,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b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= 3.0,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c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80160" y="2362320"/>
            <a:ext cx="24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c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= </a:t>
            </a: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a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/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cc33"/>
                </a:solidFill>
                <a:latin typeface="Arial Unicode MS"/>
              </a:rPr>
              <a:t>b</a:t>
            </a:r>
            <a:r>
              <a:rPr b="0" lang="en-US" sz="4800" spc="-1" strike="noStrike">
                <a:solidFill>
                  <a:srgbClr val="ff99cc"/>
                </a:solidFill>
                <a:latin typeface="Arial Unicode MS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21080" y="2452680"/>
            <a:ext cx="435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Unicode MS"/>
              </a:rPr>
              <a:t>Ans= 3.33333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21240" y="4192560"/>
            <a:ext cx="90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c 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= (int)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a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/ (int)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b 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 Unicode MS"/>
              </a:rPr>
              <a:t>OR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c 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= (int)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(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a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/</a:t>
            </a:r>
            <a:r>
              <a:rPr b="1" lang="en-US" sz="4000" spc="-1" strike="noStrike">
                <a:solidFill>
                  <a:srgbClr val="ff00ff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33cc33"/>
                </a:solidFill>
                <a:latin typeface="Arial Unicode MS"/>
              </a:rPr>
              <a:t>b</a:t>
            </a:r>
            <a:r>
              <a:rPr b="1" lang="en-US" sz="4000" spc="-1" strike="noStrike">
                <a:solidFill>
                  <a:srgbClr val="ff99cc"/>
                </a:solidFill>
                <a:latin typeface="Arial Unicode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27280" y="5257800"/>
            <a:ext cx="225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003366"/>
                </a:solidFill>
                <a:latin typeface="Arial Unicode MS"/>
              </a:rPr>
              <a:t>Ans=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752480" y="4648320"/>
            <a:ext cx="6096240" cy="1066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276720"/>
            <a:ext cx="6705720" cy="9903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066680"/>
            <a:ext cx="8458200" cy="19051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7440" y="152280"/>
            <a:ext cx="83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Shorthand Operato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5400" y="1447920"/>
            <a:ext cx="85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Unicode MS"/>
              </a:rPr>
              <a:t>      </a:t>
            </a:r>
            <a:r>
              <a:rPr b="1" lang="en-US" sz="3600" spc="-1" strike="noStrike">
                <a:solidFill>
                  <a:srgbClr val="000044"/>
                </a:solidFill>
                <a:latin typeface="Arial Unicode MS"/>
              </a:rPr>
              <a:t>Help in reducing the co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Arial Unicode MS"/>
              </a:rPr>
              <a:t>required in programming constr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10200" y="3352680"/>
            <a:ext cx="6334560" cy="825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test_val = test_val + 5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15120" y="4815000"/>
            <a:ext cx="3862800" cy="825120"/>
          </a:xfrm>
          <a:prstGeom prst="rect">
            <a:avLst/>
          </a:prstGeom>
          <a:noFill/>
          <a:ln w="0">
            <a:noFill/>
          </a:ln>
          <a:effectLst>
            <a:outerShdw dist="52300" dir="17036436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test_val += 5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51360" y="152280"/>
            <a:ext cx="83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Shorthand Operato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1523880"/>
            <a:ext cx="4876560" cy="4191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66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09880" y="1676520"/>
            <a:ext cx="47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Every shorthand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16960" y="22860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consist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84480" y="289548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An arithmetic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04040" y="359568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44"/>
                </a:solidFill>
                <a:latin typeface="Arial Unicode MS"/>
              </a:rPr>
              <a:t>+, -, /, *, %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79520" y="152280"/>
            <a:ext cx="855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Shorthand Operators (3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2133720"/>
          <a:ext cx="868680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68680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06400" y="15228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600" y="1192320"/>
            <a:ext cx="454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Unicode MS"/>
              </a:rPr>
              <a:t>Operators  are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80" y="2182680"/>
            <a:ext cx="44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re a set of charac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32280"/>
            <a:ext cx="89154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Have specific meaning particular to a language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4449600"/>
            <a:ext cx="769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Do not include special characters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  </a:t>
            </a:r>
            <a:r>
              <a:rPr b="1" lang="en-US" sz="3200" spc="-1" strike="noStrike">
                <a:solidFill>
                  <a:srgbClr val="66ff33"/>
                </a:solidFill>
                <a:latin typeface="Arial Unicode MS"/>
              </a:rPr>
              <a:t>;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 Unicode MS"/>
              </a:rPr>
              <a:t>“</a:t>
            </a:r>
            <a:r>
              <a:rPr b="1" lang="en-US" sz="3200" spc="-1" strike="noStrike">
                <a:solidFill>
                  <a:srgbClr val="00ffff"/>
                </a:solidFill>
                <a:latin typeface="Arial Unicode MS"/>
              </a:rPr>
              <a:t>  </a:t>
            </a:r>
            <a:r>
              <a:rPr b="1" lang="en-US" sz="3200" spc="-1" strike="noStrike">
                <a:solidFill>
                  <a:srgbClr val="66ff33"/>
                </a:solidFill>
                <a:latin typeface="Arial Unicode MS"/>
              </a:rPr>
              <a:t>:</a:t>
            </a:r>
            <a:r>
              <a:rPr b="1" lang="en-US" sz="3200" spc="-1" strike="noStrike">
                <a:solidFill>
                  <a:srgbClr val="00ffff"/>
                </a:solidFill>
                <a:latin typeface="Arial Unicode MS"/>
              </a:rPr>
              <a:t>  </a:t>
            </a:r>
            <a:r>
              <a:rPr b="1" lang="en-US" sz="3200" spc="-1" strike="noStrike">
                <a:solidFill>
                  <a:srgbClr val="66ffff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74680" y="152280"/>
            <a:ext cx="301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peran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19440" y="838080"/>
            <a:ext cx="480996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Impact"/>
              </a:rPr>
              <a:t>Variab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95480" y="2590920"/>
            <a:ext cx="440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Impact"/>
              </a:rPr>
              <a:t>Consta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14800" y="3733920"/>
            <a:ext cx="1828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Impact"/>
              </a:rPr>
              <a:t>Bo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387680" y="3962520"/>
            <a:ext cx="1403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Impact"/>
              </a:rPr>
              <a:t>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371600"/>
            <a:ext cx="5486400" cy="9144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2520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1560" y="1371600"/>
            <a:ext cx="5121360" cy="1556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3357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Monotype Corsiva"/>
              </a:rPr>
              <a:t>Require two operan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2819520"/>
            <a:ext cx="11271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+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95800" y="2819520"/>
            <a:ext cx="2114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-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781680" y="2819520"/>
            <a:ext cx="1828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*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0" y="4191120"/>
            <a:ext cx="914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/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19840" y="4114800"/>
            <a:ext cx="1228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%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2333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2520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760" y="1371600"/>
            <a:ext cx="59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Unicode MS"/>
              </a:rPr>
              <a:t>Adds the values of oper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68720" y="2590920"/>
            <a:ext cx="11271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+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670320" y="34718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</a:rPr>
              <a:t>resul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666880" y="3111480"/>
            <a:ext cx="20574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53080" y="2743200"/>
            <a:ext cx="144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1401840" y="5237280"/>
            <a:ext cx="644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The addition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744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5600" y="137160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Unicode MS"/>
              </a:rPr>
              <a:t>Subtracts the second operand from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200" y="3471840"/>
            <a:ext cx="20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</a:rPr>
              <a:t>answer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666880" y="3111480"/>
            <a:ext cx="20574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2743200"/>
            <a:ext cx="144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1375200" y="5237280"/>
            <a:ext cx="73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The subtraction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76920" y="3411360"/>
            <a:ext cx="15048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-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62320" y="1371600"/>
            <a:ext cx="50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Unicode MS"/>
              </a:rPr>
              <a:t>Multiplies the oper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1240" y="347184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</a:rPr>
              <a:t>ans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66880" y="3111480"/>
            <a:ext cx="20574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086600" y="2819520"/>
            <a:ext cx="144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616680" y="5237280"/>
            <a:ext cx="80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The multiplication opera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2438280"/>
            <a:ext cx="1828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*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-25200" y="152280"/>
            <a:ext cx="91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inary Arithmetic Operators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0:29:35Z</dcterms:created>
  <dc:creator>Victor</dc:creator>
  <dc:description/>
  <dc:language>en-US</dc:language>
  <cp:lastModifiedBy>Sindhu</cp:lastModifiedBy>
  <dcterms:modified xsi:type="dcterms:W3CDTF">2001-09-19T04:51:50Z</dcterms:modified>
  <cp:revision>134</cp:revision>
  <dc:subject/>
  <dc:title>PowerPoint Presentation</dc:title>
</cp:coreProperties>
</file>