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158-A508-48B9-984F-BBBBEEEF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E83-D735-4987-B0F8-89F37AB5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78C-2EE7-4040-9D84-BB96623F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86F-46D7-4DB5-A5C6-852584EE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CB5-F8E3-4BE8-BD08-624DE84E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BD9-A840-4209-8049-D3993A3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40D-CD41-4844-8539-7D80FB73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5A3-1442-4BD8-B619-D4710014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C4C-6927-47D9-90F4-B3E6C69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554-00FF-4886-8092-06C0950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C47-F04E-4082-A54C-22B8CCCA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F3B-D883-448C-98E2-DBC652B6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 / Object Oriented Programming with C++ / Session 10 / </a:t>
            </a:r>
            <a:fld id="{7137106B-DBEB-4F6E-A6C8-74728AC02E5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 6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29F-F528-4698-A026-AAF190026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47920" y="15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 Unicode MS"/>
              </a:rPr>
              <a:t>Session 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82880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cece"/>
                    </a:gs>
                  </a:gsLst>
                  <a:lin ang="5400000"/>
                </a:gradFill>
                <a:latin typeface="Arial Black"/>
              </a:rPr>
              <a:t>Overload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ecec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Teacher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int th_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void getteachdata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riend void display(Student abc, Teacher xyz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void display(Student abc, Teacher xyz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//…  some code…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riend Functions (4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Times New Roman"/>
              </a:rPr>
              <a:t>Features of a friend func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access the private part of a cl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es not have a </a:t>
            </a:r>
            <a:r>
              <a:rPr b="1" lang="en-GB" sz="2800" spc="-1" strike="noStrike">
                <a:solidFill>
                  <a:srgbClr val="ffcc00"/>
                </a:solidFill>
                <a:latin typeface="Courier New"/>
              </a:rPr>
              <a:t>this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i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laration can be placed in either the private or public part of a class specifi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nition does not require the class name with the scope resolution operator prefixed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Advantages of Friend funct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688760"/>
            <a:ext cx="8610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ful when two or more classes contain members, interrelated with other parts of the program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ful in Operator Overloa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ilitate creation of some type of I/O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riend classe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declare a single member function, a few member functions or a whole class as a friend of anothe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function as frie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class beta;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//forward decla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class alpha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int a_dat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alpha(){a.data = 10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void display(beta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class beta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int b_dat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beta(){b_data = 20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friend void alpha::display(beta bb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void alpha::display(beta b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{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cout&lt;&lt;"\n data of beta ="&lt;&lt;bb.b_dat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cout&lt;&lt;"\n data of alpha ="&lt;&lt;a_data;  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void main()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alpha a1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beta b1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a1.display(b1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Friend classe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89917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ire class as a 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class be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class alpha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friend class beta;//beta is a friend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riend classes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class beta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oid display(alpha d)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can access alp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cout&lt;&lt;d.data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oid get_data(alpha d)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can access alp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int x = d.data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riend classes (4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unction Overloading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define a set of functions with the same name, performing the same operations, but using different argument list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considered as Functional Polymorph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unction to be called is determined by the arguments passed to the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33cb"/>
                </a:solidFill>
                <a:latin typeface="Courier New"/>
              </a:rPr>
              <a:t>void display();        // Display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33cb"/>
                </a:solidFill>
                <a:latin typeface="Courier New"/>
              </a:rPr>
              <a:t>void display(const char*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33cb"/>
                </a:solidFill>
                <a:latin typeface="Courier New"/>
              </a:rPr>
              <a:t>void display(int one, int tw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33cb"/>
                </a:solidFill>
                <a:latin typeface="Courier New"/>
              </a:rPr>
              <a:t>void display(float numbe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382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Advantages of Function Overload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liminates the use of different function names for the same opera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lps to understand and debug code eas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taining code is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60" y="-184320"/>
            <a:ext cx="9042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Overloading with various data typ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er can distinguish between overloaded functions with the same number of arguments, provided their type is differ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int square(i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loat square(floa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double square(doubl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square(int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function decla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square(int,int,i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asq = square(a)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function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bsq = square(x,y,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Session Objectives</a:t>
            </a: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lain the concept of  functions with default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ne and use Friend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function over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Operator Over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overloading of the Assignment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Copy Constru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conversion functions which help in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fy operators that cannot be overloa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920" y="-229680"/>
            <a:ext cx="8589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Function overloading: Scope rules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loading mechanism is acceptable only within the same scope of the function decl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class first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oid display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class second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oid display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first object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econd object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ect1.display(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no function overloading takes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ect2.display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41200" y="-63000"/>
            <a:ext cx="8629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Function overloading: Scope rule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Operator Overloading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31560"/>
            <a:ext cx="876312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the ability to associate an existing operator with a member function and use it with objects of its class as its oper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itionally expressions with operators like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-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+=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==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can be used only on basic data types like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rator overloading allows statements like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f (obj1&gt;obj2){ . . 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obj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obj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objects of a cl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iler can distinguish between overloaded operators by examining the data type of its oper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rator overloading is one form of polymorphism - operational polymorph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loading cannot alter the basic function of an operator, nor change its place in the order of prece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Operator Overloading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The Operator func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ains actual instructions to overload an operator.  The operator that has to be overloaded follows the keyword "operator"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return_type operator op(argument list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p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symbol for the operator that is being overload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35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Unary Operators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Unary operators have only one operand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increment operator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++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decrement operator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unary minus operato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The increment and decrement operators can be used as either prefix or postfix operation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ith the overloaded increment and decrement operators, the operator function is executed first, regardless of whether the operator is postfix or prefix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class Sample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int counter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Sample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{counter =0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void operator++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{++counter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void main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Sample obj1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obj1++;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increments counter t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++obj1;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increments counter t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Unary Operator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es not matter in  </a:t>
            </a:r>
            <a:r>
              <a:rPr b="1" lang="en-GB" sz="2800" spc="-1" strike="noStrike">
                <a:solidFill>
                  <a:srgbClr val="9ce157"/>
                </a:solidFill>
                <a:latin typeface="Courier New"/>
              </a:rPr>
              <a:t>obj1++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ce157"/>
                </a:solidFill>
                <a:latin typeface="Courier New"/>
              </a:rPr>
              <a:t>++obj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but there is a problem when </a:t>
            </a:r>
            <a:r>
              <a:rPr b="1" lang="en-GB" sz="2800" spc="-1" strike="noStrike">
                <a:solidFill>
                  <a:srgbClr val="9ce157"/>
                </a:solidFill>
                <a:latin typeface="Courier New"/>
              </a:rPr>
              <a:t>obj1 = obj2++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ample Sample::void operator++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ample temp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create a temporary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temp.counter = ++counter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assign incremented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return temp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return incremente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Unary Operators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-229680"/>
            <a:ext cx="84837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Using nameless temporary object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other way is to create a nameless temporary object and return i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class Sample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privat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int counte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public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ample()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//constructor with no argu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{counter = 0;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8420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ample(int c)  //constructor with one argu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{counter = c;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ample operator++(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ample Sample::void operator++(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{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++counte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return Sample(counter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//or only return Sample(++counter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-360" y="-108000"/>
            <a:ext cx="9318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Using nameless temporary object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unct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function declaration g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ame of the fun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ype of the value returned (if any) by th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umber and types of the arguments that must be supplied in a call of the func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function declaration may or may not contain argument nam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le to call a function without specifying all its argum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Using the </a:t>
            </a:r>
            <a:r>
              <a:rPr b="0" lang="en-GB" sz="4800" spc="-1" strike="noStrike">
                <a:solidFill>
                  <a:srgbClr val="ffcc00"/>
                </a:solidFill>
                <a:latin typeface="Arial Unicode MS"/>
              </a:rPr>
              <a:t>this </a:t>
            </a: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pointe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other way of returning an object from the member function is by using the </a:t>
            </a:r>
            <a:r>
              <a:rPr b="1" lang="en-GB" sz="2800" spc="-1" strike="noStrike">
                <a:solidFill>
                  <a:srgbClr val="ffcc00"/>
                </a:solidFill>
                <a:latin typeface="Courier New"/>
              </a:rPr>
              <a:t>this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int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ample Sample::void operator++(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{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++counte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return(*this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Binary Opera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nary operators can be overloaded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membe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friend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4160" y="-154080"/>
            <a:ext cx="7916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Binary Arithmetic Operators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ed two operands to perform the operation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ample Sample::operator+(Sample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ample temp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temporary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temp.counter = counter + a.counter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return temp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return temp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3 = obj1 + obj2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objects of class S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operator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an access two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 on the left side of the operator,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obj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is the one that will invoke the function and is accessed di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 on the right hand side,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obj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is taken as the argument to the function call is accessed as the function's argument as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a.count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14160" y="-259920"/>
            <a:ext cx="7916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Binary Arithmetic Operators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7524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Overloaded + Operator  for string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228600" y="1143000"/>
            <a:ext cx="9524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String String::operator+(String s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{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String temp;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make a temporary st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strcpy(temp.str,str);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copy this string to tem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strcat(temp.str,ss.str);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add the argument st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return temp;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//return temp st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ce157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String s1 = "Welcome"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String s2 = "to C++"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String s3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s3 = s1 + s2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8480" y="-93240"/>
            <a:ext cx="863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Compound Assignment Operators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void Sample::operator+=(Sample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counter += a.counter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ad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need for a temporary object.  The object, whose data member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count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changed, is the object that invokes the func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unction also needs no return value because the result of the assignment operator is not assigned to anything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operator is used in expressions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1 += obj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mber function declaration would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ample Sample::operator+=(Sample 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turn statement can be written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return Sample(counter);</a:t>
            </a:r>
            <a:r>
              <a:rPr b="1" lang="en-GB" sz="36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58480" y="-93240"/>
            <a:ext cx="863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Compound Assignment Operator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Comparison Opera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and logical operators are binary operators that need two objects to be compar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rison operators that can be overloaded includ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&lt;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&gt;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=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!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String::operator&gt;(String 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return(strcmp(str,ss.str) &gt; 0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5720" y="-139320"/>
            <a:ext cx="863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Assignment Operator Overloading (1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480" y="10663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ault assignment operator simply copies the source object to the destination object byte by byt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String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har *st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tring(char *s = "")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int length = strlen(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tr = new char[length+1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trcpy(str,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~String(){delete[] str;}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//de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void display(){cout&lt;&lt;str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tring s1("Welcome to my world \n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tring s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2 = s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1.display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s2.display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15720" y="-139320"/>
            <a:ext cx="863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Assignment Operator Overloading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495680" y="4114800"/>
            <a:ext cx="4496040" cy="2057400"/>
            <a:chOff x="4495680" y="4114800"/>
            <a:chExt cx="4496040" cy="2057400"/>
          </a:xfrm>
        </p:grpSpPr>
        <p:sp>
          <p:nvSpPr>
            <p:cNvPr id="217" name=""/>
            <p:cNvSpPr/>
            <p:nvPr/>
          </p:nvSpPr>
          <p:spPr>
            <a:xfrm>
              <a:off x="4495680" y="4114800"/>
              <a:ext cx="4419720" cy="1905120"/>
            </a:xfrm>
            <a:prstGeom prst="rect">
              <a:avLst/>
            </a:prstGeom>
            <a:gradFill rotWithShape="0">
              <a:gsLst>
                <a:gs pos="0">
                  <a:srgbClr val="f363d8"/>
                </a:gs>
                <a:gs pos="50000">
                  <a:srgbClr val="fdf9fc"/>
                </a:gs>
                <a:gs pos="100000">
                  <a:srgbClr val="f363d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4191120"/>
              <a:ext cx="44197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6600"/>
                  </a:solidFill>
                  <a:latin typeface="Arial"/>
                </a:rPr>
                <a:t>Output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44"/>
                  </a:solidFill>
                  <a:latin typeface="Courier New"/>
                </a:rPr>
                <a:t>Welcome to my wor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44"/>
                  </a:solidFill>
                  <a:latin typeface="Courier New"/>
                </a:rPr>
                <a:t>Welcome to my wor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44"/>
                  </a:solidFill>
                  <a:latin typeface="Courier New"/>
                </a:rPr>
                <a:t>Null pointer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0" y="-214200"/>
            <a:ext cx="9142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unctions with default argumen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unction declaration must provide default values for the arguments that are not specifi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no arguments are specified, the program will automatically assign values to the parameters from the default decla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void func(int = 1, int = 3, char = '*');  //prototype decla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void func(int num1,int num2 = 3,char ch = '*'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04920" y="1905120"/>
            <a:ext cx="8610120" cy="3882600"/>
            <a:chOff x="304920" y="1905120"/>
            <a:chExt cx="8610120" cy="3882600"/>
          </a:xfrm>
        </p:grpSpPr>
        <p:sp>
          <p:nvSpPr>
            <p:cNvPr id="220" name=""/>
            <p:cNvSpPr/>
            <p:nvPr/>
          </p:nvSpPr>
          <p:spPr>
            <a:xfrm>
              <a:off x="888480" y="1905120"/>
              <a:ext cx="875880" cy="91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t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80800" y="2360880"/>
              <a:ext cx="43704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8480" y="3503880"/>
              <a:ext cx="875880" cy="91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t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80800" y="3960000"/>
              <a:ext cx="43704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920" y="2133720"/>
              <a:ext cx="583560" cy="6847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920" y="3732840"/>
              <a:ext cx="583560" cy="6847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93720" y="2818800"/>
              <a:ext cx="2043360" cy="114084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"Welcome to my world"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17840" y="4188960"/>
              <a:ext cx="5835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17840" y="2360880"/>
              <a:ext cx="5835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01400" y="2360880"/>
              <a:ext cx="0" cy="6865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640" y="4645080"/>
              <a:ext cx="3064680" cy="114264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Assignment copies only the pointer and not the strin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48280" y="2133720"/>
              <a:ext cx="2188800" cy="6847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tring in memor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05280" y="1905120"/>
              <a:ext cx="874080" cy="91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t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7240" y="2360880"/>
              <a:ext cx="43704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21360" y="2133720"/>
              <a:ext cx="583560" cy="6847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79360" y="2360880"/>
              <a:ext cx="438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2360880"/>
              <a:ext cx="0" cy="6865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13320" y="4417920"/>
              <a:ext cx="3357000" cy="136980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After s2 is deleted memory is released but str of s1 object still points to i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0520" y="2818800"/>
              <a:ext cx="1604520" cy="68472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201400" y="3503880"/>
              <a:ext cx="0" cy="684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1400" y="3503880"/>
              <a:ext cx="2919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1400" y="3047760"/>
              <a:ext cx="2919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8200" y="3047760"/>
              <a:ext cx="29196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Assignment Operator Overloading (3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String&amp; String::operator=(String&amp;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{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delete st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int length = strlen(s.st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str = new char[length+1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strcpy(str,s.st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return(*thi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including this function in the program the error message will not app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15720" y="-139320"/>
            <a:ext cx="863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Assignment Operator Overloading (4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you overload the assignment operator you must make sure that all the data members are copied from one object to the other in the operator func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re more data members are involved each has to be copied to the target obj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tring s1("This is a string.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String s2(s1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15720" y="-139320"/>
            <a:ext cx="8631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Assignment Operator Overloading (5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214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Need of Copy Constru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constructor with an object as its formal argument is not defined , the compiler itself initialises the data members of </a:t>
            </a:r>
            <a:r>
              <a:rPr b="1" lang="en-GB" sz="2800" spc="-1" strike="noStrike">
                <a:solidFill>
                  <a:srgbClr val="ffcc00"/>
                </a:solidFill>
                <a:latin typeface="Courier New"/>
              </a:rPr>
              <a:t>s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with  </a:t>
            </a:r>
            <a:r>
              <a:rPr b="1" lang="en-GB" sz="2800" spc="-1" strike="noStrike">
                <a:solidFill>
                  <a:srgbClr val="ffcc00"/>
                </a:solidFill>
                <a:latin typeface="Courier New"/>
              </a:rPr>
              <a:t>s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the data member of class </a:t>
            </a:r>
            <a:r>
              <a:rPr b="1" lang="en-GB" sz="2800" spc="-1" strike="noStrike">
                <a:solidFill>
                  <a:srgbClr val="ffcc00"/>
                </a:solidFill>
                <a:latin typeface="Courier New"/>
              </a:rPr>
              <a:t>Str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a pointer, the null pointer assignment problem arises just as in the assignment operator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Copy Constructor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fine a constructor function that takes an object as its argument.  This constructor is called the copy constructor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X::X(X &amp;ptr)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X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user defined class name and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t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an object of class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is passed by refere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other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X::X(const X &amp;pt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py constructor is called in three contex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When an object of a class is initialised to another of the sam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When an object is passed as an argument to a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When a function returns an objec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py Constructor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" y="-214200"/>
            <a:ext cx="91375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py Constructor for String clas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tring::String(String&amp; s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int size = strlen(ss.str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tr = new char[size+1]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strcpy(str, ss.str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A typical clas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383840"/>
            <a:ext cx="87631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a class X has a data member of pointer type, the class should have a constructor, assignment operator function, copy constructor and destruct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class X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X(some_value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con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X(const X&amp;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copy con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X&amp; operator=(const X&amp;); //assig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~X();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destr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version Function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mber functions used to convert objects to or from basic data types and for conversions between objects of different class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iler knows nothing about converting user-defined types such as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104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class Converter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int fee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float inch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Converter()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//default co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{feet = 0; inches =0.0;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Converter(float met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{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//constructor with one a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float f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f= 3.28 * metr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feet = int(f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inches = 12 *(f-fee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Arial Unicode MS"/>
              </a:rPr>
              <a:t>Conversion Functions (2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600" y="-214200"/>
            <a:ext cx="89042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Default values for argument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ce an argument is given a default value in the list of formal arguments, all of the remaining must have default values als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trailing values can be defaulte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func(2,13,'+'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func(1);    //default values for second and third argumen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func(2,25); //default value for third argu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func(); 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   //default values for all three ar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Courier New"/>
              </a:rPr>
              <a:t>func(2,,'+'); //inval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Converter d1 = 1.55;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//uses second co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Converter d2;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//uses first co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d2 = 2.0;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//uses second constr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Conversion Functions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320" y="151560"/>
            <a:ext cx="89913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cc00"/>
                </a:solidFill>
                <a:latin typeface="Arial Black"/>
              </a:rPr>
              <a:t>User-Defined types to Basic types (1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iler has to be explicitly instructed if an object has to be converted to a basic data typ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operator floa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loat f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 = inches/1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 += float(fee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return (f/3.28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36800"/>
            <a:ext cx="9144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cc00"/>
                </a:solidFill>
                <a:latin typeface="Arial Black"/>
              </a:rPr>
              <a:t>User-Defined types to Basic types (2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SzPct val="1076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an be used as,  </a:t>
            </a:r>
            <a:r>
              <a:rPr b="0" lang="en-GB" sz="2600" spc="-1" strike="noStrike">
                <a:solidFill>
                  <a:srgbClr val="ffffff"/>
                </a:solidFill>
                <a:latin typeface="Courier New"/>
              </a:rPr>
              <a:t>m = d2;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r explicitly using statement, </a:t>
            </a:r>
            <a:r>
              <a:rPr b="0" lang="en-GB" sz="2600" spc="-1" strike="noStrike">
                <a:solidFill>
                  <a:srgbClr val="ffffff"/>
                </a:solidFill>
                <a:latin typeface="Courier New"/>
              </a:rPr>
              <a:t>m = float(d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SzPct val="1076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version function is nothing but overloading of the type cast operator.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SzPct val="1076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 conversion function contains the operator keyword and instead of an operator symbol it contains the data typ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SzPct val="1076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 conversion function must not define a return type nor should it have any arguments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320" y="198000"/>
            <a:ext cx="8991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onversion between Objects (1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version functions have to be specified since compiler knows nothing about user-defined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be a member function of the sourc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be a member function of the destination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ectA = object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ectA: object of destinatio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bjectB: object of source clas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version of objects of two different classes can be achieved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-argument constructor defined in the destination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a conversion function defined in the source clas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Conversion between Objects (2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Exampl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LFeet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int fe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loat inch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LFeet(){feet = 0; inches =0.0;}//Constructo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LFeet(int ft,float in)       //Constructo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eet = f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inches = 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class LMetres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float metre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LMetres(){metres = 0.0;}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//Constructor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LMetres(float m)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   //Constructor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{metres = m;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void main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LMetres dm1 = 1.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LFeet df1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df1 = dm1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Exampl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748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onversion Function in Source 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99136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operator LFeet()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//conversion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float ffeet, in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t ife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ffeet = 3.28*metr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feet = int(ffee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inc = 12*(ffeet - ifee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return LFeet(ifeet,in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Courier New"/>
              </a:rPr>
              <a:t>df1 = dm1;  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alls the conversion function implicit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422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nstructor Function in Destination Cla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LFeet::LFeet(LMetres dm)//constructo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loat ffe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feet = 3.28*dm.GetMetre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eet = int(ffee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inches = 12*(ffeet - fee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loat LMetres::GetMetr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 return metres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Table for Type Convers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09480" y="2286000"/>
          <a:ext cx="81536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153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259920"/>
            <a:ext cx="8839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Arial Unicode MS"/>
              </a:rPr>
              <a:t>Advantages of Default Argu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ful if you want to use arguments, which will almost always have the same value in a func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ful when, after a program is written, the programmer decides to increase the capability of a function by adding an argumen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Operators  that  cannot  be overload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izeof()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ot operator (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cope resolution operator (::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nditional operator (?: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ointer-to-member operator (.*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5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riend Functions (1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vate data values cannot be read or written to by non-member fun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non-member function that is allowed access to the private part of a class is called a friend of the cla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function is made a friend of a class by a friend declaration in tha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person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void getdata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riend void display(person ab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void display(person abc) //friend function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  //without :: op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{//…  some code…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riend Functions (2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the same function needs to access objects from a different class make it a friend of that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Teacher;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//forward decl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class Student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int st_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void getstuddata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friend void display(Student abc, Teacher xyz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ce157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896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ffff"/>
                </a:solidFill>
                <a:latin typeface="Arial Unicode MS"/>
              </a:rPr>
              <a:t>Friend Functions (3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05:27:14Z</dcterms:created>
  <dc:creator>vinod</dc:creator>
  <dc:description/>
  <dc:language>en-US</dc:language>
  <cp:lastModifiedBy>Manoj  Rajan</cp:lastModifiedBy>
  <cp:lastPrinted>1999-06-19T10:34:43Z</cp:lastPrinted>
  <dcterms:modified xsi:type="dcterms:W3CDTF">2001-07-22T12:40:42Z</dcterms:modified>
  <cp:revision>91</cp:revision>
  <dc:subject/>
  <dc:title>Function Overloading and References</dc:title>
</cp:coreProperties>
</file>