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13BB5-D06E-48F3-8C9C-3DE8EDB0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B6D1E-C2C2-4DAE-AC83-7DB706DD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6F1DB-FA77-4CDD-B8C0-84B489C2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7BA47-3A03-45E9-A5F9-3A3A67C9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304CB-4724-464E-A126-08E76A0D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D8F14-7432-4BC3-86A4-7309D29D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0EE53-9460-4C1A-9A8B-C34A7C4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3F5C4-03C4-473D-A97F-8A000071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93DF1-2B52-4F1E-9CCA-0BF6766B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65CD4-871B-4576-B74C-F8D010FE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FF1F3-D5F6-4158-90EB-EEE5D93C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9FC95-99A5-4DC6-A422-ABF31353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4267080" y="6400800"/>
            <a:ext cx="47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nux, C, C++ / Object Oriented Programming with C++ / Session 15 / </a:t>
            </a:r>
            <a:fld id="{2DB73A57-B624-45E1-875A-3870F0A03DA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of 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6D52-FD55-4E85-85C2-19DB279130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00040" y="152280"/>
            <a:ext cx="32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15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5280" y="1600200"/>
            <a:ext cx="647712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xcep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95280" y="3657600"/>
            <a:ext cx="6096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Hand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036160" y="152280"/>
            <a:ext cx="56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 throw outside t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1371600"/>
            <a:ext cx="2743200" cy="40384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void outfunc(int 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if (i= =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throw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098720"/>
            <a:ext cx="3352680" cy="49212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219320"/>
            <a:ext cx="320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main 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outfunc(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outfunc(1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c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2895480"/>
            <a:ext cx="3657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352680"/>
            <a:ext cx="3657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48840" y="7632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Localized try and cat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1371600"/>
            <a:ext cx="2743200" cy="40384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test ( i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098720"/>
            <a:ext cx="3352680" cy="49212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219320"/>
            <a:ext cx="320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void test (int 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c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209680" y="3352680"/>
            <a:ext cx="3657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49880" y="152280"/>
            <a:ext cx="617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Multiple catch block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371600"/>
            <a:ext cx="2743200" cy="40384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handler ( 1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handler ( 0 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1066680"/>
            <a:ext cx="3581280" cy="48769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void handler(int 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{if(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{throw value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{throw ”throwing string”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catch(char *str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{cout&lt;&lt;“string caught”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catch(int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{cout&lt;&lt;“Integer caught”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819520"/>
            <a:ext cx="23623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3276720"/>
            <a:ext cx="2286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52280" y="914400"/>
          <a:ext cx="7239240" cy="52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723924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4200" y="90360"/>
            <a:ext cx="924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ne catch and all Exception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36840" y="1873080"/>
            <a:ext cx="373464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Use </a:t>
            </a: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catch(…)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37920" y="5321160"/>
            <a:ext cx="375768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Default catch blo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4200" y="90360"/>
            <a:ext cx="924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ne catch and all Exception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62120" y="1019160"/>
          <a:ext cx="7619760" cy="50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19160"/>
                    <a:ext cx="761976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03240" y="152280"/>
            <a:ext cx="736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stricting Exception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0520" y="1447920"/>
            <a:ext cx="8009640" cy="1068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8f8f8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The type of exceptions that a function can rai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can be predefined in the function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040" y="3371760"/>
            <a:ext cx="90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ret-ty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unction-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argument li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thr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ype-li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94040" y="4830840"/>
            <a:ext cx="68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type of exceptions that can be ra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38862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03240" y="152280"/>
            <a:ext cx="736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stricting Exception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800" y="1219320"/>
            <a:ext cx="36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f type-list is emp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160020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7600" y="990720"/>
            <a:ext cx="381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function can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ow any ex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51000" y="2133720"/>
            <a:ext cx="6625800" cy="1068840"/>
          </a:xfrm>
          <a:prstGeom prst="rect">
            <a:avLst/>
          </a:prstGeom>
          <a:gradFill rotWithShape="0">
            <a:gsLst>
              <a:gs pos="0">
                <a:srgbClr val="9ce157"/>
              </a:gs>
              <a:gs pos="50000">
                <a:srgbClr val="ffffcc"/>
              </a:gs>
              <a:gs pos="100000">
                <a:srgbClr val="9ce157"/>
              </a:gs>
            </a:gsLst>
            <a:lin ang="5400000"/>
          </a:gra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If a function throws an excep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other than mentioned in the type-li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34290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21360" y="414504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unexpected (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48006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4120" y="559260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bort (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5029200"/>
            <a:ext cx="868680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abort () is an emergency stop, the program terminates immediat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73880" y="76320"/>
            <a:ext cx="49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Special function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28600" y="838080"/>
            <a:ext cx="3809880" cy="2540160"/>
            <a:chOff x="228600" y="838080"/>
            <a:chExt cx="3809880" cy="2540160"/>
          </a:xfrm>
        </p:grpSpPr>
        <p:sp>
          <p:nvSpPr>
            <p:cNvPr id="233" name=""/>
            <p:cNvSpPr/>
            <p:nvPr/>
          </p:nvSpPr>
          <p:spPr>
            <a:xfrm>
              <a:off x="228600" y="838080"/>
              <a:ext cx="3809880" cy="2540160"/>
            </a:xfrm>
            <a:custGeom>
              <a:avLst/>
              <a:gdLst>
                <a:gd name="textAreaLeft" fmla="*/ 869760 w 3809880"/>
                <a:gd name="textAreaRight" fmla="*/ 2940120 w 3809880"/>
                <a:gd name="textAreaTop" fmla="*/ 579960 h 2540160"/>
                <a:gd name="textAreaBottom" fmla="*/ 1960200 h 254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960" y="179928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33"/>
                  </a:solidFill>
                  <a:latin typeface="Times New Roman"/>
                </a:rPr>
                <a:t>terminate ( 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876920" y="838080"/>
            <a:ext cx="3962160" cy="2438640"/>
            <a:chOff x="4876920" y="838080"/>
            <a:chExt cx="3962160" cy="2438640"/>
          </a:xfrm>
        </p:grpSpPr>
        <p:sp>
          <p:nvSpPr>
            <p:cNvPr id="236" name=""/>
            <p:cNvSpPr/>
            <p:nvPr/>
          </p:nvSpPr>
          <p:spPr>
            <a:xfrm>
              <a:off x="4876920" y="838080"/>
              <a:ext cx="3962160" cy="2438640"/>
            </a:xfrm>
            <a:custGeom>
              <a:avLst/>
              <a:gdLst>
                <a:gd name="textAreaLeft" fmla="*/ 904320 w 3962160"/>
                <a:gd name="textAreaRight" fmla="*/ 3057840 w 3962160"/>
                <a:gd name="textAreaTop" fmla="*/ 556560 h 2438640"/>
                <a:gd name="textAreaBottom" fmla="*/ 1882080 h 243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1680" y="176616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33"/>
                  </a:solidFill>
                  <a:latin typeface="Times New Roman"/>
                </a:rPr>
                <a:t>unexpected ( 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666880" y="2895480"/>
            <a:ext cx="3733560" cy="2057400"/>
            <a:chOff x="2666880" y="2895480"/>
            <a:chExt cx="3733560" cy="2057400"/>
          </a:xfrm>
        </p:grpSpPr>
        <p:sp>
          <p:nvSpPr>
            <p:cNvPr id="239" name=""/>
            <p:cNvSpPr/>
            <p:nvPr/>
          </p:nvSpPr>
          <p:spPr>
            <a:xfrm>
              <a:off x="2666880" y="2895480"/>
              <a:ext cx="3733560" cy="2057400"/>
            </a:xfrm>
            <a:custGeom>
              <a:avLst/>
              <a:gdLst>
                <a:gd name="textAreaLeft" fmla="*/ 852120 w 3733560"/>
                <a:gd name="textAreaRight" fmla="*/ 2881440 w 3733560"/>
                <a:gd name="textAreaTop" fmla="*/ 469440 h 2057400"/>
                <a:gd name="textAreaBottom" fmla="*/ 15879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31520" y="3505320"/>
              <a:ext cx="195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33"/>
                  </a:solidFill>
                  <a:latin typeface="Times New Roman"/>
                </a:rPr>
                <a:t>abort ( )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971800" y="152280"/>
            <a:ext cx="36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erminate ( 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1371600"/>
            <a:ext cx="73152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If a function raises an exception which does 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have a corresponding catch b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23623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97680" y="297180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unexpected (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35053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4120" y="426708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bort (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4952880"/>
            <a:ext cx="73152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Immediate program 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383920" y="152280"/>
            <a:ext cx="430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Unexpected ( 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371600"/>
            <a:ext cx="73152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If a function throws a parameter which does 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match the parameter in the corresponding catch b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3623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97680" y="297180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unexpected (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4120" y="426708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bort (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5053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4952880"/>
            <a:ext cx="73152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Immediate program 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54360" y="166680"/>
            <a:ext cx="54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  <a:ea typeface="Times New Roman"/>
              </a:rPr>
              <a:t>Session Objectiv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72360" y="1143000"/>
            <a:ext cx="6190560" cy="685800"/>
            <a:chOff x="972360" y="1143000"/>
            <a:chExt cx="6190560" cy="685800"/>
          </a:xfrm>
        </p:grpSpPr>
        <p:sp>
          <p:nvSpPr>
            <p:cNvPr id="143" name=""/>
            <p:cNvSpPr/>
            <p:nvPr/>
          </p:nvSpPr>
          <p:spPr>
            <a:xfrm>
              <a:off x="990720" y="114300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72360" y="1209960"/>
              <a:ext cx="610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Discuss the need of exception handl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72360" y="2133720"/>
            <a:ext cx="6190560" cy="685800"/>
            <a:chOff x="972360" y="2133720"/>
            <a:chExt cx="6190560" cy="685800"/>
          </a:xfrm>
        </p:grpSpPr>
        <p:sp>
          <p:nvSpPr>
            <p:cNvPr id="146" name=""/>
            <p:cNvSpPr/>
            <p:nvPr/>
          </p:nvSpPr>
          <p:spPr>
            <a:xfrm>
              <a:off x="990720" y="213372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2360" y="2159280"/>
              <a:ext cx="572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Write simple error handling routin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89280" y="3124080"/>
            <a:ext cx="6173640" cy="685800"/>
            <a:chOff x="989280" y="3124080"/>
            <a:chExt cx="6173640" cy="685800"/>
          </a:xfrm>
        </p:grpSpPr>
        <p:sp>
          <p:nvSpPr>
            <p:cNvPr id="149" name=""/>
            <p:cNvSpPr/>
            <p:nvPr/>
          </p:nvSpPr>
          <p:spPr>
            <a:xfrm>
              <a:off x="990720" y="312408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89280" y="3165120"/>
              <a:ext cx="45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Explain exception match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989280" y="4191120"/>
            <a:ext cx="6173640" cy="685800"/>
            <a:chOff x="989280" y="4191120"/>
            <a:chExt cx="6173640" cy="685800"/>
          </a:xfrm>
        </p:grpSpPr>
        <p:sp>
          <p:nvSpPr>
            <p:cNvPr id="152" name=""/>
            <p:cNvSpPr/>
            <p:nvPr/>
          </p:nvSpPr>
          <p:spPr>
            <a:xfrm>
              <a:off x="990720" y="419112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89280" y="4216320"/>
              <a:ext cx="50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Explain the function terminate(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88920" y="5181480"/>
            <a:ext cx="6174000" cy="685800"/>
            <a:chOff x="988920" y="5181480"/>
            <a:chExt cx="6174000" cy="685800"/>
          </a:xfrm>
        </p:grpSpPr>
        <p:sp>
          <p:nvSpPr>
            <p:cNvPr id="155" name=""/>
            <p:cNvSpPr/>
            <p:nvPr/>
          </p:nvSpPr>
          <p:spPr>
            <a:xfrm>
              <a:off x="990720" y="518148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520668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Explain the function unexpected(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28520" y="15228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4920" y="1949400"/>
            <a:ext cx="8037000" cy="947160"/>
          </a:xfrm>
          <a:prstGeom prst="rect">
            <a:avLst/>
          </a:prstGeom>
          <a:gradFill rotWithShape="0">
            <a:gsLst>
              <a:gs pos="0">
                <a:srgbClr val="f98d43"/>
              </a:gs>
              <a:gs pos="50000">
                <a:srgbClr val="ffcc00"/>
              </a:gs>
              <a:gs pos="100000">
                <a:srgbClr val="f98d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  <a:ea typeface="Times New Roman"/>
              </a:rPr>
              <a:t>C++ provides a built in mechanism for handling erro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  <a:ea typeface="Times New Roman"/>
              </a:rPr>
              <a:t>known as exception hand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680" y="1066680"/>
            <a:ext cx="9076320" cy="520560"/>
          </a:xfrm>
          <a:prstGeom prst="rect">
            <a:avLst/>
          </a:prstGeom>
          <a:gradFill rotWithShape="0">
            <a:gsLst>
              <a:gs pos="0">
                <a:srgbClr val="f98d43"/>
              </a:gs>
              <a:gs pos="50000">
                <a:srgbClr val="ffcc00"/>
              </a:gs>
              <a:gs pos="100000">
                <a:srgbClr val="f98d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  <a:ea typeface="Times New Roman"/>
              </a:rPr>
              <a:t>An exception can be called as an error or an unexpected ev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760" y="3443400"/>
            <a:ext cx="4275720" cy="520560"/>
          </a:xfrm>
          <a:prstGeom prst="rect">
            <a:avLst/>
          </a:prstGeom>
          <a:gradFill rotWithShape="0">
            <a:gsLst>
              <a:gs pos="0">
                <a:srgbClr val="f98d43"/>
              </a:gs>
              <a:gs pos="50000">
                <a:srgbClr val="ffcc00"/>
              </a:gs>
              <a:gs pos="100000">
                <a:srgbClr val="f98d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  <a:ea typeface="Times New Roman"/>
              </a:rPr>
              <a:t>Exceptions can occur due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24280" y="518148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Asynchronous event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5181480"/>
            <a:ext cx="39909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ynchronous event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396252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396252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01120" y="76320"/>
            <a:ext cx="84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Need for Exception Handl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20720" y="1273320"/>
            <a:ext cx="6083280" cy="1068840"/>
          </a:xfrm>
          <a:prstGeom prst="rect">
            <a:avLst/>
          </a:prstGeom>
          <a:gradFill rotWithShape="0">
            <a:gsLst>
              <a:gs pos="0">
                <a:srgbClr val="f4f044"/>
              </a:gs>
              <a:gs pos="50000">
                <a:srgbClr val="f98d43"/>
              </a:gs>
              <a:gs pos="100000">
                <a:srgbClr val="f4f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Exceptions might cause unpredi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program ter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3960" y="3048120"/>
            <a:ext cx="3429720" cy="5814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50000">
                <a:srgbClr val="00ffff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Hardware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52240" y="4265640"/>
            <a:ext cx="6550920" cy="13737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C++ statements can be used to check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but then they become redundant through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program, consume space and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19200" y="90360"/>
            <a:ext cx="794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teps to Handle Excep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146240"/>
            <a:ext cx="779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nitor the code, which is likely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generate excep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6480" y="3000240"/>
            <a:ext cx="854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n detection of error, pass the inform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o take corrective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6483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ake the remedial a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88080" y="90360"/>
            <a:ext cx="452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Keywords us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105440" y="1143000"/>
          <a:ext cx="47336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5440" y="1143000"/>
                    <a:ext cx="47336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41360" y="914400"/>
            <a:ext cx="1844640" cy="7034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t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360" y="1889280"/>
            <a:ext cx="1844640" cy="7034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thr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505320"/>
            <a:ext cx="1844640" cy="7034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cat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121932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209680"/>
            <a:ext cx="2743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886200"/>
            <a:ext cx="2210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70920" y="152280"/>
            <a:ext cx="19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Basic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257480"/>
            <a:ext cx="5772240" cy="106884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Statements throwing excep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must be executed in the try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89280" y="2514600"/>
            <a:ext cx="5730840" cy="106884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Functions called from the the 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block can throw exce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66960" y="3772080"/>
            <a:ext cx="5753160" cy="106884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A thrown exception must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at least one corresponding catch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63720" y="5037120"/>
            <a:ext cx="5791320" cy="102204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A single throw can have multip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catch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4600" y="7632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Example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914400"/>
          <a:ext cx="838224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38224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3000" y="1577880"/>
            <a:ext cx="8898120" cy="3110400"/>
          </a:xfrm>
          <a:prstGeom prst="rect">
            <a:avLst/>
          </a:prstGeom>
          <a:solidFill>
            <a:srgbClr val="c0c0c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44"/>
                </a:solidFill>
                <a:latin typeface="Courier New"/>
                <a:ea typeface="Courier New"/>
              </a:rPr>
              <a:t>Demonstration sta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44"/>
                </a:solidFill>
                <a:latin typeface="Courier New"/>
                <a:ea typeface="Courier New"/>
              </a:rPr>
              <a:t>Program control within a try bloc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44"/>
                </a:solidFill>
                <a:latin typeface="Courier New"/>
                <a:ea typeface="Courier New"/>
              </a:rPr>
              <a:t>Program control now in catch bloc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44"/>
                </a:solidFill>
                <a:latin typeface="Courier New"/>
                <a:ea typeface="Courier New"/>
              </a:rPr>
              <a:t>Exception is caught the value of the parameter is 5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44"/>
                </a:solidFill>
                <a:latin typeface="Courier New"/>
                <a:ea typeface="Courier New"/>
              </a:rPr>
              <a:t>End of demonstration</a:t>
            </a:r>
            <a:r>
              <a:rPr b="1" lang="en-US" sz="2200" spc="-1" strike="noStrike">
                <a:solidFill>
                  <a:srgbClr val="000044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80720" y="152280"/>
            <a:ext cx="35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xample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20:21:16Z</dcterms:created>
  <dc:creator>Victor</dc:creator>
  <dc:description/>
  <dc:language>en-US</dc:language>
  <cp:lastModifiedBy>Manoj  Rajan</cp:lastModifiedBy>
  <dcterms:modified xsi:type="dcterms:W3CDTF">2001-07-22T07:25:14Z</dcterms:modified>
  <cp:revision>53</cp:revision>
  <dc:subject/>
  <dc:title>PowerPoint Presentation</dc:title>
</cp:coreProperties>
</file>