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DE540-8DED-48FB-B376-5377C9ED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2A160-16AA-4292-B126-D4D21D6A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F44FB-7F71-4038-8E99-EC6F4152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9A4A1-ADC7-4A9F-A7FF-61114C0B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E8B2E-6E9A-4E9E-9F82-E2E39FBD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80AC5-A208-470B-B2F2-0D105F13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1D26B-038D-4B85-AAE2-E8D09370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6FC43-DE1B-40E4-9387-7FA805ED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DE0D9-6A55-4A5E-A91E-71C6BADF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DA1B8-98DE-40C0-8D5A-00D7DF8F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48D97-E14D-4C90-8BE4-0768CDB6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B64FD-3967-42C3-A6B2-C738D3DA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inux, C, C++/Object Oriented Programming with C++/Session 7/</a:t>
            </a:r>
            <a:fld id="{70DE4ED7-4AAA-4140-B508-DA621AE8D1F8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8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CA6A-FC36-4B5C-8916-677E9C7F2F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83760" y="0"/>
            <a:ext cx="285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7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09680" y="1066680"/>
            <a:ext cx="5181840" cy="396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5400000"/>
                </a:gradFill>
                <a:latin typeface="Arial Black"/>
              </a:rPr>
              <a:t>Array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5400000"/>
                </a:gradFill>
                <a:latin typeface="Arial Black"/>
              </a:rPr>
              <a:t>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5400000"/>
                </a:gradFill>
                <a:latin typeface="Arial Black"/>
              </a:rPr>
              <a:t>Point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857680" y="76320"/>
            <a:ext cx="34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Call by valu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240" y="914400"/>
            <a:ext cx="7625520" cy="459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When data is passed between functions using variable n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1523880"/>
            <a:ext cx="457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void main(void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int data 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ll_function(data) 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void call_function(int data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out &lt;&lt; data 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97080" y="76320"/>
            <a:ext cx="458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Call by refer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600" y="914400"/>
            <a:ext cx="8210520" cy="459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When data is passed between functions using address of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1523880"/>
            <a:ext cx="457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void main(void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int data 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all_function(&amp;data) 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void call_function(int *p_data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cout &lt;&lt; *p_data 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1011240"/>
            <a:ext cx="8610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id main(voi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u = 1;   int v = 3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1(u, v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2(&amp;u,&amp;v);      /* addresses of u and v are passed *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152280"/>
            <a:ext cx="639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Value modification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1143000"/>
            <a:ext cx="7010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id funct1(int u, int 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= 0;   v = 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id funct2(int *pu, int *p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pu = 0 ;     *pv = 0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152280"/>
            <a:ext cx="639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Value modification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47920" y="152280"/>
            <a:ext cx="639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Value modification (3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5768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552760" y="1066680"/>
          <a:ext cx="628632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2760" y="1066680"/>
                    <a:ext cx="62863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85768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552760" y="3657600"/>
          <a:ext cx="6286320" cy="24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2760" y="3657600"/>
                    <a:ext cx="628632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04200" y="1336680"/>
            <a:ext cx="196992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When funct1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is 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4054320"/>
            <a:ext cx="213372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Inside funct1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447920" y="152280"/>
            <a:ext cx="639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Value modification (4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5768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5768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6960" y="1336680"/>
            <a:ext cx="1808280" cy="459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Back to 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4054320"/>
            <a:ext cx="198108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When funct2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is call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5768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14600" y="1031760"/>
          <a:ext cx="518148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31760"/>
                    <a:ext cx="518148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17664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971800" y="3200400"/>
          <a:ext cx="4648320" cy="299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200400"/>
                    <a:ext cx="464832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47920" y="152280"/>
            <a:ext cx="639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Value modification (5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5768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5768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3840" y="1336680"/>
            <a:ext cx="232668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When funct2()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execu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5768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7664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976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8120" y="1143000"/>
          <a:ext cx="495288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143000"/>
                    <a:ext cx="495288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469320" y="0"/>
            <a:ext cx="201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rray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1004760"/>
            <a:ext cx="7248960" cy="5205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Group of elements storing a common type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1828800"/>
            <a:ext cx="1904760" cy="685800"/>
          </a:xfrm>
          <a:prstGeom prst="rect">
            <a:avLst/>
          </a:prstGeom>
          <a:solidFill>
            <a:srgbClr val="ff99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number[0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2514600"/>
            <a:ext cx="1904760" cy="7621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number[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276720"/>
            <a:ext cx="1904760" cy="761760"/>
          </a:xfrm>
          <a:prstGeom prst="rect">
            <a:avLst/>
          </a:prstGeom>
          <a:solidFill>
            <a:srgbClr val="ff99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number[2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4038480"/>
            <a:ext cx="1904760" cy="7621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number[3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27400" y="3124080"/>
            <a:ext cx="417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t number[5] ;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388620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388620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43800" y="39625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75080" y="49528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 spec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75480" y="556272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ble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68040" y="51814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4800600"/>
            <a:ext cx="1904760" cy="838080"/>
          </a:xfrm>
          <a:prstGeom prst="rect">
            <a:avLst/>
          </a:prstGeom>
          <a:solidFill>
            <a:srgbClr val="ff99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number[4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32960" y="1919160"/>
            <a:ext cx="6156360" cy="947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Elements differentiated by their posi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in the ar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25360" y="166680"/>
            <a:ext cx="702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Initialization of an Arra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4120" y="1371600"/>
            <a:ext cx="2655720" cy="5205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5000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number[0] = 35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84640" y="1371600"/>
            <a:ext cx="2655720" cy="5205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5000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number[1] = 4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04160" y="1371600"/>
            <a:ext cx="2655720" cy="5205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5000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number[2] = 2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1400" y="2286000"/>
            <a:ext cx="2567160" cy="5205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5000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number[3] =57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80120" y="2286000"/>
            <a:ext cx="2655720" cy="5205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5000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number[4] = 19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88840" y="3687840"/>
            <a:ext cx="7417080" cy="2226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0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Courier New"/>
                <a:ea typeface="Courier New"/>
              </a:rPr>
              <a:t>int digits[4] = {3,78,17,10}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Courier New"/>
                <a:ea typeface="Courier New"/>
              </a:rPr>
              <a:t>float x[4] = {-89.7,0,29.34,-2.0}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067840" y="76320"/>
            <a:ext cx="585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haracter Array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98280" y="1476360"/>
            <a:ext cx="5968800" cy="581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Generally used to represent a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9440" y="2847960"/>
            <a:ext cx="8488080" cy="581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n character string will occupy n + 1 array lo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2040" y="3886200"/>
            <a:ext cx="7802280" cy="10688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50000">
                <a:srgbClr val="d1c39f"/>
              </a:gs>
              <a:gs pos="100000">
                <a:srgbClr val="ffef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The null character ‘ \0’ is automatically pla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at the end of the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96200" y="0"/>
            <a:ext cx="503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Session 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76212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scuss and use point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152388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dentify single dimension array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220968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fining an arra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289548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itializing of an arra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61152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haracter array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426708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dentify multidimensional array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95288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itializing 2-D array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562284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plain 2-D character array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757160" y="76320"/>
            <a:ext cx="538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Character Arrays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990720"/>
            <a:ext cx="9144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# include &lt;iostream.h&gt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main(void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0" lang="en-GB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 name[10]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0" lang="en-GB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\nEnter your first name: " 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0" lang="en-GB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cin &gt;&gt; name 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0" lang="en-GB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endl 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0" lang="en-GB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“\nHello " &lt;&lt; name &lt;&lt; ". Welcome to Arrays!” 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5073480"/>
            <a:ext cx="51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ter your first name:  SARA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ello SARAH Welcome to Arrays!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410080" y="4876920"/>
          <a:ext cx="32767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4876920"/>
                    <a:ext cx="3276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40840" y="152280"/>
            <a:ext cx="696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Using gets() with Array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6320" y="1600200"/>
            <a:ext cx="8164800" cy="10688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0066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The gets() function can be used to input st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to a character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3432240"/>
            <a:ext cx="7543800" cy="228852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 str_char[100]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Enter a string\n"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gets(str_char) ;// Receiving inp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//  from the key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58080" y="152280"/>
            <a:ext cx="80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Multidimensional Array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1371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data_type array_name[expression 1][expression 2]…[expression n]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311616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int arr_1[3][3]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09080" y="2136600"/>
            <a:ext cx="554832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fining 2 dimensional arr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471840" y="3905280"/>
            <a:ext cx="2318760" cy="1886040"/>
            <a:chOff x="3471840" y="3905280"/>
            <a:chExt cx="2318760" cy="1886040"/>
          </a:xfrm>
        </p:grpSpPr>
        <p:grpSp>
          <p:nvGrpSpPr>
            <p:cNvPr id="254" name=""/>
            <p:cNvGrpSpPr/>
            <p:nvPr/>
          </p:nvGrpSpPr>
          <p:grpSpPr>
            <a:xfrm>
              <a:off x="3481200" y="3909960"/>
              <a:ext cx="2298240" cy="1876320"/>
              <a:chOff x="3481200" y="3909960"/>
              <a:chExt cx="2298240" cy="18763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3481200" y="3909960"/>
                <a:ext cx="765720" cy="625320"/>
                <a:chOff x="3481200" y="3909960"/>
                <a:chExt cx="765720" cy="6253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3620880" y="3909960"/>
                  <a:ext cx="48636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481200" y="3909960"/>
                  <a:ext cx="765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247640" y="3909960"/>
                <a:ext cx="765000" cy="625320"/>
                <a:chOff x="4247640" y="3909960"/>
                <a:chExt cx="765000" cy="6253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4386600" y="3909960"/>
                  <a:ext cx="48708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247640" y="3909960"/>
                  <a:ext cx="7650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013720" y="3909960"/>
                <a:ext cx="765720" cy="625320"/>
                <a:chOff x="5013720" y="3909960"/>
                <a:chExt cx="765720" cy="6253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153400" y="3909960"/>
                  <a:ext cx="48636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013720" y="3909960"/>
                  <a:ext cx="765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3481200" y="4535280"/>
                <a:ext cx="765720" cy="625680"/>
                <a:chOff x="3481200" y="4535280"/>
                <a:chExt cx="765720" cy="625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20880" y="4535280"/>
                  <a:ext cx="48636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481200" y="4535280"/>
                  <a:ext cx="765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4247640" y="4535280"/>
                <a:ext cx="765000" cy="625680"/>
                <a:chOff x="4247640" y="4535280"/>
                <a:chExt cx="765000" cy="6256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386600" y="4535280"/>
                  <a:ext cx="48708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247640" y="4535280"/>
                  <a:ext cx="7650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013720" y="4535280"/>
                <a:ext cx="765720" cy="625680"/>
                <a:chOff x="5013720" y="4535280"/>
                <a:chExt cx="765720" cy="6256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153400" y="4535280"/>
                  <a:ext cx="48636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013720" y="4535280"/>
                  <a:ext cx="765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3481200" y="5160960"/>
                <a:ext cx="765720" cy="625320"/>
                <a:chOff x="3481200" y="5160960"/>
                <a:chExt cx="765720" cy="625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620880" y="5160960"/>
                  <a:ext cx="48636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481200" y="5160960"/>
                  <a:ext cx="765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247640" y="5160960"/>
                <a:ext cx="765000" cy="625320"/>
                <a:chOff x="4247640" y="5160960"/>
                <a:chExt cx="765000" cy="625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386600" y="5160960"/>
                  <a:ext cx="48708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247640" y="5160960"/>
                  <a:ext cx="7650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013720" y="5160960"/>
                <a:ext cx="765720" cy="625320"/>
                <a:chOff x="5013720" y="5160960"/>
                <a:chExt cx="765720" cy="625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153400" y="5160960"/>
                  <a:ext cx="48636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13720" y="5160960"/>
                  <a:ext cx="765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2" name=""/>
            <p:cNvSpPr/>
            <p:nvPr/>
          </p:nvSpPr>
          <p:spPr>
            <a:xfrm>
              <a:off x="3471840" y="3905280"/>
              <a:ext cx="2318760" cy="1886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79200" y="76320"/>
            <a:ext cx="738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Multidimensional Arrays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066680"/>
            <a:ext cx="914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 &lt;iostream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 &lt;conio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int i, j, matrix[3][4] ; 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lrscr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or(i=0; i&lt;3; 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Enter numbers for row " &lt;&lt; (i+1) &lt;&lt; endl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or(j=0; j&lt;4; j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in &gt;&gt; matrix[i][j]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9200" y="76320"/>
            <a:ext cx="738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Multidimensional Arrays (3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73664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You entered... 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or(i=0; i&lt;3; 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\nRow " &lt;&lt; i+1 &lt;&lt; "\t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or(j=0; j&lt;4; j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matrix[i][j] &lt;&lt; "\t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ch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79200" y="76320"/>
            <a:ext cx="738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Multidimensional Arrays (4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838080"/>
            <a:ext cx="4952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nter numbers for row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nter numbers for row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nter numbers for row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ou entered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ow 1    1    2       3      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ow 2    5    6       7      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ow 3    9    10      11     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299960" y="90360"/>
            <a:ext cx="655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2 – D Character Array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1143000"/>
            <a:ext cx="8229600" cy="1169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ar oceans[5][10] = { "Pacific", "Atlantic",  "Indian"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"Arctic","Antarctic“ }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91560" y="3230640"/>
            <a:ext cx="63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rows and columns is fix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43000" y="4173480"/>
            <a:ext cx="7162920" cy="1169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ar oceans[ ][10] = { "Pacific", "Atlantic"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"Indian", "Arctic","Antarctic“ }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1800" y="5516640"/>
            <a:ext cx="747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iler allocates space for as many e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93080" y="25146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42840" y="2514600"/>
            <a:ext cx="15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lum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38280" y="160020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8120" y="160020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261080" y="166680"/>
            <a:ext cx="668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Pointers and Array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17400" y="1523880"/>
            <a:ext cx="63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n array of pointers can be cre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04720" y="2286000"/>
            <a:ext cx="235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int *pt[7] 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5480" y="3840120"/>
            <a:ext cx="8462160" cy="581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n array called pt compromising of seven poin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52240" y="4861080"/>
            <a:ext cx="644436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Times New Roman"/>
              </a:rPr>
              <a:t>pt[0], pt[1], ……………..pt[6]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261080" y="166680"/>
            <a:ext cx="668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Pointers and Array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62960" y="990720"/>
            <a:ext cx="6465600" cy="5814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Initializing array of character point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981080"/>
            <a:ext cx="8153640" cy="338580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44"/>
                </a:solidFill>
                <a:latin typeface="Times New Roman"/>
                <a:ea typeface="Courier New"/>
              </a:rPr>
              <a:t>void main(voi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44"/>
                </a:solidFill>
                <a:latin typeface="Times New Roman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44"/>
                </a:solidFill>
                <a:latin typeface="Times New Roman"/>
                <a:ea typeface="Courier New"/>
              </a:rPr>
              <a:t>char *song[]= { “ Humpty dumpty sat on a wall\n”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44"/>
                </a:solidFill>
                <a:latin typeface="Times New Roman"/>
                <a:ea typeface="Courier New"/>
              </a:rPr>
              <a:t>       </a:t>
            </a:r>
            <a:r>
              <a:rPr b="0" lang="en-GB" sz="2400" spc="-1" strike="noStrike">
                <a:solidFill>
                  <a:srgbClr val="000044"/>
                </a:solidFill>
                <a:latin typeface="Times New Roman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44"/>
                </a:solidFill>
                <a:latin typeface="Times New Roman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44"/>
                </a:solidFill>
                <a:latin typeface="Times New Roman"/>
                <a:ea typeface="Courier New"/>
              </a:rPr>
              <a:t>“ </a:t>
            </a:r>
            <a:r>
              <a:rPr b="0" lang="en-GB" sz="2400" spc="-1" strike="noStrike">
                <a:solidFill>
                  <a:srgbClr val="000044"/>
                </a:solidFill>
                <a:latin typeface="Times New Roman"/>
                <a:ea typeface="Courier New"/>
              </a:rPr>
              <a:t>Humpty dumpty had a great fall\n”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44"/>
                </a:solidFill>
                <a:latin typeface="Times New Roman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44"/>
                </a:solidFill>
                <a:latin typeface="Times New Roman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44"/>
                </a:solidFill>
                <a:latin typeface="Times New Roman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44"/>
                </a:solidFill>
                <a:latin typeface="Times New Roman"/>
                <a:ea typeface="Courier New"/>
              </a:rPr>
              <a:t>“ </a:t>
            </a:r>
            <a:r>
              <a:rPr b="0" lang="en-GB" sz="2400" spc="-1" strike="noStrike">
                <a:solidFill>
                  <a:srgbClr val="000044"/>
                </a:solidFill>
                <a:latin typeface="Times New Roman"/>
                <a:ea typeface="Courier New"/>
              </a:rPr>
              <a:t>Not all the kings horses and men\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44"/>
                </a:solidFill>
                <a:latin typeface="Times New Roman"/>
                <a:ea typeface="Courier New"/>
              </a:rPr>
              <a:t>        </a:t>
            </a:r>
            <a:r>
              <a:rPr b="0" lang="en-GB" sz="2400" spc="-1" strike="noStrike">
                <a:solidFill>
                  <a:srgbClr val="000044"/>
                </a:solidFill>
                <a:latin typeface="Times New Roman"/>
                <a:ea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44"/>
                </a:solidFill>
                <a:latin typeface="Times New Roman"/>
                <a:ea typeface="Courier New"/>
              </a:rPr>
              <a:t>cout&lt;&lt;song[2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44"/>
                </a:solidFill>
                <a:latin typeface="Times New Roman"/>
                <a:ea typeface="Courier New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09680" y="4800600"/>
            <a:ext cx="6400800" cy="106884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  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Not all the kings horses and 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04240" y="152280"/>
            <a:ext cx="57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ccessing Variabl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09000" y="1219320"/>
            <a:ext cx="6384960" cy="581400"/>
          </a:xfrm>
          <a:prstGeom prst="rect">
            <a:avLst/>
          </a:prstGeom>
          <a:gradFill rotWithShape="0">
            <a:gsLst>
              <a:gs pos="0">
                <a:srgbClr val="663012"/>
              </a:gs>
              <a:gs pos="5000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Values of variables can be access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61560" y="2362320"/>
            <a:ext cx="391284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Referring to the variable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58680" y="3429000"/>
            <a:ext cx="595836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Referring to the memory address of its 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4572000"/>
            <a:ext cx="6782040" cy="94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Memory addresses are numeric addresse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in the RAM, that are assigned to variab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79080" y="76320"/>
            <a:ext cx="30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 Unicode MS"/>
              </a:rPr>
              <a:t>Pointers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11920" y="990720"/>
            <a:ext cx="5386680" cy="5205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c0c0c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A variable which holds an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52960" y="1600200"/>
            <a:ext cx="4920480" cy="5205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c0c0c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Defined using the ‘ *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‘ oper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3880" y="2209680"/>
          <a:ext cx="670572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67057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788560" y="76320"/>
            <a:ext cx="30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 Unicode MS"/>
              </a:rPr>
              <a:t>Pointers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15559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 v, *p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v = 'A' ;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v = &amp;v ;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324160" y="3976560"/>
          <a:ext cx="4533840" cy="21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3976560"/>
                    <a:ext cx="4533840" cy="21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90280" y="90360"/>
            <a:ext cx="564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lvalues and rvalu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960" y="1397160"/>
            <a:ext cx="2991240" cy="52056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lvalue (left value) -</a:t>
            </a: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640" y="2300400"/>
            <a:ext cx="698076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Address where the variable is stored in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1240" y="4052880"/>
            <a:ext cx="3210480" cy="520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rvalue (right value) -</a:t>
            </a: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3840" y="5029200"/>
            <a:ext cx="730692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Is the content stored at the lvalue memory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90080" y="166680"/>
            <a:ext cx="727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Pointer fundamental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1066680"/>
            <a:ext cx="7391160" cy="49532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ff"/>
              </a:gs>
              <a:gs pos="100000">
                <a:srgbClr val="99ccff"/>
              </a:gs>
            </a:gsLst>
            <a:lin ang="8100000"/>
          </a:grad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Data is stored 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contiguous memory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The number of memory cells required to stor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data item depends on the type of data i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Character - 1 by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Integer     - 2 by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Floating   - 4 by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Double     - 8 by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2480" y="76320"/>
            <a:ext cx="651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 Unicode MS"/>
              </a:rPr>
              <a:t>Pointer fundamentals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38080" y="917640"/>
          <a:ext cx="762012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7640"/>
                    <a:ext cx="762012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3840" y="76320"/>
            <a:ext cx="651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 Unicode MS"/>
              </a:rPr>
              <a:t>Pointer fundamentals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33520" y="825480"/>
          <a:ext cx="830556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25480"/>
                    <a:ext cx="830556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23:22:43Z</dcterms:created>
  <dc:creator>Victor</dc:creator>
  <dc:description/>
  <dc:language>en-US</dc:language>
  <cp:lastModifiedBy>Sindhu</cp:lastModifiedBy>
  <dcterms:modified xsi:type="dcterms:W3CDTF">2001-09-20T08:39:52Z</dcterms:modified>
  <cp:revision>56</cp:revision>
  <dc:subject/>
  <dc:title>PowerPoint Presentation</dc:title>
</cp:coreProperties>
</file>