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0" y="6313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C,C++ / Object oriented Programming with C++ / Session 2 / </a:t>
            </a:r>
            <a:fld id="{52F6E3A7-F20B-4057-8B97-A5BD2A7E503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4840"/>
            <a:ext cx="10695240" cy="6895440"/>
            <a:chOff x="-1542240" y="-24840"/>
            <a:chExt cx="10695240" cy="6895440"/>
          </a:xfrm>
        </p:grpSpPr>
        <p:sp>
          <p:nvSpPr>
            <p:cNvPr id="68" name=""/>
            <p:cNvSpPr/>
            <p:nvPr/>
          </p:nvSpPr>
          <p:spPr>
            <a:xfrm>
              <a:off x="2590200" y="-7920"/>
              <a:ext cx="275652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688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2160" y="-6480"/>
              <a:ext cx="276012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7400" y="-14400"/>
              <a:ext cx="330120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400" y="154080"/>
              <a:ext cx="556128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4480" y="1215720"/>
              <a:ext cx="4038840" cy="15998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400" y="77760"/>
              <a:ext cx="556128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3120"/>
              <a:ext cx="556272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1760" y="1449000"/>
              <a:ext cx="570420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49840" y="1372680"/>
              <a:ext cx="556092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5320" y="-11160"/>
              <a:ext cx="172872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22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200" y="3948120"/>
              <a:ext cx="275652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688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2160" y="3948120"/>
              <a:ext cx="276012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7400" y="3948120"/>
              <a:ext cx="330120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800" y="3898800"/>
              <a:ext cx="91422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99320" y="3887640"/>
              <a:ext cx="1644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7640" y="3836880"/>
              <a:ext cx="1683000" cy="761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000" y="3836880"/>
              <a:ext cx="1683000" cy="761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320" y="3874320"/>
              <a:ext cx="5637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160" y="3874320"/>
              <a:ext cx="24379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8600" y="3950640"/>
              <a:ext cx="211392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3040" y="3874320"/>
              <a:ext cx="24379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5320" y="3874320"/>
              <a:ext cx="36568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22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22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22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400" y="2619360"/>
              <a:ext cx="32364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2"/>
          </p:nvPr>
        </p:nvSpPr>
        <p:spPr>
          <a:xfrm>
            <a:off x="365760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2 / </a:t>
            </a:r>
            <a:fld id="{53B8E70E-8B7F-4281-94B7-42BD4B8C9D6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29120" y="5544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1447920"/>
            <a:ext cx="7010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Data Typ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Variables and Constan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828800" y="4572000"/>
            <a:ext cx="6324480" cy="1523880"/>
          </a:xfrm>
          <a:prstGeom prst="ellipse">
            <a:avLst/>
          </a:prstGeom>
          <a:gradFill rotWithShape="0">
            <a:gsLst>
              <a:gs pos="0">
                <a:srgbClr val="9ce15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3505320"/>
            <a:ext cx="2895480" cy="990360"/>
          </a:xfrm>
          <a:prstGeom prst="ellipse">
            <a:avLst/>
          </a:prstGeom>
          <a:gradFill rotWithShape="0">
            <a:gsLst>
              <a:gs pos="0">
                <a:srgbClr val="9ce15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429000"/>
            <a:ext cx="182880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9ce15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1752480"/>
            <a:ext cx="350532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9ce1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35480" y="76320"/>
            <a:ext cx="398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dentifier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352680" y="3276720"/>
            <a:ext cx="327672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Times New Roman"/>
              </a:rPr>
              <a:t>names of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79320" y="1905120"/>
            <a:ext cx="3012480" cy="825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 Unicode MS"/>
              </a:rPr>
              <a:t>Variab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3595680"/>
            <a:ext cx="3065760" cy="825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 Unicode MS"/>
              </a:rPr>
              <a:t>func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38560" y="3595680"/>
            <a:ext cx="1969920" cy="825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 Unicode MS"/>
              </a:rPr>
              <a:t>labe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46800" y="4876920"/>
            <a:ext cx="6403320" cy="825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 Unicode MS"/>
              </a:rPr>
              <a:t>User defined objec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535480" y="76320"/>
            <a:ext cx="398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dentifier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066680"/>
            <a:ext cx="8534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alid identifier names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9810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Arial Unicode MS"/>
              </a:rPr>
              <a:t>First character =</a:t>
            </a: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      alphab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3876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Arial Unicode MS"/>
              </a:rPr>
              <a:t>Subsequent     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Arial Unicode MS"/>
              </a:rPr>
              <a:t>characters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800" y="2590920"/>
            <a:ext cx="819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Unicode MS"/>
              </a:rPr>
              <a:t>                         </a:t>
            </a:r>
            <a:r>
              <a:rPr b="0" lang="en-US" sz="4800" spc="-1" strike="noStrike">
                <a:solidFill>
                  <a:srgbClr val="ffffcc"/>
                </a:solidFill>
                <a:latin typeface="Arial Unicode MS"/>
              </a:rPr>
              <a:t>or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undersco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88480" y="3976560"/>
            <a:ext cx="300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alphabe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82360" y="4738680"/>
            <a:ext cx="27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numb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6880" y="5424480"/>
            <a:ext cx="8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Unicode MS"/>
              </a:rPr>
              <a:t>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84880" y="5424480"/>
            <a:ext cx="374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Unicode MS"/>
              </a:rPr>
              <a:t>underscor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724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316960" y="76320"/>
            <a:ext cx="398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dentifier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676520"/>
            <a:ext cx="845820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739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Monotype Corsiva"/>
              </a:rPr>
              <a:t>Identifier names  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ffcc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45" name=""/>
          <p:cNvSpPr/>
          <p:nvPr/>
        </p:nvSpPr>
        <p:spPr>
          <a:xfrm>
            <a:off x="425520" y="3276720"/>
            <a:ext cx="4146480" cy="947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5d5d5d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Unicode MS"/>
              </a:rPr>
              <a:t>Follow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Unicode MS"/>
              </a:rPr>
              <a:t>naming co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9680" y="4648320"/>
            <a:ext cx="4238640" cy="137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Unicode MS"/>
              </a:rPr>
              <a:t>Name should def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Unicode MS"/>
              </a:rPr>
              <a:t>the purpose of exis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02520" y="3200400"/>
            <a:ext cx="46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Use prefixes and suffi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55440" y="3805200"/>
            <a:ext cx="34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Referring is eas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4800600"/>
            <a:ext cx="332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Avoid using u,i,j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Leads to 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04920" y="5052960"/>
            <a:ext cx="8458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Times New Roman"/>
              </a:rPr>
              <a:t>Global....if defined outside the function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93280" y="76320"/>
            <a:ext cx="398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dentifiers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71800" y="1143000"/>
            <a:ext cx="327672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Sco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0880" y="3657600"/>
            <a:ext cx="853452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Monotype Corsiva"/>
              </a:rPr>
              <a:t>Depends on its location</a:t>
            </a:r>
            <a:endParaRPr b="0" lang="en-US" sz="2800" spc="1" strike="noStrike">
              <a:ln w="1908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54" name=""/>
          <p:cNvSpPr/>
          <p:nvPr/>
        </p:nvSpPr>
        <p:spPr>
          <a:xfrm>
            <a:off x="1137240" y="2433600"/>
            <a:ext cx="7203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Arial Unicode MS"/>
              </a:rPr>
              <a:t>Of an identifier is the part of the progra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666633"/>
                </a:solidFill>
                <a:latin typeface="Arial Unicode MS"/>
              </a:rPr>
              <a:t>where the identifier is recognized</a:t>
            </a:r>
            <a:r>
              <a:rPr b="0" lang="en-US" sz="28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250800" y="152280"/>
            <a:ext cx="298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Keywor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8600" y="1295280"/>
            <a:ext cx="8305920" cy="838080"/>
            <a:chOff x="228600" y="1295280"/>
            <a:chExt cx="8305920" cy="838080"/>
          </a:xfrm>
        </p:grpSpPr>
        <p:sp>
          <p:nvSpPr>
            <p:cNvPr id="357" name=""/>
            <p:cNvSpPr/>
            <p:nvPr/>
          </p:nvSpPr>
          <p:spPr>
            <a:xfrm>
              <a:off x="228600" y="1295280"/>
              <a:ext cx="8305920" cy="8380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838080" y="1600200"/>
              <a:ext cx="731520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d6b19c"/>
                      </a:gs>
                      <a:gs pos="100000">
                        <a:srgbClr val="663012"/>
                      </a:gs>
                    </a:gsLst>
                    <a:lin ang="5400000"/>
                  </a:gradFill>
                  <a:latin typeface="Arial Black"/>
                </a:rPr>
                <a:t>Part of C++ language</a:t>
              </a:r>
              <a:endPara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52280" y="2438280"/>
            <a:ext cx="8305920" cy="838440"/>
            <a:chOff x="152280" y="2438280"/>
            <a:chExt cx="8305920" cy="838440"/>
          </a:xfrm>
        </p:grpSpPr>
        <p:sp>
          <p:nvSpPr>
            <p:cNvPr id="360" name=""/>
            <p:cNvSpPr/>
            <p:nvPr/>
          </p:nvSpPr>
          <p:spPr>
            <a:xfrm>
              <a:off x="152280" y="2438280"/>
              <a:ext cx="8305920" cy="838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533520" y="2590920"/>
              <a:ext cx="746748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/>
                      </a:gs>
                      <a:gs pos="100000">
                        <a:srgbClr val="663012"/>
                      </a:gs>
                    </a:gsLst>
                    <a:lin ang="5400000"/>
                  </a:gradFill>
                  <a:latin typeface="Arial Black"/>
                </a:rPr>
                <a:t>Cannot be identifiers</a:t>
              </a:r>
              <a:endPara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52280" y="3581280"/>
            <a:ext cx="8305920" cy="838080"/>
            <a:chOff x="152280" y="3581280"/>
            <a:chExt cx="8305920" cy="838080"/>
          </a:xfrm>
        </p:grpSpPr>
        <p:sp>
          <p:nvSpPr>
            <p:cNvPr id="363" name=""/>
            <p:cNvSpPr/>
            <p:nvPr/>
          </p:nvSpPr>
          <p:spPr>
            <a:xfrm>
              <a:off x="152280" y="3581280"/>
              <a:ext cx="8305920" cy="8380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380880" y="3733560"/>
              <a:ext cx="78487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d6b19c"/>
                      </a:gs>
                      <a:gs pos="100000">
                        <a:srgbClr val="663012"/>
                      </a:gs>
                    </a:gsLst>
                    <a:lin ang="5400000"/>
                  </a:gradFill>
                  <a:latin typeface="Arial Black"/>
                </a:rPr>
                <a:t>int , if , void , char .....</a:t>
              </a:r>
              <a:endPara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-149040" y="434340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New in C+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5181480"/>
            <a:ext cx="8305920" cy="83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5486400"/>
            <a:ext cx="1076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class ,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676520" y="5486400"/>
            <a:ext cx="1419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friend ,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429000" y="5486400"/>
            <a:ext cx="1114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inline ,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724280" y="5448240"/>
            <a:ext cx="1667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private ,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553080" y="5486400"/>
            <a:ext cx="16002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 Black"/>
              </a:rPr>
              <a:t>new ,.....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58240" y="76320"/>
            <a:ext cx="738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ata Types and Variab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020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55640" y="1143000"/>
          <a:ext cx="78627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43000"/>
                    <a:ext cx="7862760" cy="487692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307880" y="0"/>
            <a:ext cx="62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Pre-defined Data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04920" y="762120"/>
            <a:ext cx="8457840" cy="5486400"/>
            <a:chOff x="304920" y="762120"/>
            <a:chExt cx="8457840" cy="5486400"/>
          </a:xfrm>
        </p:grpSpPr>
        <p:grpSp>
          <p:nvGrpSpPr>
            <p:cNvPr id="378" name=""/>
            <p:cNvGrpSpPr/>
            <p:nvPr/>
          </p:nvGrpSpPr>
          <p:grpSpPr>
            <a:xfrm>
              <a:off x="312480" y="766440"/>
              <a:ext cx="8441280" cy="5476680"/>
              <a:chOff x="312480" y="766440"/>
              <a:chExt cx="8441280" cy="547668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312480" y="766440"/>
                <a:ext cx="1755000" cy="603000"/>
                <a:chOff x="312480" y="766440"/>
                <a:chExt cx="1755000" cy="603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25520" y="766440"/>
                  <a:ext cx="1528920" cy="60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ype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2480" y="766440"/>
                  <a:ext cx="1755000" cy="60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067840" y="766440"/>
                <a:ext cx="5421600" cy="603000"/>
                <a:chOff x="2067840" y="766440"/>
                <a:chExt cx="5421600" cy="603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180880" y="766440"/>
                  <a:ext cx="5195520" cy="60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67840" y="766440"/>
                  <a:ext cx="5421600" cy="60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489800" y="766440"/>
                <a:ext cx="1263960" cy="603000"/>
                <a:chOff x="7489800" y="766440"/>
                <a:chExt cx="1263960" cy="603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602120" y="766440"/>
                  <a:ext cx="1038600" cy="60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ngth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489800" y="766440"/>
                  <a:ext cx="1263960" cy="60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12480" y="1369440"/>
                <a:ext cx="1755000" cy="603360"/>
                <a:chOff x="312480" y="1369440"/>
                <a:chExt cx="1755000" cy="6033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25520" y="1369440"/>
                  <a:ext cx="152892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har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12480" y="1369440"/>
                  <a:ext cx="1755000" cy="60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067840" y="1369440"/>
                <a:ext cx="5421600" cy="603360"/>
                <a:chOff x="2067840" y="1369440"/>
                <a:chExt cx="5421600" cy="6033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180880" y="1369440"/>
                  <a:ext cx="519552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ngle letter character entries only</a:t>
                  </a: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67840" y="1369440"/>
                  <a:ext cx="5421600" cy="60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489800" y="1369440"/>
                <a:ext cx="1263960" cy="603360"/>
                <a:chOff x="7489800" y="1369440"/>
                <a:chExt cx="1263960" cy="6033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02120" y="1369440"/>
                  <a:ext cx="103860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 bits</a:t>
                  </a:r>
                  <a:r>
                    <a:rPr b="0" lang="en-GB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      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489800" y="1369440"/>
                  <a:ext cx="1263960" cy="60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12480" y="1973160"/>
                <a:ext cx="1755000" cy="603000"/>
                <a:chOff x="312480" y="1973160"/>
                <a:chExt cx="1755000" cy="6030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25520" y="1973160"/>
                  <a:ext cx="1528920" cy="60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 (short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12480" y="1973160"/>
                  <a:ext cx="1755000" cy="60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67840" y="1973160"/>
                <a:ext cx="5421600" cy="603000"/>
                <a:chOff x="2067840" y="1973160"/>
                <a:chExt cx="5421600" cy="603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180880" y="1973160"/>
                  <a:ext cx="5195520" cy="60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ger values only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67840" y="1973160"/>
                  <a:ext cx="5421600" cy="60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7489800" y="1973160"/>
                <a:ext cx="1263960" cy="603000"/>
                <a:chOff x="7489800" y="1973160"/>
                <a:chExt cx="1263960" cy="603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02120" y="1973160"/>
                  <a:ext cx="1038600" cy="60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 bits</a:t>
                  </a:r>
                  <a:r>
                    <a:rPr b="0" lang="en-GB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   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489800" y="1973160"/>
                  <a:ext cx="1263960" cy="60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12480" y="2576520"/>
                <a:ext cx="1755000" cy="765720"/>
                <a:chOff x="312480" y="2576520"/>
                <a:chExt cx="1755000" cy="765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25520" y="2576520"/>
                  <a:ext cx="15289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ong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12480" y="2576520"/>
                  <a:ext cx="175500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2067840" y="2576520"/>
                <a:ext cx="5421600" cy="765720"/>
                <a:chOff x="2067840" y="2576520"/>
                <a:chExt cx="5421600" cy="765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180880" y="2576520"/>
                  <a:ext cx="5195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ccepts higher range of integer values than the int data typ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067840" y="2576520"/>
                  <a:ext cx="542160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489800" y="2576520"/>
                <a:ext cx="1263960" cy="765720"/>
                <a:chOff x="7489800" y="2576520"/>
                <a:chExt cx="1263960" cy="765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02120" y="2576520"/>
                  <a:ext cx="103860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2 bits</a:t>
                  </a:r>
                  <a:r>
                    <a:rPr b="0" lang="en-GB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89800" y="2576520"/>
                  <a:ext cx="126396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12480" y="3342240"/>
                <a:ext cx="1755000" cy="603360"/>
                <a:chOff x="312480" y="3342240"/>
                <a:chExt cx="1755000" cy="6033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25520" y="3342240"/>
                  <a:ext cx="152892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loat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2480" y="3342240"/>
                  <a:ext cx="1755000" cy="60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067840" y="3342240"/>
                <a:ext cx="5421600" cy="603360"/>
                <a:chOff x="2067840" y="3342240"/>
                <a:chExt cx="5421600" cy="6033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180880" y="3342240"/>
                  <a:ext cx="519552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upports decimal point notatio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067840" y="3342240"/>
                  <a:ext cx="5421600" cy="60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489800" y="3342240"/>
                <a:ext cx="1263960" cy="603360"/>
                <a:chOff x="7489800" y="3342240"/>
                <a:chExt cx="1263960" cy="6033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602120" y="3342240"/>
                  <a:ext cx="1038600" cy="60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2 bits 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489800" y="3342240"/>
                  <a:ext cx="1263960" cy="60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12480" y="3945960"/>
                <a:ext cx="1755000" cy="765360"/>
                <a:chOff x="312480" y="3945960"/>
                <a:chExt cx="1755000" cy="7653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25520" y="3945960"/>
                  <a:ext cx="1528920" cy="76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oubl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2480" y="3945960"/>
                  <a:ext cx="1755000" cy="76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67840" y="3945960"/>
                <a:ext cx="5421600" cy="765360"/>
                <a:chOff x="2067840" y="3945960"/>
                <a:chExt cx="5421600" cy="7653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180880" y="3945960"/>
                  <a:ext cx="5195520" cy="76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upports decimal point notation with greater precision than Float data typ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67840" y="3945960"/>
                  <a:ext cx="5421600" cy="76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7489800" y="3945960"/>
                <a:ext cx="1263960" cy="765360"/>
                <a:chOff x="7489800" y="3945960"/>
                <a:chExt cx="1263960" cy="7653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602120" y="3945960"/>
                  <a:ext cx="1038600" cy="76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4 bits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489800" y="3945960"/>
                  <a:ext cx="1263960" cy="76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12480" y="4711680"/>
                <a:ext cx="1755000" cy="765720"/>
                <a:chOff x="312480" y="4711680"/>
                <a:chExt cx="1755000" cy="765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25520" y="4711680"/>
                  <a:ext cx="15289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ouble floa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12480" y="4711680"/>
                  <a:ext cx="175500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067840" y="4711680"/>
                <a:ext cx="5421600" cy="765720"/>
                <a:chOff x="2067840" y="4711680"/>
                <a:chExt cx="5421600" cy="765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180880" y="4711680"/>
                  <a:ext cx="5195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milar to a float, with greater precision to the right of the decimal poin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067840" y="4711680"/>
                  <a:ext cx="542160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489800" y="4711680"/>
                <a:ext cx="1263960" cy="765720"/>
                <a:chOff x="7489800" y="4711680"/>
                <a:chExt cx="1263960" cy="765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602120" y="4711680"/>
                  <a:ext cx="103860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8 bit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489800" y="4711680"/>
                  <a:ext cx="126396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12480" y="5477400"/>
                <a:ext cx="1755000" cy="765720"/>
                <a:chOff x="312480" y="5477400"/>
                <a:chExt cx="1755000" cy="765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25520" y="5477400"/>
                  <a:ext cx="15289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voi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12480" y="5477400"/>
                  <a:ext cx="175500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2067840" y="5477400"/>
                <a:ext cx="5421600" cy="765720"/>
                <a:chOff x="2067840" y="5477400"/>
                <a:chExt cx="5421600" cy="7657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180880" y="5477400"/>
                  <a:ext cx="5195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oes not return any value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067840" y="5477400"/>
                  <a:ext cx="542160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489800" y="5477400"/>
                <a:ext cx="1263960" cy="765720"/>
                <a:chOff x="7489800" y="5477400"/>
                <a:chExt cx="1263960" cy="765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602120" y="5477400"/>
                  <a:ext cx="103860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/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489800" y="5477400"/>
                  <a:ext cx="126396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1" name=""/>
            <p:cNvSpPr/>
            <p:nvPr/>
          </p:nvSpPr>
          <p:spPr>
            <a:xfrm>
              <a:off x="304920" y="762120"/>
              <a:ext cx="845784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652400" y="76320"/>
            <a:ext cx="564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claring variab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1680" y="1371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data_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3280" y="14018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variable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1676520"/>
            <a:ext cx="304560" cy="609480"/>
          </a:xfrm>
          <a:custGeom>
            <a:avLst/>
            <a:gdLst>
              <a:gd name="textAreaLeft" fmla="*/ 89640 w 304560"/>
              <a:gd name="textAreaRight" fmla="*/ 304920 w 3045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228880" y="1666800"/>
            <a:ext cx="304920" cy="609840"/>
          </a:xfrm>
          <a:custGeom>
            <a:avLst/>
            <a:gdLst>
              <a:gd name="textAreaLeft" fmla="*/ 89640 w 304920"/>
              <a:gd name="textAreaRight" fmla="*/ 305280 w 3049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19640" y="1447920"/>
            <a:ext cx="21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 Unicode MS"/>
              </a:rPr>
              <a:t>= initial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238880" y="2209680"/>
            <a:ext cx="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96120" y="3154320"/>
            <a:ext cx="152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5160" y="2286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i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360" y="220968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num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5160" y="3048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i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8640" y="3048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num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= 3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0840" y="31384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char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alpha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=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‘G’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9120" y="39625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float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float_no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1400" y="44956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float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floa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= 33.33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5105520"/>
            <a:ext cx="751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double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d_no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double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doub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= 1234.121212121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994400" y="90360"/>
            <a:ext cx="510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haracter string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905120" y="1981080"/>
            <a:ext cx="5319720" cy="1236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Arial Black"/>
              </a:rPr>
              <a:t>string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157400" y="3048120"/>
            <a:ext cx="69958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llection of characters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192600" y="4419720"/>
            <a:ext cx="50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char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str_string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[6]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8280" y="5364000"/>
            <a:ext cx="87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ff"/>
                </a:solidFill>
                <a:latin typeface="Courier New"/>
              </a:rPr>
              <a:t>char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ourier New"/>
              </a:rPr>
              <a:t>str_string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[30]=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“ Nice Day “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673640" y="90360"/>
            <a:ext cx="533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Variable qualifi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7600" y="1295280"/>
            <a:ext cx="8767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.....are variable modifier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2362320"/>
            <a:ext cx="685800" cy="2286000"/>
          </a:xfrm>
          <a:prstGeom prst="downArrow">
            <a:avLst>
              <a:gd name="adj1" fmla="val 50000"/>
              <a:gd name="adj2" fmla="val 83333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24480" y="2362320"/>
            <a:ext cx="685800" cy="2286000"/>
          </a:xfrm>
          <a:prstGeom prst="downArrow">
            <a:avLst>
              <a:gd name="adj1" fmla="val 50000"/>
              <a:gd name="adj2" fmla="val 83333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0880" y="4648320"/>
            <a:ext cx="4038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Arial Black"/>
              </a:rPr>
              <a:t>type modifier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952880" y="4610160"/>
            <a:ext cx="335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Arial Black"/>
              </a:rPr>
              <a:t>access modifier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30680" y="304920"/>
            <a:ext cx="54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7440" y="1447920"/>
            <a:ext cx="64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Identify the C++ character 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280" y="2590920"/>
            <a:ext cx="76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8d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8d43"/>
                </a:solidFill>
                <a:latin typeface="Times New Roman"/>
              </a:rPr>
              <a:t>Discuss the identifiers and key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440" y="3809880"/>
            <a:ext cx="85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xplain various data types and qualifi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1960" y="4997520"/>
            <a:ext cx="56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the C++ varia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324480" y="3733920"/>
            <a:ext cx="2895840" cy="1676160"/>
          </a:xfrm>
          <a:prstGeom prst="irregularSeal1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3124080"/>
            <a:ext cx="4114800" cy="1371600"/>
          </a:xfrm>
          <a:prstGeom prst="irregularSeal2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3657600"/>
            <a:ext cx="3200400" cy="1371600"/>
          </a:xfrm>
          <a:prstGeom prst="irregularSeal2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429000"/>
            <a:ext cx="1905120" cy="1066680"/>
          </a:xfrm>
          <a:prstGeom prst="irregularSeal1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67080" y="76320"/>
            <a:ext cx="44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ype modifi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880" y="1143000"/>
            <a:ext cx="85154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hange the limits of a data type</a:t>
            </a:r>
            <a:endParaRPr b="1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362320" y="2362320"/>
            <a:ext cx="4000320" cy="132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44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se qualifiers</a:t>
            </a:r>
            <a:endParaRPr b="1" lang="en-US" sz="2400" spc="1" strike="noStrike">
              <a:ln w="9360">
                <a:solidFill>
                  <a:srgbClr val="000044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6" name=""/>
          <p:cNvSpPr/>
          <p:nvPr/>
        </p:nvSpPr>
        <p:spPr>
          <a:xfrm>
            <a:off x="76680" y="345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urier New"/>
              </a:rPr>
              <a:t>lo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38862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urier New"/>
              </a:rPr>
              <a:t>sign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1800" y="35193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urier New"/>
              </a:rPr>
              <a:t>unsign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9320" y="4038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Courier New"/>
              </a:rPr>
              <a:t>short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8520" y="4952880"/>
            <a:ext cx="33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long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 var1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21760" y="580536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Unsigned shor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var2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127960" y="90360"/>
            <a:ext cx="497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ccess modifi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33520" y="1143000"/>
            <a:ext cx="818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Arial Black"/>
              </a:rPr>
              <a:t>constant declarati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219320" y="3200400"/>
            <a:ext cx="3590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keyword 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867200" y="3106800"/>
            <a:ext cx="2295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</a:rPr>
              <a:t>const</a:t>
            </a:r>
            <a:endParaRPr b="1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496" name=""/>
          <p:cNvSpPr/>
          <p:nvPr/>
        </p:nvSpPr>
        <p:spPr>
          <a:xfrm>
            <a:off x="446760" y="4419720"/>
            <a:ext cx="828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floa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pi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3.146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har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three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‘3’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number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5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double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d_number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8738478.9898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42568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1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295280" y="990720"/>
            <a:ext cx="6472440" cy="14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our basic typ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533520" y="22096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integer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43000" y="3298680"/>
            <a:ext cx="485316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floating point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352680" y="4245120"/>
            <a:ext cx="3429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character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129200" y="5402160"/>
            <a:ext cx="463392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tring literal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42784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2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200400" y="144792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integer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5" name=""/>
          <p:cNvSpPr/>
          <p:nvPr/>
        </p:nvSpPr>
        <p:spPr>
          <a:xfrm>
            <a:off x="150120" y="3411360"/>
            <a:ext cx="892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int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41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// decim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 int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0345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// octal begin with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 in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0x9f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// hexadecimal beg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// with 0x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42784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3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852560" y="1066680"/>
            <a:ext cx="485316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floating point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312408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//Defining a standard decim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 float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f_number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12.5766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520" y="4648320"/>
            <a:ext cx="9096480" cy="2531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Either the whole part of the numbe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or the decimal part can be omitted …but not bo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447920" y="2362320"/>
            <a:ext cx="6062400" cy="8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Decimal notation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42784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4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852560" y="1066680"/>
            <a:ext cx="485316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floating point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31240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 double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d_const_val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9.43E-99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4876920"/>
            <a:ext cx="9144000" cy="1312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Mantissa in decimal no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Followed by letter ‘ e ’  or ‘ E ‘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47920" y="2362320"/>
            <a:ext cx="6062400" cy="8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cientific notation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42784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5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514600" y="1143000"/>
            <a:ext cx="3429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character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33520" y="2827440"/>
            <a:ext cx="7924680" cy="121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Arial Black"/>
              </a:rPr>
              <a:t>single character </a:t>
            </a:r>
            <a:endParaRPr b="1" lang="en-US" sz="2400" spc="1" strike="noStrike">
              <a:ln w="936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33c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44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Arial Black"/>
              </a:rPr>
              <a:t>enclosed in single quotes</a:t>
            </a:r>
            <a:endParaRPr b="1" lang="en-US" sz="2400" spc="1" strike="noStrike">
              <a:ln w="9360">
                <a:solidFill>
                  <a:srgbClr val="000044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9" name=""/>
          <p:cNvSpPr/>
          <p:nvPr/>
        </p:nvSpPr>
        <p:spPr>
          <a:xfrm>
            <a:off x="534960" y="4535640"/>
            <a:ext cx="81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Courier New"/>
              </a:rPr>
              <a:t>const</a:t>
            </a:r>
            <a:r>
              <a:rPr b="1" lang="en-US" sz="40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ffccff"/>
                </a:solidFill>
                <a:latin typeface="Courier New"/>
              </a:rPr>
              <a:t>char </a:t>
            </a:r>
            <a:r>
              <a:rPr b="1" lang="en-US" sz="4000" spc="-1" strike="noStrike">
                <a:solidFill>
                  <a:srgbClr val="00ff00"/>
                </a:solidFill>
                <a:latin typeface="Courier New"/>
              </a:rPr>
              <a:t>c_alpha</a:t>
            </a:r>
            <a:r>
              <a:rPr b="1" lang="en-US" sz="40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Courier New"/>
              </a:rPr>
              <a:t>=</a:t>
            </a:r>
            <a:r>
              <a:rPr b="1" lang="en-US" sz="40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Courier New"/>
              </a:rPr>
              <a:t>‘A’</a:t>
            </a:r>
            <a:r>
              <a:rPr b="1" lang="en-US" sz="40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Courier New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42784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6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981080" y="1295280"/>
            <a:ext cx="5029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tring literal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71600" y="2438280"/>
            <a:ext cx="62485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consist of double quotation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marks containing any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number of characters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427840" y="90360"/>
            <a:ext cx="40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nstants (7)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371600"/>
            <a:ext cx="9144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Defining a string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Courier New"/>
              </a:rPr>
              <a:t>const char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str_message[ ]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“All done“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str_message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3880" y="5119560"/>
            <a:ext cx="2314440" cy="520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ll done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52920" y="9036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83808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ata stored in variables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886200"/>
            <a:ext cx="1905120" cy="220968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8960" y="4876920"/>
            <a:ext cx="2652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Identifi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76520" y="41148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048120"/>
            <a:ext cx="5943600" cy="1371600"/>
          </a:xfrm>
          <a:custGeom>
            <a:avLst/>
            <a:gdLst>
              <a:gd name="textAreaLeft" fmla="*/ 1034640 w 5943600"/>
              <a:gd name="textAreaRight" fmla="*/ 4314600 w 594360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21" hR="21600" stAng="10800000" swAng="5400000"/>
                <a:lnTo>
                  <a:pt x="11919" y="0"/>
                </a:lnTo>
                <a:arcTo wR="7521" hR="21600" stAng="-5400000" swAng="2602273"/>
                <a:lnTo>
                  <a:pt x="21136" y="14130"/>
                </a:lnTo>
                <a:lnTo>
                  <a:pt x="17241" y="21600"/>
                </a:lnTo>
                <a:lnTo>
                  <a:pt x="12418" y="14130"/>
                </a:lnTo>
                <a:lnTo>
                  <a:pt x="14578" y="14130"/>
                </a:lnTo>
                <a:arcTo wR="7521" hR="21600" stAng="-2797727" swAng="-2237672"/>
                <a:lnTo>
                  <a:pt x="9720" y="944"/>
                </a:lnTo>
                <a:arcTo wR="7521" hR="21600" stAng="-5764601" swAng="-5035399"/>
                <a:close/>
              </a:path>
              <a:path fill="darkenLess" w="21600" h="21600">
                <a:moveTo>
                  <a:pt x="0" y="21600"/>
                </a:moveTo>
                <a:arcTo wR="7521" hR="21600" stAng="10800000" swAng="5400000"/>
                <a:lnTo>
                  <a:pt x="7521" y="0"/>
                </a:lnTo>
                <a:arcTo wR="7521" hR="21600" stAng="-5400000" swAng="364601"/>
                <a:lnTo>
                  <a:pt x="9720" y="944"/>
                </a:lnTo>
                <a:arcTo wR="7521" hR="21600" stAng="-5764601" swAng="-5035399"/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4952880"/>
            <a:ext cx="8381880" cy="1067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514600"/>
            <a:ext cx="7924680" cy="12952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990720"/>
            <a:ext cx="792504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16120" y="0"/>
            <a:ext cx="52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++ Character 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1371600"/>
            <a:ext cx="7238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to Z (upper case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2806560"/>
            <a:ext cx="73152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to z ( lower case 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5181480"/>
            <a:ext cx="78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Special charact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05320" y="3962520"/>
            <a:ext cx="1904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39840" y="90360"/>
            <a:ext cx="534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pecial charact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990720"/>
            <a:ext cx="8457480" cy="5317560"/>
            <a:chOff x="380880" y="990720"/>
            <a:chExt cx="8457480" cy="5317560"/>
          </a:xfrm>
        </p:grpSpPr>
        <p:grpSp>
          <p:nvGrpSpPr>
            <p:cNvPr id="159" name=""/>
            <p:cNvGrpSpPr/>
            <p:nvPr/>
          </p:nvGrpSpPr>
          <p:grpSpPr>
            <a:xfrm>
              <a:off x="391680" y="996480"/>
              <a:ext cx="8433360" cy="5304960"/>
              <a:chOff x="391680" y="996480"/>
              <a:chExt cx="8433360" cy="53049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391680" y="996480"/>
                <a:ext cx="1276560" cy="778680"/>
                <a:chOff x="391680" y="996480"/>
                <a:chExt cx="1276560" cy="7786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54400" y="996480"/>
                  <a:ext cx="95184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[ ]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1680" y="996480"/>
                  <a:ext cx="127656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668960" y="996480"/>
                <a:ext cx="1277280" cy="778680"/>
                <a:chOff x="1668960" y="996480"/>
                <a:chExt cx="1277280" cy="7786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831680" y="996480"/>
                  <a:ext cx="95184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( )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68960" y="996480"/>
                  <a:ext cx="127728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47320" y="996480"/>
                <a:ext cx="1141200" cy="778680"/>
                <a:chOff x="2947320" y="996480"/>
                <a:chExt cx="1141200" cy="7786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110040" y="996480"/>
                  <a:ext cx="81576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47320" y="996480"/>
                  <a:ext cx="114120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089240" y="996480"/>
                <a:ext cx="1276560" cy="778680"/>
                <a:chOff x="4089240" y="996480"/>
                <a:chExt cx="1276560" cy="778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50880" y="996480"/>
                  <a:ext cx="95256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-&gt;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089240" y="996480"/>
                  <a:ext cx="127656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366880" y="996480"/>
                <a:ext cx="1141200" cy="778680"/>
                <a:chOff x="5366880" y="996480"/>
                <a:chExt cx="1141200" cy="778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529600" y="996480"/>
                  <a:ext cx="81576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++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66880" y="996480"/>
                  <a:ext cx="114120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508800" y="996480"/>
                <a:ext cx="1072440" cy="778680"/>
                <a:chOff x="6508800" y="996480"/>
                <a:chExt cx="1072440" cy="778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671520" y="996480"/>
                  <a:ext cx="74772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--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508800" y="996480"/>
                  <a:ext cx="107244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581960" y="996480"/>
                <a:ext cx="1243080" cy="778680"/>
                <a:chOff x="7581960" y="996480"/>
                <a:chExt cx="1243080" cy="77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744680" y="996480"/>
                  <a:ext cx="91764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amp;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81960" y="996480"/>
                  <a:ext cx="124308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1680" y="1775520"/>
                <a:ext cx="1276560" cy="779040"/>
                <a:chOff x="391680" y="1775520"/>
                <a:chExt cx="1276560" cy="7790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54400" y="1775520"/>
                  <a:ext cx="95184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1680" y="1775520"/>
                  <a:ext cx="12765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668960" y="1775520"/>
                <a:ext cx="1277280" cy="779040"/>
                <a:chOff x="1668960" y="1775520"/>
                <a:chExt cx="1277280" cy="7790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831680" y="1775520"/>
                  <a:ext cx="95184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68960" y="1775520"/>
                  <a:ext cx="12772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947320" y="1775520"/>
                <a:ext cx="1141200" cy="779040"/>
                <a:chOff x="2947320" y="1775520"/>
                <a:chExt cx="1141200" cy="7790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110040" y="1775520"/>
                  <a:ext cx="8157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947320" y="1775520"/>
                  <a:ext cx="114120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089240" y="1775520"/>
                <a:ext cx="1276560" cy="779040"/>
                <a:chOff x="4089240" y="1775520"/>
                <a:chExt cx="1276560" cy="7790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250880" y="1775520"/>
                  <a:ext cx="9525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~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089240" y="1775520"/>
                  <a:ext cx="12765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366880" y="1775520"/>
                <a:ext cx="1141200" cy="779040"/>
                <a:chOff x="5366880" y="1775520"/>
                <a:chExt cx="1141200" cy="7790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529600" y="1775520"/>
                  <a:ext cx="8157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!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66880" y="1775520"/>
                  <a:ext cx="114120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508800" y="1775520"/>
                <a:ext cx="1072440" cy="779040"/>
                <a:chOff x="6508800" y="1775520"/>
                <a:chExt cx="1072440" cy="7790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671520" y="1775520"/>
                  <a:ext cx="74772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\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508800" y="1775520"/>
                  <a:ext cx="107244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581960" y="1775520"/>
                <a:ext cx="1243080" cy="779040"/>
                <a:chOff x="7581960" y="1775520"/>
                <a:chExt cx="1243080" cy="7790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744680" y="1775520"/>
                  <a:ext cx="91764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/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581960" y="1775520"/>
                  <a:ext cx="12430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91680" y="2555280"/>
                <a:ext cx="1276560" cy="988560"/>
                <a:chOff x="391680" y="2555280"/>
                <a:chExt cx="1276560" cy="9885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4400" y="2555280"/>
                  <a:ext cx="951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%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680" y="2555280"/>
                  <a:ext cx="127656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668960" y="2555280"/>
                <a:ext cx="1277280" cy="988560"/>
                <a:chOff x="1668960" y="2555280"/>
                <a:chExt cx="1277280" cy="988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831680" y="2555280"/>
                  <a:ext cx="951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lt;&lt;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668960" y="2555280"/>
                  <a:ext cx="127728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947320" y="2555280"/>
                <a:ext cx="1141200" cy="988560"/>
                <a:chOff x="2947320" y="2555280"/>
                <a:chExt cx="1141200" cy="9885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110040" y="2555280"/>
                  <a:ext cx="8157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gt;&gt;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47320" y="2555280"/>
                  <a:ext cx="114120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89240" y="2555280"/>
                <a:ext cx="1276560" cy="988560"/>
                <a:chOff x="4089240" y="2555280"/>
                <a:chExt cx="1276560" cy="9885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250880" y="2555280"/>
                  <a:ext cx="952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lt;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9240" y="2555280"/>
                  <a:ext cx="127656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66880" y="2555280"/>
                <a:ext cx="1141200" cy="988560"/>
                <a:chOff x="5366880" y="2555280"/>
                <a:chExt cx="1141200" cy="9885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529600" y="2555280"/>
                  <a:ext cx="8157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gt;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66880" y="2555280"/>
                  <a:ext cx="114120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508800" y="2555280"/>
                <a:ext cx="1072440" cy="988560"/>
                <a:chOff x="6508800" y="2555280"/>
                <a:chExt cx="1072440" cy="9885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671520" y="2555280"/>
                  <a:ext cx="74772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lt;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508800" y="2555280"/>
                  <a:ext cx="107244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581960" y="2555280"/>
                <a:ext cx="1243080" cy="988560"/>
                <a:chOff x="7581960" y="2555280"/>
                <a:chExt cx="1243080" cy="988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744680" y="2555280"/>
                  <a:ext cx="9176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gt;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581960" y="2555280"/>
                  <a:ext cx="124308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1680" y="3544560"/>
                <a:ext cx="1276560" cy="778680"/>
                <a:chOff x="391680" y="3544560"/>
                <a:chExt cx="1276560" cy="7786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54400" y="3544560"/>
                  <a:ext cx="95184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=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680" y="3544560"/>
                  <a:ext cx="127656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68960" y="3544560"/>
                <a:ext cx="1277280" cy="778680"/>
                <a:chOff x="1668960" y="3544560"/>
                <a:chExt cx="1277280" cy="7786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831680" y="3544560"/>
                  <a:ext cx="95184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!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68960" y="3544560"/>
                  <a:ext cx="127728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947320" y="3544560"/>
                <a:ext cx="1141200" cy="778680"/>
                <a:chOff x="2947320" y="3544560"/>
                <a:chExt cx="1141200" cy="7786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110040" y="3544560"/>
                  <a:ext cx="81576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^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947320" y="3544560"/>
                  <a:ext cx="114120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089240" y="3544560"/>
                <a:ext cx="1276560" cy="778680"/>
                <a:chOff x="4089240" y="3544560"/>
                <a:chExt cx="1276560" cy="778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250880" y="3544560"/>
                  <a:ext cx="95256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amp;&amp;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089240" y="3544560"/>
                  <a:ext cx="127656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66880" y="3544560"/>
                <a:ext cx="1141200" cy="778680"/>
                <a:chOff x="5366880" y="3544560"/>
                <a:chExt cx="1141200" cy="7786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529600" y="3544560"/>
                  <a:ext cx="81576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|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66880" y="3544560"/>
                  <a:ext cx="114120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08800" y="3544560"/>
                <a:ext cx="1072440" cy="778680"/>
                <a:chOff x="6508800" y="3544560"/>
                <a:chExt cx="1072440" cy="778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671520" y="3544560"/>
                  <a:ext cx="74772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||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508800" y="3544560"/>
                  <a:ext cx="107244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581960" y="3544560"/>
                <a:ext cx="1243080" cy="778680"/>
                <a:chOff x="7581960" y="3544560"/>
                <a:chExt cx="1243080" cy="7786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744680" y="3544560"/>
                  <a:ext cx="917640" cy="77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?: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581960" y="3544560"/>
                  <a:ext cx="1243080" cy="77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91680" y="4323960"/>
                <a:ext cx="1276560" cy="988560"/>
                <a:chOff x="391680" y="4323960"/>
                <a:chExt cx="1276560" cy="988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4400" y="4323960"/>
                  <a:ext cx="951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1680" y="4323960"/>
                  <a:ext cx="127656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668960" y="4323960"/>
                <a:ext cx="1277280" cy="988560"/>
                <a:chOff x="1668960" y="4323960"/>
                <a:chExt cx="1277280" cy="9885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1831680" y="4323960"/>
                  <a:ext cx="951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*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668960" y="4323960"/>
                  <a:ext cx="127728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947320" y="4323960"/>
                <a:ext cx="1141200" cy="988560"/>
                <a:chOff x="2947320" y="4323960"/>
                <a:chExt cx="1141200" cy="988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110040" y="4323960"/>
                  <a:ext cx="8157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/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947320" y="4323960"/>
                  <a:ext cx="114120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089240" y="4323960"/>
                <a:ext cx="1276560" cy="988560"/>
                <a:chOff x="4089240" y="4323960"/>
                <a:chExt cx="1276560" cy="9885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250880" y="4323960"/>
                  <a:ext cx="952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%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089240" y="4323960"/>
                  <a:ext cx="127656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366880" y="4323960"/>
                <a:ext cx="1141200" cy="988560"/>
                <a:chOff x="5366880" y="4323960"/>
                <a:chExt cx="1141200" cy="988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529600" y="4323960"/>
                  <a:ext cx="8157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+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66880" y="4323960"/>
                  <a:ext cx="114120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508800" y="4323960"/>
                <a:ext cx="1072440" cy="988560"/>
                <a:chOff x="6508800" y="4323960"/>
                <a:chExt cx="1072440" cy="9885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671520" y="4323960"/>
                  <a:ext cx="74772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-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508800" y="4323960"/>
                  <a:ext cx="107244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7581960" y="4323960"/>
                <a:ext cx="1243080" cy="988560"/>
                <a:chOff x="7581960" y="4323960"/>
                <a:chExt cx="1243080" cy="988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744680" y="4323960"/>
                  <a:ext cx="9176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lt;&lt;=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81960" y="4323960"/>
                  <a:ext cx="124308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91680" y="5312880"/>
                <a:ext cx="1276560" cy="988560"/>
                <a:chOff x="391680" y="5312880"/>
                <a:chExt cx="1276560" cy="988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54400" y="5312880"/>
                  <a:ext cx="951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gt;&gt;=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91680" y="5312880"/>
                  <a:ext cx="127656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668960" y="5312880"/>
                <a:ext cx="1277280" cy="988560"/>
                <a:chOff x="1668960" y="5312880"/>
                <a:chExt cx="1277280" cy="988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831680" y="5312880"/>
                  <a:ext cx="951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&amp;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668960" y="5312880"/>
                  <a:ext cx="127728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947320" y="5312880"/>
                <a:ext cx="1141200" cy="988560"/>
                <a:chOff x="2947320" y="5312880"/>
                <a:chExt cx="1141200" cy="9885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110040" y="5312880"/>
                  <a:ext cx="8157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^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47320" y="5312880"/>
                  <a:ext cx="114120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089240" y="5312880"/>
                <a:ext cx="1276560" cy="988560"/>
                <a:chOff x="4089240" y="5312880"/>
                <a:chExt cx="1276560" cy="9885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250880" y="5312880"/>
                  <a:ext cx="952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|=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089240" y="5312880"/>
                  <a:ext cx="127656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5366880" y="5312880"/>
                <a:ext cx="1141200" cy="988560"/>
                <a:chOff x="5366880" y="5312880"/>
                <a:chExt cx="1141200" cy="9885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529600" y="5312880"/>
                  <a:ext cx="8157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44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,</a:t>
                  </a:r>
                  <a:endParaRPr b="0" lang="en-US" sz="4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66880" y="5312880"/>
                  <a:ext cx="114120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6508800" y="5312880"/>
                <a:ext cx="1072440" cy="988560"/>
                <a:chOff x="6508800" y="5312880"/>
                <a:chExt cx="1072440" cy="9885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671520" y="5312880"/>
                  <a:ext cx="74772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#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508800" y="5312880"/>
                  <a:ext cx="107244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7581960" y="5312880"/>
                <a:ext cx="1243080" cy="988560"/>
                <a:chOff x="7581960" y="5312880"/>
                <a:chExt cx="1243080" cy="9885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744680" y="5312880"/>
                  <a:ext cx="9176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##</a:t>
                  </a: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581960" y="5312880"/>
                  <a:ext cx="124308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380880" y="990720"/>
              <a:ext cx="8457480" cy="5317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82760" y="152280"/>
            <a:ext cx="623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scape sequence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280" y="1219320"/>
            <a:ext cx="144792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755e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b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1295280"/>
            <a:ext cx="1981440" cy="106704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3048120"/>
            <a:ext cx="1981440" cy="10666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4800600"/>
            <a:ext cx="1981440" cy="10666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8600" y="2819520"/>
            <a:ext cx="1434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n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880" y="4724280"/>
            <a:ext cx="1143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t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4886280" y="1447920"/>
            <a:ext cx="4029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ff"/>
                </a:solidFill>
                <a:latin typeface="Monotype Corsiva"/>
              </a:rPr>
              <a:t>Back spac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43480" y="3124080"/>
            <a:ext cx="357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Monotype Corsiva"/>
              </a:rPr>
              <a:t>New lin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24440" y="480060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Monotype Corsiva"/>
              </a:rPr>
              <a:t>Tab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59080" y="152280"/>
            <a:ext cx="623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scape sequence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2280" y="1295280"/>
            <a:ext cx="144792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755e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r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1447920"/>
            <a:ext cx="1981440" cy="10666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3200400"/>
            <a:ext cx="1981440" cy="10666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4876920"/>
            <a:ext cx="1981440" cy="10666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28600" y="3124080"/>
            <a:ext cx="1434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f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0880" y="4800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'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4" name=""/>
          <p:cNvSpPr/>
          <p:nvPr/>
        </p:nvSpPr>
        <p:spPr>
          <a:xfrm>
            <a:off x="4886280" y="1523880"/>
            <a:ext cx="40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ff"/>
                </a:solidFill>
                <a:latin typeface="Monotype Corsiva"/>
              </a:rPr>
              <a:t>Carriage retur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43480" y="3200400"/>
            <a:ext cx="357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Monotype Corsiva"/>
              </a:rPr>
              <a:t>Form fee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48769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Monotype Corsiva"/>
              </a:rPr>
              <a:t>Single quo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459080" y="152280"/>
            <a:ext cx="623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scape sequence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52280" y="1066680"/>
            <a:ext cx="1143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755e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\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755e75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1066680"/>
            <a:ext cx="1447560" cy="7621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2280" y="2209680"/>
            <a:ext cx="1143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a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52280" y="373392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ooo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4886280" y="99072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ff"/>
                </a:solidFill>
                <a:latin typeface="Monotype Corsiva"/>
              </a:rPr>
              <a:t>Back slas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205740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Monotype Corsiva"/>
              </a:rPr>
              <a:t>Bell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327672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Octal numb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given by </a:t>
            </a:r>
            <a:r>
              <a:rPr b="1" i="1" lang="en-US" sz="4000" spc="-1" strike="noStrike">
                <a:solidFill>
                  <a:srgbClr val="ffffcc"/>
                </a:solidFill>
                <a:latin typeface="Monotype Corsiva"/>
              </a:rPr>
              <a:t>oo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52280" y="48769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\xhh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4648320"/>
            <a:ext cx="426744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ccffcc"/>
                </a:solidFill>
                <a:latin typeface="Monotype Corsiva"/>
              </a:rPr>
              <a:t>Hexadecimal number</a:t>
            </a: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en-US" sz="4000" spc="-1" strike="noStrike">
                <a:solidFill>
                  <a:srgbClr val="ccffcc"/>
                </a:solidFill>
                <a:latin typeface="Monotype Corsiva"/>
              </a:rPr>
              <a:t>given by</a:t>
            </a:r>
            <a:r>
              <a:rPr b="1" i="1" lang="en-US" sz="5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en-US" sz="5400" spc="-1" strike="noStrike">
                <a:solidFill>
                  <a:srgbClr val="ffffcc"/>
                </a:solidFill>
                <a:latin typeface="Monotype Corsiva"/>
              </a:rPr>
              <a:t>h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62320" y="2286000"/>
            <a:ext cx="1447560" cy="7621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3657600"/>
            <a:ext cx="1447560" cy="7621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2320" y="4800600"/>
            <a:ext cx="1447560" cy="76212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ce157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59080" y="152280"/>
            <a:ext cx="623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scape sequences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1430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iostream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lrscr();//This function is used to clear the 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Using the newline escape sequence.\n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&lt;&lt;"To use backspace escape sequence,press enter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ch() ;//This function is used to pause for user e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\b\b\b\b\b\b\b\b\b\b\bUsed backspace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ut &lt;&lt; "\nUsing the tab sequence\t\t\t\t tab here"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ch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937040"/>
            <a:ext cx="7543800" cy="1313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44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urier New"/>
                <a:ea typeface="Courier New"/>
              </a:rPr>
              <a:t>To use backspace escape sequence, press 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urier New"/>
                <a:ea typeface="Courier New"/>
              </a:rPr>
              <a:t>To use backspace escape sequence, Used back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Courier New"/>
                <a:ea typeface="Courier New"/>
              </a:rPr>
              <a:t>Using the tab sequence  </a:t>
            </a:r>
            <a:r>
              <a:rPr b="0" lang="en-GB" sz="2000" spc="-1" strike="noStrike">
                <a:solidFill>
                  <a:srgbClr val="ffcc00"/>
                </a:solidFill>
                <a:latin typeface="Courier New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Courier New"/>
                <a:ea typeface="Courier New"/>
              </a:rPr>
              <a:t>tab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3:30:23Z</dcterms:created>
  <dc:creator>Victor</dc:creator>
  <dc:description/>
  <dc:language>en-US</dc:language>
  <cp:lastModifiedBy>Sindhu</cp:lastModifiedBy>
  <dcterms:modified xsi:type="dcterms:W3CDTF">2001-09-18T11:11:55Z</dcterms:modified>
  <cp:revision>117</cp:revision>
  <dc:subject/>
  <dc:title>PowerPoint Presentation</dc:title>
</cp:coreProperties>
</file>