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10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7E20-84F7-42A3-AD41-06BCED17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48BF-65B1-40D0-BF9A-14E871AE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B74-1DAF-47E7-A70D-D964931D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31DA-27BF-42D0-8558-8C1B8E7E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E2C-72D8-4462-801D-5F0F987E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ECB-FDEA-46FD-ACDC-35645F70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031-1A95-4285-95D2-ACC70049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DD4-C285-4044-822A-FA47672F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D9D-6625-4A94-96AA-406EE137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7E86-C581-4AB4-8F9A-C45C5F48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19C-2C26-4CB9-9596-5E4016E5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95E-3DC2-4F15-ABE5-D3929EB7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0" y="6477120"/>
            <a:ext cx="91440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Linux, C, C++ / Object Oriented Programming with C++ / Session 13 / </a:t>
            </a:r>
            <a:fld id="{01E45919-83B5-43A2-9578-69079393831C}" type="slidenum"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&lt;number&gt;</a:t>
            </a:fld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 of 48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8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5B44-9EE3-486C-AFE6-BD3C52ACF3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184200" y="152280"/>
            <a:ext cx="32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1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23880" y="1143000"/>
            <a:ext cx="69343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Data struct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using C++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730520" y="90360"/>
            <a:ext cx="589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 class for stack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09480" y="1295280"/>
          <a:ext cx="807732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077320" cy="4496040"/>
                  </a:xfrm>
                  <a:prstGeom prst="rect">
                    <a:avLst/>
                  </a:prstGeom>
                  <a:ln w="76320">
                    <a:solidFill>
                      <a:srgbClr val="3399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066680" y="914400"/>
          <a:ext cx="678204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4400"/>
                    <a:ext cx="67820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066680" y="3297240"/>
          <a:ext cx="6699240" cy="27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297240"/>
                    <a:ext cx="6699240" cy="27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578240" y="90360"/>
            <a:ext cx="589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 class for stack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005560" y="76320"/>
            <a:ext cx="49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 Unicode MS"/>
              </a:rPr>
              <a:t>A program for stac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749600" y="1011240"/>
          <a:ext cx="5717880" cy="52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1011240"/>
                    <a:ext cx="571788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606320" y="76320"/>
            <a:ext cx="634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pplications of stack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8720" y="1982880"/>
            <a:ext cx="80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guments are passed between functions using s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1040" y="2973240"/>
            <a:ext cx="77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ddress of the calling function is stored onto s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5000" y="40100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Applications where back tracking i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3120" y="4943520"/>
            <a:ext cx="62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Evaluation of mathematical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350880" y="76320"/>
            <a:ext cx="322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Linked Li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8960" y="3276720"/>
            <a:ext cx="7486920" cy="459720"/>
          </a:xfrm>
          <a:prstGeom prst="rect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A linked list always starts with a pointer to the first e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06880" y="1066680"/>
            <a:ext cx="6404760" cy="1800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cc99ff"/>
              </a:gs>
              <a:gs pos="100000">
                <a:srgbClr val="ffccff"/>
              </a:gs>
            </a:gsLst>
            <a:lin ang="5400000"/>
          </a:gra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A linked list is a collection of element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also called nodes, each containing the da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item to be stored and a pointer ( or link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to the next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80880" y="4038480"/>
          <a:ext cx="853452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38480"/>
                    <a:ext cx="8534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35440" y="90360"/>
            <a:ext cx="749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perations on Linked Li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1371600"/>
            <a:ext cx="478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Linked lists have to b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09720" y="2394000"/>
            <a:ext cx="70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Created and nodes to be added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1160" y="348948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Operated upon ( traversing the list 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87120" y="4495680"/>
            <a:ext cx="71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ffcc"/>
                </a:solidFill>
                <a:latin typeface="Times New Roman"/>
              </a:rPr>
              <a:t>Disposed ( nodes to be deleted 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2200" y="90360"/>
            <a:ext cx="852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Defining a class for linked li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168560"/>
            <a:ext cx="7848720" cy="484920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struct Node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//  REPRESENTS A NOD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har *string;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//  INFORMATION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Node * next;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//  POINTER TO NEXT NOD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class List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      //  MODELS A LINKED LI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privat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Node *head;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// POINTER TO THE FIRST 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public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List ();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//  CONSTRUCT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int ListInsert(char *st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int ListDelete(char *st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4"/>
                </a:solidFill>
                <a:latin typeface="Courier New"/>
                <a:ea typeface="Courier New"/>
              </a:rPr>
              <a:t>void ListPrint</a:t>
            </a:r>
            <a:r>
              <a:rPr b="0" lang="en-US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(voi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44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22320" y="152280"/>
            <a:ext cx="688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reating a linked list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47920" y="1503360"/>
          <a:ext cx="6200640" cy="42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03360"/>
                    <a:ext cx="620064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22320" y="152280"/>
            <a:ext cx="688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reating a linked list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219320" y="1295280"/>
          <a:ext cx="7010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7010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346480" y="76320"/>
            <a:ext cx="372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 Unicode MS"/>
              </a:rPr>
              <a:t>Adding a No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317600" y="993600"/>
          <a:ext cx="622152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0" y="993600"/>
                    <a:ext cx="62215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846080" y="152280"/>
            <a:ext cx="552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objective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447920"/>
            <a:ext cx="7391160" cy="838080"/>
          </a:xfrm>
          <a:prstGeom prst="rect">
            <a:avLst/>
          </a:prstGeom>
          <a:gradFill rotWithShape="0">
            <a:gsLst>
              <a:gs pos="0">
                <a:srgbClr val="f98d43"/>
              </a:gs>
              <a:gs pos="50000">
                <a:srgbClr val="ffcc00"/>
              </a:gs>
              <a:gs pos="100000">
                <a:srgbClr val="f98d43"/>
              </a:gs>
            </a:gsLst>
            <a:lin ang="54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Differentiate between pointers and 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2514600"/>
            <a:ext cx="7391160" cy="838080"/>
          </a:xfrm>
          <a:prstGeom prst="rect">
            <a:avLst/>
          </a:prstGeom>
          <a:gradFill rotWithShape="0">
            <a:gsLst>
              <a:gs pos="0">
                <a:srgbClr val="f98d43"/>
              </a:gs>
              <a:gs pos="50000">
                <a:srgbClr val="ffcc00"/>
              </a:gs>
              <a:gs pos="100000">
                <a:srgbClr val="f98d43"/>
              </a:gs>
            </a:gsLst>
            <a:lin ang="54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Discuss linked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3581280"/>
            <a:ext cx="7391160" cy="838440"/>
          </a:xfrm>
          <a:prstGeom prst="rect">
            <a:avLst/>
          </a:prstGeom>
          <a:gradFill rotWithShape="0">
            <a:gsLst>
              <a:gs pos="0">
                <a:srgbClr val="f98d43"/>
              </a:gs>
              <a:gs pos="50000">
                <a:srgbClr val="ffcc00"/>
              </a:gs>
              <a:gs pos="100000">
                <a:srgbClr val="f98d43"/>
              </a:gs>
            </a:gsLst>
            <a:lin ang="54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Operate with sta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4800600"/>
            <a:ext cx="7391160" cy="838080"/>
          </a:xfrm>
          <a:prstGeom prst="rect">
            <a:avLst/>
          </a:prstGeom>
          <a:gradFill rotWithShape="0">
            <a:gsLst>
              <a:gs pos="0">
                <a:srgbClr val="f98d43"/>
              </a:gs>
              <a:gs pos="50000">
                <a:srgbClr val="ffcc00"/>
              </a:gs>
              <a:gs pos="100000">
                <a:srgbClr val="f98d43"/>
              </a:gs>
            </a:gsLst>
            <a:lin ang="54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Define que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307880" y="90360"/>
            <a:ext cx="629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Linked List sorting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1195560"/>
          <a:ext cx="8229600" cy="49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95560"/>
                    <a:ext cx="8229600" cy="49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07880" y="90360"/>
            <a:ext cx="629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Linked List sorting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80880" y="990720"/>
          <a:ext cx="8458200" cy="51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458200" cy="51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94080" y="90360"/>
            <a:ext cx="616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Printing a Linked Li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219320" y="1434960"/>
          <a:ext cx="6858000" cy="41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34960"/>
                    <a:ext cx="6858000" cy="41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-87120" y="90360"/>
            <a:ext cx="94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Printing a Linked List recursivel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371600" y="1546200"/>
          <a:ext cx="6629400" cy="45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46200"/>
                    <a:ext cx="662940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726200" y="90360"/>
            <a:ext cx="56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Deleting a Node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1325520"/>
          <a:ext cx="717228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25520"/>
                    <a:ext cx="71722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726200" y="90360"/>
            <a:ext cx="56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Deleting a Node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198440" y="990720"/>
          <a:ext cx="69548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8440" y="990720"/>
                    <a:ext cx="69548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87360" y="90360"/>
            <a:ext cx="665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Freeing the Linked Li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23880" y="1209600"/>
          <a:ext cx="6248520" cy="458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09600"/>
                    <a:ext cx="624852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25360" y="90360"/>
            <a:ext cx="671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Reversing a Linked Li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600200" y="1069920"/>
          <a:ext cx="601992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069920"/>
                    <a:ext cx="6019920" cy="4873680"/>
                  </a:xfrm>
                  <a:prstGeom prst="rect">
                    <a:avLst/>
                  </a:prstGeom>
                  <a:ln w="7632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991440" y="90360"/>
            <a:ext cx="734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 Linked List program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52280" y="1081080"/>
          <a:ext cx="8915400" cy="50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81080"/>
                    <a:ext cx="8915400" cy="5014800"/>
                  </a:xfrm>
                  <a:prstGeom prst="rect">
                    <a:avLst/>
                  </a:prstGeom>
                  <a:ln w="76320">
                    <a:solidFill>
                      <a:srgbClr val="f98d4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91440" y="90360"/>
            <a:ext cx="734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 Linked List program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38440" y="1981080"/>
          <a:ext cx="5500440" cy="30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981080"/>
                    <a:ext cx="5500440" cy="30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97720" y="152280"/>
            <a:ext cx="86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Introduction to reference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2760" y="1219320"/>
            <a:ext cx="8349480" cy="1068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An alternative name used for a previously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variable is known as re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29797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int  sum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6115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int  &amp;add = sum ;  //makes add as an alias for sum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3680" y="4572000"/>
            <a:ext cx="7238520" cy="1068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Changes made in the variable are reflect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in the reference and vice -versa</a:t>
            </a: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991440" y="90360"/>
            <a:ext cx="734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 Linked List program (3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447920" y="1219320"/>
          <a:ext cx="647676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19320"/>
                    <a:ext cx="64767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91440" y="90360"/>
            <a:ext cx="734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 Linked List program (4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219320" y="1295280"/>
          <a:ext cx="6553080" cy="43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655308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91440" y="90360"/>
            <a:ext cx="734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 Linked List program (5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033560" y="1219320"/>
          <a:ext cx="719604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3560" y="1219320"/>
                    <a:ext cx="719604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91440" y="90360"/>
            <a:ext cx="734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 Linked List program (6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14400" y="990720"/>
          <a:ext cx="7543800" cy="49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7543800" cy="49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868400" y="76320"/>
            <a:ext cx="541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Doubly Linked Li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80880" y="4854600"/>
            <a:ext cx="1071720" cy="860400"/>
            <a:chOff x="380880" y="4854600"/>
            <a:chExt cx="1071720" cy="860400"/>
          </a:xfrm>
        </p:grpSpPr>
        <p:sp>
          <p:nvSpPr>
            <p:cNvPr id="260" name=""/>
            <p:cNvSpPr/>
            <p:nvPr/>
          </p:nvSpPr>
          <p:spPr>
            <a:xfrm>
              <a:off x="382680" y="5437080"/>
              <a:ext cx="1069920" cy="277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4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2680" y="4854600"/>
              <a:ext cx="1069920" cy="277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4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0880" y="5159520"/>
              <a:ext cx="1068480" cy="27756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4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5651640" y="13716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Nu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65600" y="3441600"/>
            <a:ext cx="3458880" cy="9471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P1 and P2 are diffe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pointers for each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914400" y="3733920"/>
            <a:ext cx="1681200" cy="1544400"/>
            <a:chOff x="914400" y="3733920"/>
            <a:chExt cx="1681200" cy="1544400"/>
          </a:xfrm>
        </p:grpSpPr>
        <p:grpSp>
          <p:nvGrpSpPr>
            <p:cNvPr id="266" name=""/>
            <p:cNvGrpSpPr/>
            <p:nvPr/>
          </p:nvGrpSpPr>
          <p:grpSpPr>
            <a:xfrm>
              <a:off x="1523880" y="3733920"/>
              <a:ext cx="1071720" cy="860400"/>
              <a:chOff x="1523880" y="3733920"/>
              <a:chExt cx="1071720" cy="860400"/>
            </a:xfrm>
          </p:grpSpPr>
          <p:sp>
            <p:nvSpPr>
              <p:cNvPr id="267" name=""/>
              <p:cNvSpPr/>
              <p:nvPr/>
            </p:nvSpPr>
            <p:spPr>
              <a:xfrm>
                <a:off x="1525680" y="4316400"/>
                <a:ext cx="1069920" cy="277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4"/>
                    </a:solidFill>
                    <a:latin typeface="Times New Roman"/>
                  </a:rPr>
                  <a:t>P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525680" y="3733920"/>
                <a:ext cx="1069920" cy="277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4"/>
                    </a:solidFill>
                    <a:latin typeface="Times New Roman"/>
                  </a:rPr>
                  <a:t>P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523880" y="4038840"/>
                <a:ext cx="1068480" cy="277560"/>
              </a:xfrm>
              <a:prstGeom prst="rect">
                <a:avLst/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4"/>
                    </a:solidFill>
                    <a:latin typeface="Times New Roman"/>
                  </a:rPr>
                  <a:t>Dat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914400" y="4114800"/>
              <a:ext cx="635040" cy="762120"/>
              <a:chOff x="914400" y="4114800"/>
              <a:chExt cx="635040" cy="762120"/>
            </a:xfrm>
          </p:grpSpPr>
          <p:sp>
            <p:nvSpPr>
              <p:cNvPr id="271" name=""/>
              <p:cNvSpPr/>
              <p:nvPr/>
            </p:nvSpPr>
            <p:spPr>
              <a:xfrm>
                <a:off x="914400" y="4114800"/>
                <a:ext cx="0" cy="762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14400" y="4114800"/>
                <a:ext cx="6350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1461960" y="4592160"/>
              <a:ext cx="571680" cy="686160"/>
              <a:chOff x="1461960" y="4592160"/>
              <a:chExt cx="571680" cy="686160"/>
            </a:xfrm>
          </p:grpSpPr>
          <p:sp>
            <p:nvSpPr>
              <p:cNvPr id="274" name=""/>
              <p:cNvSpPr/>
              <p:nvPr/>
            </p:nvSpPr>
            <p:spPr>
              <a:xfrm flipV="1">
                <a:off x="1996560" y="4592160"/>
                <a:ext cx="0" cy="685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1461960" y="5278320"/>
                <a:ext cx="5716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2057400" y="2590920"/>
            <a:ext cx="1681200" cy="1544400"/>
            <a:chOff x="2057400" y="2590920"/>
            <a:chExt cx="1681200" cy="1544400"/>
          </a:xfrm>
        </p:grpSpPr>
        <p:grpSp>
          <p:nvGrpSpPr>
            <p:cNvPr id="277" name=""/>
            <p:cNvGrpSpPr/>
            <p:nvPr/>
          </p:nvGrpSpPr>
          <p:grpSpPr>
            <a:xfrm>
              <a:off x="2666880" y="2590920"/>
              <a:ext cx="1071720" cy="860400"/>
              <a:chOff x="2666880" y="2590920"/>
              <a:chExt cx="1071720" cy="860400"/>
            </a:xfrm>
          </p:grpSpPr>
          <p:sp>
            <p:nvSpPr>
              <p:cNvPr id="278" name=""/>
              <p:cNvSpPr/>
              <p:nvPr/>
            </p:nvSpPr>
            <p:spPr>
              <a:xfrm>
                <a:off x="2668680" y="3173400"/>
                <a:ext cx="1069920" cy="277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4"/>
                    </a:solidFill>
                    <a:latin typeface="Times New Roman"/>
                  </a:rPr>
                  <a:t>P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68680" y="2590920"/>
                <a:ext cx="1069920" cy="277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4"/>
                    </a:solidFill>
                    <a:latin typeface="Times New Roman"/>
                  </a:rPr>
                  <a:t>P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66880" y="2895840"/>
                <a:ext cx="1068480" cy="277560"/>
              </a:xfrm>
              <a:prstGeom prst="rect">
                <a:avLst/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4"/>
                    </a:solidFill>
                    <a:latin typeface="Times New Roman"/>
                  </a:rPr>
                  <a:t>Dat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2057400" y="2971800"/>
              <a:ext cx="635040" cy="762120"/>
              <a:chOff x="2057400" y="2971800"/>
              <a:chExt cx="635040" cy="762120"/>
            </a:xfrm>
          </p:grpSpPr>
          <p:sp>
            <p:nvSpPr>
              <p:cNvPr id="282" name=""/>
              <p:cNvSpPr/>
              <p:nvPr/>
            </p:nvSpPr>
            <p:spPr>
              <a:xfrm>
                <a:off x="2057400" y="2971800"/>
                <a:ext cx="0" cy="762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057400" y="2971800"/>
                <a:ext cx="6350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2604960" y="3449160"/>
              <a:ext cx="571680" cy="686160"/>
              <a:chOff x="2604960" y="3449160"/>
              <a:chExt cx="571680" cy="686160"/>
            </a:xfrm>
          </p:grpSpPr>
          <p:sp>
            <p:nvSpPr>
              <p:cNvPr id="285" name=""/>
              <p:cNvSpPr/>
              <p:nvPr/>
            </p:nvSpPr>
            <p:spPr>
              <a:xfrm flipV="1">
                <a:off x="3139560" y="3449160"/>
                <a:ext cx="0" cy="685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2604960" y="4135320"/>
                <a:ext cx="5716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3200400" y="1447920"/>
            <a:ext cx="1681200" cy="1544400"/>
            <a:chOff x="3200400" y="1447920"/>
            <a:chExt cx="1681200" cy="1544400"/>
          </a:xfrm>
        </p:grpSpPr>
        <p:grpSp>
          <p:nvGrpSpPr>
            <p:cNvPr id="288" name=""/>
            <p:cNvGrpSpPr/>
            <p:nvPr/>
          </p:nvGrpSpPr>
          <p:grpSpPr>
            <a:xfrm>
              <a:off x="3809880" y="1447920"/>
              <a:ext cx="1071720" cy="860400"/>
              <a:chOff x="3809880" y="1447920"/>
              <a:chExt cx="1071720" cy="860400"/>
            </a:xfrm>
          </p:grpSpPr>
          <p:sp>
            <p:nvSpPr>
              <p:cNvPr id="289" name=""/>
              <p:cNvSpPr/>
              <p:nvPr/>
            </p:nvSpPr>
            <p:spPr>
              <a:xfrm>
                <a:off x="3811680" y="2030400"/>
                <a:ext cx="1069920" cy="277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4"/>
                    </a:solidFill>
                    <a:latin typeface="Times New Roman"/>
                  </a:rPr>
                  <a:t>P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11680" y="1447920"/>
                <a:ext cx="1069920" cy="277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4"/>
                    </a:solidFill>
                    <a:latin typeface="Times New Roman"/>
                  </a:rPr>
                  <a:t>P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809880" y="1752840"/>
                <a:ext cx="1068480" cy="277560"/>
              </a:xfrm>
              <a:prstGeom prst="rect">
                <a:avLst/>
              </a:prstGeom>
              <a:solidFill>
                <a:srgbClr val="9ce15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4"/>
                    </a:solidFill>
                    <a:latin typeface="Times New Roman"/>
                  </a:rPr>
                  <a:t>Dat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200400" y="1828800"/>
              <a:ext cx="635040" cy="762120"/>
              <a:chOff x="3200400" y="1828800"/>
              <a:chExt cx="635040" cy="762120"/>
            </a:xfrm>
          </p:grpSpPr>
          <p:sp>
            <p:nvSpPr>
              <p:cNvPr id="293" name=""/>
              <p:cNvSpPr/>
              <p:nvPr/>
            </p:nvSpPr>
            <p:spPr>
              <a:xfrm>
                <a:off x="3200400" y="1828800"/>
                <a:ext cx="0" cy="762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00400" y="1828800"/>
                <a:ext cx="6350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747960" y="2306160"/>
              <a:ext cx="571680" cy="686160"/>
              <a:chOff x="3747960" y="2306160"/>
              <a:chExt cx="571680" cy="686160"/>
            </a:xfrm>
          </p:grpSpPr>
          <p:sp>
            <p:nvSpPr>
              <p:cNvPr id="296" name=""/>
              <p:cNvSpPr/>
              <p:nvPr/>
            </p:nvSpPr>
            <p:spPr>
              <a:xfrm flipV="1">
                <a:off x="4282560" y="2306160"/>
                <a:ext cx="0" cy="685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747960" y="2992320"/>
                <a:ext cx="5716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4876920" y="1600200"/>
            <a:ext cx="838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5562720"/>
            <a:ext cx="838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35320" y="53150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Nu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944360" y="90360"/>
            <a:ext cx="559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ircular Linked Li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219320" y="1398600"/>
            <a:ext cx="6705000" cy="4392360"/>
            <a:chOff x="1219320" y="1398600"/>
            <a:chExt cx="6705000" cy="4392360"/>
          </a:xfrm>
        </p:grpSpPr>
        <p:grpSp>
          <p:nvGrpSpPr>
            <p:cNvPr id="303" name=""/>
            <p:cNvGrpSpPr/>
            <p:nvPr/>
          </p:nvGrpSpPr>
          <p:grpSpPr>
            <a:xfrm>
              <a:off x="1219320" y="1398600"/>
              <a:ext cx="6705000" cy="4392360"/>
              <a:chOff x="1219320" y="1398600"/>
              <a:chExt cx="6705000" cy="439236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1219320" y="1398600"/>
                <a:ext cx="1504080" cy="277920"/>
                <a:chOff x="1219320" y="1398600"/>
                <a:chExt cx="1504080" cy="2779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1653840" y="1398600"/>
                  <a:ext cx="1069560" cy="2779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44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219320" y="1398600"/>
                  <a:ext cx="1068120" cy="277920"/>
                </a:xfrm>
                <a:prstGeom prst="rect">
                  <a:avLst/>
                </a:prstGeom>
                <a:solidFill>
                  <a:srgbClr val="9ce15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44"/>
                      </a:solidFill>
                      <a:latin typeface="Times New Roman"/>
                    </a:rPr>
                    <a:t>Dat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3828960" y="1425600"/>
                <a:ext cx="1504080" cy="277920"/>
                <a:chOff x="3828960" y="1425600"/>
                <a:chExt cx="1504080" cy="2779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4263480" y="1425600"/>
                  <a:ext cx="1069560" cy="2779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44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828960" y="1425600"/>
                  <a:ext cx="1068120" cy="277920"/>
                </a:xfrm>
                <a:prstGeom prst="rect">
                  <a:avLst/>
                </a:prstGeom>
                <a:solidFill>
                  <a:srgbClr val="9ce15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44"/>
                      </a:solidFill>
                      <a:latin typeface="Times New Roman"/>
                    </a:rPr>
                    <a:t>Dat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6419520" y="1425600"/>
                <a:ext cx="1504800" cy="277920"/>
                <a:chOff x="6419520" y="1425600"/>
                <a:chExt cx="1504800" cy="2779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6854400" y="1425600"/>
                  <a:ext cx="1069920" cy="2779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44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419520" y="1425600"/>
                  <a:ext cx="1068480" cy="277920"/>
                </a:xfrm>
                <a:prstGeom prst="rect">
                  <a:avLst/>
                </a:prstGeom>
                <a:solidFill>
                  <a:srgbClr val="9ce15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44"/>
                      </a:solidFill>
                      <a:latin typeface="Times New Roman"/>
                    </a:rPr>
                    <a:t>Dat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2742840" y="1550880"/>
                <a:ext cx="106668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333760" y="1550880"/>
                <a:ext cx="106632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7646400" y="1703520"/>
                <a:ext cx="277560" cy="3657600"/>
                <a:chOff x="7646400" y="1703520"/>
                <a:chExt cx="277560" cy="365760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7646400" y="2770200"/>
                  <a:ext cx="277560" cy="1504800"/>
                  <a:chOff x="7646400" y="2770200"/>
                  <a:chExt cx="277560" cy="150480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rot="5400000">
                    <a:off x="7250040" y="3601080"/>
                    <a:ext cx="1069920" cy="27756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44"/>
                        </a:solidFill>
                        <a:latin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rot="5400000">
                    <a:off x="7250760" y="3165480"/>
                    <a:ext cx="1068480" cy="277560"/>
                  </a:xfrm>
                  <a:prstGeom prst="rect">
                    <a:avLst/>
                  </a:prstGeom>
                  <a:solidFill>
                    <a:srgbClr val="9ce157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44"/>
                        </a:solidFill>
                        <a:latin typeface="Times New Roman"/>
                      </a:rPr>
                      <a:t>Dat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9" name=""/>
                <p:cNvSpPr/>
                <p:nvPr/>
              </p:nvSpPr>
              <p:spPr>
                <a:xfrm>
                  <a:off x="7771680" y="1703520"/>
                  <a:ext cx="0" cy="106668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771680" y="4294080"/>
                  <a:ext cx="0" cy="106704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5333760" y="5361120"/>
                <a:ext cx="2570760" cy="277560"/>
                <a:chOff x="5333760" y="5361120"/>
                <a:chExt cx="2570760" cy="277560"/>
              </a:xfrm>
            </p:grpSpPr>
            <p:grpSp>
              <p:nvGrpSpPr>
                <p:cNvPr id="322" name=""/>
                <p:cNvGrpSpPr/>
                <p:nvPr/>
              </p:nvGrpSpPr>
              <p:grpSpPr>
                <a:xfrm>
                  <a:off x="6400080" y="5361120"/>
                  <a:ext cx="1504440" cy="277560"/>
                  <a:chOff x="6400080" y="5361120"/>
                  <a:chExt cx="1504440" cy="27756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 flipH="1">
                    <a:off x="6400080" y="5361120"/>
                    <a:ext cx="1069920" cy="27756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44"/>
                        </a:solidFill>
                        <a:latin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flipH="1">
                    <a:off x="6836040" y="5361120"/>
                    <a:ext cx="1068120" cy="277560"/>
                  </a:xfrm>
                  <a:prstGeom prst="rect">
                    <a:avLst/>
                  </a:prstGeom>
                  <a:solidFill>
                    <a:srgbClr val="9ce157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44"/>
                        </a:solidFill>
                        <a:latin typeface="Times New Roman"/>
                      </a:rPr>
                      <a:t>Dat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5" name=""/>
                <p:cNvSpPr/>
                <p:nvPr/>
              </p:nvSpPr>
              <p:spPr>
                <a:xfrm flipH="1">
                  <a:off x="5333760" y="5513400"/>
                  <a:ext cx="1066320" cy="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3809520" y="5437080"/>
                <a:ext cx="1504440" cy="277560"/>
                <a:chOff x="3809520" y="5437080"/>
                <a:chExt cx="1504440" cy="277560"/>
              </a:xfrm>
            </p:grpSpPr>
            <p:sp>
              <p:nvSpPr>
                <p:cNvPr id="327" name=""/>
                <p:cNvSpPr/>
                <p:nvPr/>
              </p:nvSpPr>
              <p:spPr>
                <a:xfrm flipH="1">
                  <a:off x="3809160" y="5437080"/>
                  <a:ext cx="1069560" cy="2775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44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>
                  <a:off x="4246200" y="5437080"/>
                  <a:ext cx="1067760" cy="277560"/>
                </a:xfrm>
                <a:prstGeom prst="rect">
                  <a:avLst/>
                </a:prstGeom>
                <a:solidFill>
                  <a:srgbClr val="9ce15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44"/>
                      </a:solidFill>
                      <a:latin typeface="Times New Roman"/>
                    </a:rPr>
                    <a:t>Dat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 flipH="1">
                <a:off x="2742480" y="5589720"/>
                <a:ext cx="106668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1237680" y="5513400"/>
                <a:ext cx="1504440" cy="277560"/>
                <a:chOff x="1237680" y="5513400"/>
                <a:chExt cx="1504440" cy="277560"/>
              </a:xfrm>
            </p:grpSpPr>
            <p:sp>
              <p:nvSpPr>
                <p:cNvPr id="331" name=""/>
                <p:cNvSpPr/>
                <p:nvPr/>
              </p:nvSpPr>
              <p:spPr>
                <a:xfrm flipH="1">
                  <a:off x="1237320" y="5513400"/>
                  <a:ext cx="1069560" cy="2775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44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>
                  <a:off x="1674360" y="5513400"/>
                  <a:ext cx="1067760" cy="277560"/>
                </a:xfrm>
                <a:prstGeom prst="rect">
                  <a:avLst/>
                </a:prstGeom>
                <a:solidFill>
                  <a:srgbClr val="9ce15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44"/>
                      </a:solidFill>
                      <a:latin typeface="Times New Roman"/>
                    </a:rPr>
                    <a:t>Dat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3" name=""/>
            <p:cNvGrpSpPr/>
            <p:nvPr/>
          </p:nvGrpSpPr>
          <p:grpSpPr>
            <a:xfrm>
              <a:off x="1295640" y="1627200"/>
              <a:ext cx="379800" cy="3885840"/>
              <a:chOff x="1295640" y="1627200"/>
              <a:chExt cx="379800" cy="388584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1295640" y="2781360"/>
                <a:ext cx="379800" cy="1598400"/>
                <a:chOff x="1295640" y="2781360"/>
                <a:chExt cx="379800" cy="1598400"/>
              </a:xfrm>
            </p:grpSpPr>
            <p:sp>
              <p:nvSpPr>
                <p:cNvPr id="335" name=""/>
                <p:cNvSpPr/>
                <p:nvPr/>
              </p:nvSpPr>
              <p:spPr>
                <a:xfrm flipV="1" rot="16200000">
                  <a:off x="917280" y="3159360"/>
                  <a:ext cx="1136520" cy="3798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44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 rot="16200000">
                  <a:off x="918000" y="3621960"/>
                  <a:ext cx="1135080" cy="379800"/>
                </a:xfrm>
                <a:prstGeom prst="rect">
                  <a:avLst/>
                </a:prstGeom>
                <a:solidFill>
                  <a:srgbClr val="9ce15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44"/>
                      </a:solidFill>
                      <a:latin typeface="Times New Roman"/>
                    </a:rPr>
                    <a:t>Dat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 flipV="1">
                <a:off x="1466640" y="4379760"/>
                <a:ext cx="0" cy="11332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1466640" y="1627200"/>
                <a:ext cx="0" cy="11336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-28440" y="90360"/>
            <a:ext cx="916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dvantages and Disadvantag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6280" y="1143000"/>
            <a:ext cx="3004560" cy="52056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 Unicode MS"/>
              </a:rPr>
              <a:t>Dynamic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51600" y="1981080"/>
            <a:ext cx="4188960" cy="137376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 Unicode MS"/>
              </a:rPr>
              <a:t>Compared to an arra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 Unicode MS"/>
              </a:rPr>
              <a:t>insertions and dele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 Unicode MS"/>
              </a:rPr>
              <a:t>are easily d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9000" y="1746360"/>
            <a:ext cx="2704320" cy="642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0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Arial Unicode MS"/>
              </a:rPr>
              <a:t>Advant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6760" y="3817800"/>
            <a:ext cx="3338280" cy="642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0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Arial Unicode MS"/>
              </a:rPr>
              <a:t>Disadvant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67440" y="3733920"/>
            <a:ext cx="4176720" cy="947160"/>
          </a:xfrm>
          <a:prstGeom prst="rect">
            <a:avLst/>
          </a:prstGeom>
          <a:noFill/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Huge memory occup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by poin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70040" y="5029200"/>
            <a:ext cx="2760840" cy="947160"/>
          </a:xfrm>
          <a:prstGeom prst="rect">
            <a:avLst/>
          </a:prstGeom>
          <a:noFill/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Random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not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73800" y="152280"/>
            <a:ext cx="722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tacks using Linked Lis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0480" y="1523880"/>
            <a:ext cx="8206200" cy="10688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 Unicode MS"/>
              </a:rPr>
              <a:t>If arrays ar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44"/>
                </a:solidFill>
                <a:latin typeface="Arial Unicode MS"/>
              </a:rPr>
              <a:t>stack memory becomes static and lim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4800" y="4114800"/>
            <a:ext cx="8111520" cy="10688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 Unicode MS"/>
              </a:rPr>
              <a:t>Arrays cannot grow dynam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 Unicode MS"/>
              </a:rPr>
              <a:t>Memory locations reserved when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434760" y="90360"/>
            <a:ext cx="239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Queu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1039680"/>
            <a:ext cx="8153280" cy="1191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cc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Arial Unicode MS"/>
              </a:rPr>
              <a:t>A queue is a list in which all additions are made at one end and all deletions are made from the other 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733920" y="1949400"/>
          <a:ext cx="4876560" cy="42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949400"/>
                    <a:ext cx="487656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 txBox="1"/>
          <p:nvPr/>
        </p:nvSpPr>
        <p:spPr>
          <a:xfrm>
            <a:off x="533520" y="2514600"/>
            <a:ext cx="259056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66ff"/>
                </a:solidFill>
                <a:latin typeface="Impact"/>
              </a:rPr>
              <a:t>FIFO</a:t>
            </a:r>
            <a:endParaRPr b="1" lang="en-US" sz="2800" spc="1" strike="noStrike">
              <a:ln w="0">
                <a:noFill/>
              </a:ln>
              <a:solidFill>
                <a:srgbClr val="0066ff"/>
              </a:solidFill>
              <a:latin typeface="Impact"/>
              <a:ea typeface="Impact"/>
            </a:endParaRPr>
          </a:p>
        </p:txBody>
      </p:sp>
      <p:sp>
        <p:nvSpPr>
          <p:cNvPr id="354" name=""/>
          <p:cNvSpPr/>
          <p:nvPr/>
        </p:nvSpPr>
        <p:spPr>
          <a:xfrm>
            <a:off x="15840" y="4114800"/>
            <a:ext cx="3708720" cy="5814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cc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 Unicode MS"/>
              </a:rPr>
              <a:t>( First In First Ou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583280" y="90360"/>
            <a:ext cx="636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perations on Queu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6440" y="1538280"/>
            <a:ext cx="35060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66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 Unicode MS"/>
              </a:rPr>
              <a:t>Creating a que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21560" y="1538280"/>
            <a:ext cx="380952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66ff"/>
              </a:buClr>
              <a:buFont typeface="Arial Unicode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 Unicode MS"/>
              </a:rPr>
              <a:t>Initializing a que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5120" y="2590920"/>
            <a:ext cx="38048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66ff"/>
              </a:buClr>
              <a:buFont typeface="Arial Unicode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 Unicode MS"/>
              </a:rPr>
              <a:t>Adding an e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23720" y="2590920"/>
            <a:ext cx="401976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66ff"/>
              </a:buClr>
              <a:buFont typeface="Arial Unicode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 Unicode MS"/>
              </a:rPr>
              <a:t>Deleting an e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19240" y="3733920"/>
            <a:ext cx="534996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 Unicode MS"/>
              </a:rPr>
              <a:t>First item on queue = H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80880" y="5029200"/>
            <a:ext cx="49615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 Unicode MS"/>
              </a:rPr>
              <a:t>Last item on queue = T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97720" y="152280"/>
            <a:ext cx="86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Introduction to reference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62120" y="1108080"/>
          <a:ext cx="723888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08080"/>
                    <a:ext cx="723888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33720" y="4191120"/>
            <a:ext cx="6858000" cy="990360"/>
          </a:xfrm>
          <a:prstGeom prst="rect">
            <a:avLst/>
          </a:prstGeom>
          <a:solidFill>
            <a:srgbClr val="fab8ed"/>
          </a:solidFill>
          <a:ln w="7632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The symbol ‘&amp; ‘ is used as a part of the type identifi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095120" y="90360"/>
            <a:ext cx="728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Queue using an Array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2840" y="990720"/>
            <a:ext cx="42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 Unicode MS"/>
              </a:rPr>
              <a:t>Points to be considered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5840" y="1596960"/>
            <a:ext cx="591084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4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Maintain two subscript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one for the head and one for the 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4840" y="2759040"/>
            <a:ext cx="473148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44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Keep the head of the queue in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44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 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5120" y="3902040"/>
            <a:ext cx="602208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44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An item can be added by increas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the subscript and adding the e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7280" y="4997520"/>
            <a:ext cx="7530840" cy="947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0044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Delete an element from from the front end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Move the rest of the elements up by one position</a:t>
            </a:r>
            <a:r>
              <a:rPr b="0" lang="en-US" sz="2800" spc="-1" strike="noStrike">
                <a:solidFill>
                  <a:srgbClr val="000044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143000" y="76320"/>
            <a:ext cx="703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Queue using Linked Li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97000" y="1143000"/>
            <a:ext cx="526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Arial Unicode MS"/>
              </a:rPr>
              <a:t>Two pointers are requir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-    one for the h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-    the other for the t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9600" y="3429000"/>
            <a:ext cx="8078040" cy="13737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ff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Arial Unicode MS"/>
              </a:rPr>
              <a:t>Since memory will be dynamically allocated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Arial Unicode MS"/>
              </a:rPr>
              <a:t>problems in implementing queues using arr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Arial Unicode MS"/>
              </a:rPr>
              <a:t>can be elimin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822600" y="76320"/>
            <a:ext cx="771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Defining a Class for queu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914400" y="1139760"/>
          <a:ext cx="7543800" cy="503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39760"/>
                    <a:ext cx="75438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754640" y="76320"/>
            <a:ext cx="567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Queue methods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00200" y="2954160"/>
            <a:ext cx="58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urier New"/>
                <a:ea typeface="Courier New"/>
              </a:rPr>
              <a:t>Queue :: Queue(voi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urier New"/>
                <a:ea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urier New"/>
                <a:ea typeface="Courier New"/>
              </a:rPr>
              <a:t>front = rear = NUL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urier New"/>
                <a:ea typeface="Courier New"/>
              </a:rPr>
              <a:t>}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14520" y="1782720"/>
            <a:ext cx="24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 Unicode MS"/>
              </a:rPr>
              <a:t>Constru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754640" y="76320"/>
            <a:ext cx="567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Queue methods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2280" y="1081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 Unicode MS"/>
              </a:rPr>
              <a:t>Queue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828800" y="1704960"/>
          <a:ext cx="571500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04960"/>
                    <a:ext cx="571500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754640" y="76320"/>
            <a:ext cx="567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Queue methods (3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7761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 Unicode MS"/>
              </a:rPr>
              <a:t>QueueG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990720" y="1447920"/>
          <a:ext cx="6933960" cy="47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693396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082240" y="76320"/>
            <a:ext cx="527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Using a Queue 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838080" y="1219320"/>
          <a:ext cx="746784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74678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005920" y="76320"/>
            <a:ext cx="527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Using a Queue (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743120" y="1003320"/>
          <a:ext cx="5724360" cy="516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3120" y="1003320"/>
                    <a:ext cx="57243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115640" y="76320"/>
            <a:ext cx="67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pplications of Queu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43040" y="1173240"/>
            <a:ext cx="4121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Unicode MS"/>
              </a:rPr>
              <a:t>Computer proc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66720" y="2286000"/>
            <a:ext cx="53499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UNIX O/S uses queues f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almost all of its operations</a:t>
            </a:r>
            <a:r>
              <a:rPr b="0" lang="en-US" sz="3200" spc="-1" strike="noStrike">
                <a:solidFill>
                  <a:srgbClr val="00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2960" y="3809880"/>
            <a:ext cx="6153120" cy="1068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 Unicode MS"/>
              </a:rPr>
              <a:t>Interrupt</a:t>
            </a:r>
            <a:r>
              <a:rPr b="0" lang="en-US" sz="3200" spc="-1" strike="noStrike">
                <a:solidFill>
                  <a:srgbClr val="00ffff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44"/>
                </a:solidFill>
                <a:latin typeface="Arial Unicode MS"/>
              </a:rPr>
              <a:t>processing in DOS 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 Unicode MS"/>
              </a:rPr>
              <a:t>a type ahead keyboard buf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21120" y="5280120"/>
            <a:ext cx="5553000" cy="581400"/>
          </a:xfrm>
          <a:prstGeom prst="rect">
            <a:avLst/>
          </a:prstGeom>
          <a:gradFill rotWithShape="0">
            <a:gsLst>
              <a:gs pos="0">
                <a:srgbClr val="e5ed4b"/>
              </a:gs>
              <a:gs pos="50000">
                <a:srgbClr val="ffffcc"/>
              </a:gs>
              <a:gs pos="100000">
                <a:srgbClr val="e5ed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 Unicode MS"/>
              </a:rPr>
              <a:t>Simulation using compu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27160" y="152280"/>
            <a:ext cx="714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Pointers and Referenc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066680"/>
            <a:ext cx="8305920" cy="762120"/>
          </a:xfrm>
          <a:prstGeom prst="rect">
            <a:avLst/>
          </a:prstGeom>
          <a:gradFill rotWithShape="0">
            <a:gsLst>
              <a:gs pos="0">
                <a:srgbClr val="fcc9a6"/>
              </a:gs>
              <a:gs pos="100000">
                <a:srgbClr val="f98d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Unlike pointers null references cannot be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3200400"/>
            <a:ext cx="868680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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reference cannot be used for a reference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rray of references cannot be def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inter to reference cannot be cre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133720"/>
            <a:ext cx="5029200" cy="68580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Restrictions on re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68440" y="152280"/>
            <a:ext cx="43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Data structur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3440" y="1447920"/>
            <a:ext cx="8119440" cy="106884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ab8e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Collection of data elements whose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is characterized by the functions accessing them</a:t>
            </a: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512000" y="2971800"/>
            <a:ext cx="6289200" cy="1038600"/>
            <a:chOff x="1512000" y="2971800"/>
            <a:chExt cx="6289200" cy="1038600"/>
          </a:xfrm>
        </p:grpSpPr>
        <p:sp>
          <p:nvSpPr>
            <p:cNvPr id="161" name=""/>
            <p:cNvSpPr/>
            <p:nvPr/>
          </p:nvSpPr>
          <p:spPr>
            <a:xfrm>
              <a:off x="1512000" y="2971800"/>
              <a:ext cx="43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ae6ddf"/>
                  </a:solidFill>
                  <a:latin typeface="Times New Roman"/>
                </a:rPr>
                <a:t>Built in data structur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30160" y="3429000"/>
              <a:ext cx="607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00"/>
                  </a:solidFill>
                  <a:latin typeface="Times New Roman"/>
                </a:rPr>
                <a:t>- accessing is transparent to the us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451160" y="4387680"/>
            <a:ext cx="6909840" cy="1024560"/>
            <a:chOff x="1451160" y="4387680"/>
            <a:chExt cx="6909840" cy="1024560"/>
          </a:xfrm>
        </p:grpSpPr>
        <p:sp>
          <p:nvSpPr>
            <p:cNvPr id="164" name=""/>
            <p:cNvSpPr/>
            <p:nvPr/>
          </p:nvSpPr>
          <p:spPr>
            <a:xfrm>
              <a:off x="1451160" y="4387680"/>
              <a:ext cx="529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ae6ddf"/>
                  </a:solidFill>
                  <a:latin typeface="Times New Roman"/>
                </a:rPr>
                <a:t>User defined data structur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81720" y="4830840"/>
              <a:ext cx="64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00"/>
                  </a:solidFill>
                  <a:latin typeface="Times New Roman"/>
                </a:rPr>
                <a:t>- user defines functions to access the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66840" y="90360"/>
            <a:ext cx="214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tack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4648320"/>
            <a:ext cx="7375680" cy="581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Elements are added or deleted from on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8520" y="1415880"/>
            <a:ext cx="8025120" cy="642600"/>
          </a:xfrm>
          <a:prstGeom prst="rect">
            <a:avLst/>
          </a:prstGeom>
          <a:gradFill rotWithShape="0">
            <a:gsLst>
              <a:gs pos="0">
                <a:srgbClr val="f98d43"/>
              </a:gs>
              <a:gs pos="100000">
                <a:srgbClr val="ddec4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Works on the principle of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st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rs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00400" y="2514600"/>
            <a:ext cx="25909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66ff"/>
                </a:solidFill>
                <a:latin typeface="Impact"/>
              </a:rPr>
              <a:t>LIFO</a:t>
            </a:r>
            <a:endParaRPr b="1" lang="en-US" sz="2800" spc="1" strike="noStrike">
              <a:ln w="0">
                <a:noFill/>
              </a:ln>
              <a:solidFill>
                <a:srgbClr val="0066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12160" y="90360"/>
            <a:ext cx="611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Operation on Stack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79520" y="1316160"/>
          <a:ext cx="805500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316160"/>
                    <a:ext cx="805500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751760" y="5257800"/>
            <a:ext cx="2257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Adding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17440" y="5257800"/>
            <a:ext cx="2614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Removing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80" y="152280"/>
            <a:ext cx="91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Implementing Stacks using array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7320" y="1371600"/>
            <a:ext cx="7762680" cy="5205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Stacks can be implemented using arrays or linked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3840" y="2590920"/>
            <a:ext cx="6417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6ddf"/>
                </a:solidFill>
                <a:latin typeface="Times New Roman"/>
              </a:rPr>
              <a:t>If implemented using array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6ddf"/>
                </a:solidFill>
                <a:latin typeface="Times New Roman"/>
              </a:rPr>
              <a:t>a subscript is used to access the top e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800" y="4191120"/>
            <a:ext cx="6093720" cy="1068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The subscript increases or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as elements are added or remo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0T04:01:13Z</dcterms:created>
  <dc:creator>Victor</dc:creator>
  <dc:description/>
  <dc:language>en-US</dc:language>
  <cp:lastModifiedBy>Victor</cp:lastModifiedBy>
  <dcterms:modified xsi:type="dcterms:W3CDTF">2001-07-23T00:48:00Z</dcterms:modified>
  <cp:revision>151</cp:revision>
  <dc:subject/>
  <dc:title>PowerPoint Presentation</dc:title>
</cp:coreProperties>
</file>