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47C-F88E-4B4A-9C11-73E8FADD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772-4E9E-4F23-A19C-40EECFA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436-6B83-469C-BBBE-26E7DCD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3F1-5627-4092-9324-98B7B2E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089-8C5C-4EBF-BD7E-07F24CAC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4CE-0379-4669-A5A2-8A25D6BC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667-5015-41AA-9118-A92D51FE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827-53BF-4B8D-88F8-F83A77B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009-C17C-4E35-AB8D-F2B027D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729-32C6-49FF-8D36-D6CC5097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76C-6B96-4321-8B36-14368727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6BA-D8F3-49D7-BBD1-45AE5D34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12 / </a:t>
            </a:r>
            <a:fld id="{A2F29690-BC7D-4BAC-B415-C60D63E5291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3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C49-67E1-4A4E-84AD-D5D09A3C4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Session 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2057400"/>
            <a:ext cx="8305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ultiple Inherita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an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olymorphis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25992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Multiple Inheritance Ambiguities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iler will not be able to understand which function to use if two base classes have the same function or data member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Alpha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display(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Beta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display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Gamma: public Alpha,public Be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Gamma ob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.display(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ambiguous: cannot be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ccess the correct function or data member you will need to use the scope resolution oper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.Alpha::display(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.Beta::display(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-15192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Multiple Inheritance Ambiguities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8432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Multiple Inheritance: Common Ba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95280" y="1981080"/>
          <a:ext cx="647712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47712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96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mmon Bas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th Teacher and Student contain a copy of the Person class memb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ing assistant is derived from both Teacher and Student it contains two copies of the Person class members giving rise to ambiguity between the base class data members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other problem is that declaring an object of class Teaching assistant will invoke the Person class constructor tw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Base Class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nheritance hierarchies can be complex, and may lead to a situation in which a derived class inherits multiple times from the same indirec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33720" y="2828880"/>
          <a:ext cx="5257800" cy="29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28880"/>
                    <a:ext cx="5257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915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window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protecte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int baseda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border: public wind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{ 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menu: public wind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{ 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border_and_menu: public border, public men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int show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{return basedata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Base Classe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classe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men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or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derived from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wind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each inherits a copy of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wind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This copy is called a subobjec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subobject contains its own copy of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aseda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the clas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wind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clas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order_and_men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fers to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basedat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ompiler does not know which copy is being accessed and hence an error occu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Base Classe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two copies of the base class we use a virtual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make a base class virtual include the keyword virtual when listing the base class in the derived class declaration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border: virtual public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menu: virtual public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Base Classes (4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4876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base class is represented by a single object of th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2441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Base Classes (5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-214200"/>
            <a:ext cx="83073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ructors and Destructors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ce of virtual base classes changes the order in which constructors are called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Arial"/>
              </a:rPr>
              <a:t>A virtual base class is initialised before any non-virtual base class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Arial"/>
              </a:rPr>
              <a:t>If there is more than one virtual base class, the order of initialisation is determined by their position in the inheritance graph from top to bottom and left to righ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ll for the destructor follows the same rules, but in the reverse ord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ession Objectiv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Multiple Inheri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tructors under Multiple Inheri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mbiguity in Multiple Inheri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 Inheritance with a Common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Virtual Bas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tructors and Destru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ointers to Objects to access Member Fun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s to Objec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nters can point to objects as well as to simple data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Base* pt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tr = new Bas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efer to member functions in the object pointed to by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t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 cannot use a dot oper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t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a pointer the arrow operator (-&gt;) is used to access a member func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tr-&gt;show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Virtual function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irtual function is a function that does not really exist but does affect some parts of a progra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108160"/>
            <a:ext cx="8001000" cy="40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lass Shapes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void draw()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//function in the base cla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{cout&lt;&lt;"Draw Base\n";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lass circle: public Shapes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int radius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void draw()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//redefined in derived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{cout&lt;&lt;"Draw circle"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lass square: public Shapes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rivate: int length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void draw()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//redefined in derived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{cout&lt;&lt;"Draw square"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function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44193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void main()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ircle c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square 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Shapes* ptr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tr = &amp;c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tr-&gt;draw(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tr = &amp;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tr-&gt;draw(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function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514600"/>
            <a:ext cx="2895480" cy="14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Draw 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Draw 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ant to be able to use the function call to draw a square or any other object depending on which object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tr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nts 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draw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unction must be declared to be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irtu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can then be redefined in each derived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Virtual functions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Shapes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irtual void draw()//virtual in the base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{cout&lt;&lt;"Draw Base\n"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irtual function allows derived classes to replace the implementation provided by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mpiler makes sure the replacement is always called whenever the object in question is actually of the derived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functions (5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the virtual function, the result 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Draw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Draw squ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me function call,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tr-&gt;draw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es different functions depending on the contents of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t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function should be declared in the base class and cannot be redeclared in a derive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functions (6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irtual function must be defined for the class in which it was first decla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efined function in the derived class must have the same parameters (same number and data type). The return type does not have to ma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functions (9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lymorphism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ymorphism" means "many forms"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the process of defining a number of objects of different classes in a group and using different function calls to carry out the operations of the objec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example: Class mammals: Different mammals have different responses to the function EA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acility to invoke an appropriate function from any of the given classes using the pointer of the base class is a form of polymorph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Dynamic binding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virtual member functions are selected statically (at compile-time) based on the type of the pointer (or reference) to the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member functions are resolved dynamically (at run-time) based on the type of the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quires some overhead in processing but provides increased power and flexibility in programm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keyword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virtu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used with the function declaration in the base class, the system will use dynamic binding else static binding will be u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Virtual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Dynamic b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Pure Virtual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Abstract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Virtual destru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ession Objective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ure Virtual function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classes such as class Shapes, represent abstract concepts for which objects cannot exis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ernative: Declare the virtual function of the class Shape as a pure virtual func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ure virtual function has only a function declara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declared by assigning the value of zero to the fun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irtual void getdata()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 derived class must include a function definition for each pure virtual function that is inherited from the base class if it has to be used to create an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not create an object of any class, which contains one or more pure virtual functions, because there is nothing to answer if a function call is sent to the pure virtual meth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ure Virtual function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Abstract Class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lass containing one or more pure virtual functions cannot be used to define an object--called an abstrac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ly useful as a base class to be inherited into a useable derive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objects of an abstract class can be crea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tract class can only be used as a base for anothe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Shapes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virtual void draw() = 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virtual void rotate(int) = 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lass circle: public Shapes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int radiu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circle(int 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void draw(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void rotate(int){ 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bstract Classe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destructor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83840"/>
            <a:ext cx="8534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ructor of derived class is not invoked to free the memory storage that was allocated by the constructor of the derived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because destructors are non-virtual and the message will not reach the destructors under dynamic binding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to have a virtual destructor function to free memory space effectively under dynamic bin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class Alpha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char* alpha_ptr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Alpha()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//constructor cannot be virt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{alpha_ptr = new char[5];}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virtual void fn();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//virtual member fun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virtual ~Alpha()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//virtual destru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{delete[] alpha_ptr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5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destructor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class Beta: public Alpha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char* ptrderive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Beta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{ptrderived = new char[100]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~Beta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{delete[] ptrderived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void main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Alpha *ptr = new Be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delete ptr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Virtual destructors (3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functions bind to the code associated with the class of the object, rather than with the class of the pointer/refer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 a derived class instance always contains a base class instance, it is necessary to invoke destructors of both the classes in order to ensure that all the space on the heap is releas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Virtual destructors (4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Multiple Inheritanc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 inheritance is the process of creating a new class from more than on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 inheritance can combine the behaviour of many base classes in a singl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71600" y="3733920"/>
          <a:ext cx="640080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733920"/>
                    <a:ext cx="6400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yntax for multiple inheritance is similar to that for single inherit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Tea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Teach_asst: public Teacher, public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ames of both the base classes are provided separated b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ules of inheritance and access for multiple inheritance are the same as for single inheri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Multiple Inheritance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nstructor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lass Teacher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Teacher(){x =0;}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//constructo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Teacher(int s){x = s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class Student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Student(){y = 0;}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//constru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Student(int a){y = a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81532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Teach_asst: public Teacher,public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Teach_asst():Teacher(),Student()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//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z = 0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Teach_asst(int s,int a,int b): Teacher(s),Student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z = b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896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ructor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tructors have to be defined to initialise the data members of all clas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ames of the base class constructor follow the colon and are separated by com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constructors had arguments t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Teach_asst(int s,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rg for Teacher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int a,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rg for Stud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int b):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rg for thi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Teacher(s),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all Teacher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Student(a)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all Student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z = b;}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et own dat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nstructors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 order for calling Constru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Base classes as they appear in the list of base classes: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Teacher, Stud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Member objects are initialised next, in the order they appear in the derived class declar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The object itself (using the code in its constructo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 order for calling Destru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The destructor of the class is called first, then those of member objects, and then the base class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56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structors and Destru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8:50:26Z</dcterms:created>
  <dc:creator>vinod</dc:creator>
  <dc:description/>
  <dc:language>en-US</dc:language>
  <cp:lastModifiedBy>Manoj  Rajan</cp:lastModifiedBy>
  <cp:lastPrinted>1999-06-19T10:55:41Z</cp:lastPrinted>
  <dcterms:modified xsi:type="dcterms:W3CDTF">2001-07-22T06:56:19Z</dcterms:modified>
  <cp:revision>64</cp:revision>
  <dc:subject/>
  <dc:title>Multiple Inheritance and Polymorphism</dc:title>
</cp:coreProperties>
</file>