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502-0115-4E78-BECD-6D3CD2C3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915-8654-49F4-BE69-3DC0CBA2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C36-DBD7-4A93-81B9-3BE5033A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B1E-A846-4352-98C8-897DFEC7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227-5223-46E8-969F-471E2627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B00-5636-4595-9969-06780CCC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2BC-ACFC-446A-8000-B7E384FD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A43-6423-49F2-AC13-E86244E0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8C1-EBDC-44CF-9D12-BB26BE8A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2CE-FCC8-4A3C-8A1F-32E920B0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06A-4531-41A1-ABBF-244A08FD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279-FEA4-44AC-AACA-28D3AFBF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1828800" y="6553080"/>
            <a:ext cx="731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nux, C, C++ / Object Oriented Programming with C++ / Session 5 / </a:t>
            </a:r>
            <a:fld id="{24857857-0B87-49DE-9A80-D9C9E7EBF90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of 3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C062-45C5-475A-81E7-2D01959FB7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56840" y="380880"/>
            <a:ext cx="29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Session 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3100320"/>
            <a:ext cx="8001000" cy="23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gram Control Statements - 2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3320" y="90360"/>
            <a:ext cx="60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The </a:t>
            </a:r>
            <a:r>
              <a:rPr b="1" lang="en-US" sz="4800" spc="-1" strike="noStrike">
                <a:solidFill>
                  <a:srgbClr val="ffff00"/>
                </a:solidFill>
                <a:latin typeface="Arial Unicode MS"/>
              </a:rPr>
              <a:t>do…while</a:t>
            </a: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 Loo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360" y="1219320"/>
            <a:ext cx="7854840" cy="1800360"/>
          </a:xfrm>
          <a:prstGeom prst="rect">
            <a:avLst/>
          </a:prstGeom>
          <a:gradFill rotWithShape="0">
            <a:gsLst>
              <a:gs pos="0">
                <a:srgbClr val="f0f0fe"/>
              </a:gs>
              <a:gs pos="50000">
                <a:srgbClr val="d9d9ff"/>
              </a:gs>
              <a:gs pos="100000">
                <a:srgbClr val="f0f0fe"/>
              </a:gs>
            </a:gsLst>
            <a:lin ang="5400000"/>
          </a:gradFill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Unicode MS"/>
              </a:rPr>
              <a:t>The ‘do..while’ loop </a:t>
            </a:r>
            <a:r>
              <a:rPr b="1" lang="en-GB" sz="2800" spc="-1" strike="noStrike">
                <a:solidFill>
                  <a:srgbClr val="cc3300"/>
                </a:solidFill>
                <a:latin typeface="Arial Unicode MS"/>
              </a:rPr>
              <a:t>is useful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 Unicode MS"/>
              </a:rPr>
              <a:t>conditions where a certain set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 Unicode MS"/>
              </a:rPr>
              <a:t>processing statements needs to be performed at least once.</a:t>
            </a:r>
            <a:r>
              <a:rPr b="1" lang="en-US" sz="28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68604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Arial Unicode MS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Arial Unicode MS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Arial Unicode MS"/>
              </a:rPr>
              <a:t>      </a:t>
            </a:r>
            <a:r>
              <a:rPr b="1" lang="en-GB" sz="2800" spc="-1" strike="noStrike">
                <a:solidFill>
                  <a:srgbClr val="ffccff"/>
                </a:solidFill>
                <a:latin typeface="Arial Unicode MS"/>
              </a:rPr>
              <a:t>Processing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Arial Unicode MS"/>
              </a:rPr>
              <a:t> </a:t>
            </a:r>
            <a:r>
              <a:rPr b="1" lang="en-GB" sz="2800" spc="-1" strike="noStrike">
                <a:solidFill>
                  <a:srgbClr val="ffccff"/>
                </a:solidFill>
                <a:latin typeface="Arial Unicode MS"/>
              </a:rPr>
              <a:t>} while (expression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3840" y="90360"/>
            <a:ext cx="87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imple ‘do..while ’ Example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427040"/>
            <a:ext cx="7925040" cy="46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int n, i_sum = 0, right_digit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 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"Type an integer value: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cin &gt;&gt; n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end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right_digit = n % 10 ; // To ex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rightmost dig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i_sum += right_digit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3840" y="90360"/>
            <a:ext cx="87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imple ‘do..while ’ Example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427040"/>
            <a:ext cx="800100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n /= 10 ;// Move next digit into rightm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   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while(n&gt;0);//No more digits to extract 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      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value of n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"The sum of the digits is: " &lt;&lt; i_sum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}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359240"/>
            <a:ext cx="5486400" cy="8254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Type an integer value: 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The sum of the digit is: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8680" y="190440"/>
            <a:ext cx="85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 Unicode MS"/>
              </a:rPr>
              <a:t>Nested while and </a:t>
            </a:r>
            <a:r>
              <a:rPr b="1" lang="en-US" sz="4000" spc="-1" strike="noStrike">
                <a:solidFill>
                  <a:srgbClr val="ffff00"/>
                </a:solidFill>
                <a:latin typeface="Arial Unicode MS"/>
              </a:rPr>
              <a:t>do…while</a:t>
            </a:r>
            <a:r>
              <a:rPr b="1" lang="en-US" sz="4000" spc="-1" strike="noStrike">
                <a:solidFill>
                  <a:srgbClr val="66ffff"/>
                </a:solidFill>
                <a:latin typeface="Arial Unicode MS"/>
              </a:rPr>
              <a:t> Lo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7360" y="1143000"/>
            <a:ext cx="7927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 Unicode MS"/>
              </a:rPr>
              <a:t>To enable multiple layers of iteration.</a:t>
            </a:r>
            <a:r>
              <a:rPr b="1" lang="en-US" sz="32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133720"/>
            <a:ext cx="3809880" cy="3933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fcf6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while (expres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while(expression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</a:rPr>
              <a:t>}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96280" y="2362320"/>
            <a:ext cx="4234680" cy="3080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fefe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 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}while(expression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urier New"/>
                <a:ea typeface="Courier New"/>
              </a:rPr>
              <a:t>}while(expression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46400" y="6048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Example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06640"/>
            <a:ext cx="762012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#include &lt;iostream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#include &lt;conio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 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void main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int class_no, marks, tot_studs, roll_no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har choice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 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lrscr(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 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"Enter class number: 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in &gt;&gt; class_no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endl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if(class_no &gt;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"Enter TOTAL STUDENTS IN CLASS: 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in &gt;&gt; tot_studs ;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861840"/>
            <a:ext cx="84582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endl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roll_no = 1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while(roll_no &lt;= tot_stu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"Enter MARKS for roll number 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roll_no &lt;&lt; ":" 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in &gt;&gt; marks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endl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"MARKS ENTERED for roll number 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roll_no &lt;&lt; " = " &lt;&lt; marks &lt;&lt; endl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roll_no++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"Enter marks for another class (Y/N) ? 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in &gt;&gt; choice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clrscr(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} while(choice != 'N' &amp;&amp; choice != 'n'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}</a:t>
            </a:r>
            <a:r>
              <a:rPr b="1" lang="en-US" sz="1800" spc="-1" strike="noStrike">
                <a:solidFill>
                  <a:srgbClr val="ff0066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46400" y="6048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Exampl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1279440"/>
            <a:ext cx="6400800" cy="4667760"/>
          </a:xfrm>
          <a:prstGeom prst="rect">
            <a:avLst/>
          </a:prstGeom>
          <a:gradFill rotWithShape="0">
            <a:gsLst>
              <a:gs pos="0">
                <a:srgbClr val="fd8ba6"/>
              </a:gs>
              <a:gs pos="50000">
                <a:srgbClr val="fdf3f6"/>
              </a:gs>
              <a:gs pos="100000">
                <a:srgbClr val="fd8b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Enter class number: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Enter TOTAL STUDENTS IN CLASS: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Enter MARKS for roll number 1: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ARKS ENTERED for roll number 1 = 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Enter MARKS for roll number 2: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ARKS ENTERED for roll number 2 = 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Enter MARKS for roll number 3: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ARKS ENTERED for roll number 3 = 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Enter MARKS for roll number 4: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ARKS ENTERED for roll number 4 = 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Enter MARKS for roll number 5: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ARKS ENTERED for roll number 5 = 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Enter marks for another class (Y/N) ?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46400" y="21276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Example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43160" y="7632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The </a:t>
            </a:r>
            <a:r>
              <a:rPr b="1" lang="en-US" sz="4800" spc="-1" strike="noStrike">
                <a:solidFill>
                  <a:srgbClr val="ffff00"/>
                </a:solidFill>
                <a:latin typeface="Arial Unicode MS"/>
              </a:rPr>
              <a:t>for</a:t>
            </a: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 loop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8200" y="119376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he general syntax of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statement is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828800"/>
          <a:ext cx="731520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828800"/>
                    <a:ext cx="731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441720" y="1752480"/>
            <a:ext cx="7503480" cy="2400480"/>
            <a:chOff x="441720" y="1752480"/>
            <a:chExt cx="7503480" cy="2400480"/>
          </a:xfrm>
        </p:grpSpPr>
        <p:sp>
          <p:nvSpPr>
            <p:cNvPr id="190" name=""/>
            <p:cNvSpPr/>
            <p:nvPr/>
          </p:nvSpPr>
          <p:spPr>
            <a:xfrm>
              <a:off x="441720" y="3327480"/>
              <a:ext cx="750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The initialize counter is an assignment statement that sets</a:t>
              </a:r>
              <a:br>
                <a:rPr sz="2400"/>
              </a:b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    the loop control variable, before entering the loop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280" y="1752480"/>
              <a:ext cx="2133720" cy="533520"/>
            </a:xfrm>
            <a:prstGeom prst="ellipse">
              <a:avLst/>
            </a:prstGeom>
            <a:noFill/>
            <a:ln w="349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46040" y="1752480"/>
            <a:ext cx="6982200" cy="3435480"/>
            <a:chOff x="446040" y="1752480"/>
            <a:chExt cx="6982200" cy="3435480"/>
          </a:xfrm>
        </p:grpSpPr>
        <p:sp>
          <p:nvSpPr>
            <p:cNvPr id="193" name=""/>
            <p:cNvSpPr/>
            <p:nvPr/>
          </p:nvSpPr>
          <p:spPr>
            <a:xfrm>
              <a:off x="446040" y="4362480"/>
              <a:ext cx="698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The conditional test is a relational expression, which </a:t>
              </a:r>
              <a:br>
                <a:rPr sz="2400"/>
              </a:b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    determines, when the loop will exit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29000" y="1752480"/>
              <a:ext cx="1905120" cy="53352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46760" y="1676520"/>
            <a:ext cx="7782840" cy="4502160"/>
            <a:chOff x="446760" y="1676520"/>
            <a:chExt cx="7782840" cy="4502160"/>
          </a:xfrm>
        </p:grpSpPr>
        <p:sp>
          <p:nvSpPr>
            <p:cNvPr id="196" name=""/>
            <p:cNvSpPr/>
            <p:nvPr/>
          </p:nvSpPr>
          <p:spPr>
            <a:xfrm>
              <a:off x="446760" y="5353200"/>
              <a:ext cx="72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The evaluation parameter defines how the loop control </a:t>
              </a:r>
              <a:br>
                <a:rPr sz="2400"/>
              </a:b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    variable changes, each time the loop is executed.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800" y="1676520"/>
              <a:ext cx="2971800" cy="60948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1522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The </a:t>
            </a:r>
            <a:r>
              <a:rPr b="1" lang="en-US" sz="4800" spc="-1" strike="noStrike">
                <a:solidFill>
                  <a:srgbClr val="ffff00"/>
                </a:solidFill>
                <a:latin typeface="Arial Unicode MS"/>
              </a:rPr>
              <a:t>for</a:t>
            </a: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 loop (1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7120" y="1193760"/>
            <a:ext cx="74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he three sections of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loop must be separated by a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semicolon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560" y="261000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he statement, which forms the body of the loop, can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either be a single statement or a compound stat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7840" y="4041720"/>
            <a:ext cx="707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loop continues to execute as long as the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conditional test evaluates to true. When the condition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becomes false, the program resumes on the statement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following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loo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7800" y="90360"/>
            <a:ext cx="778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imple ‘ For loop ’ Examp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397160"/>
            <a:ext cx="762012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int num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lrscr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for(num = 0; num &lt;= 10; num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out &lt;&lt; num &lt;&lt; end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1523880"/>
            <a:ext cx="3809880" cy="119124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63a0"/>
                </a:solidFill>
                <a:latin typeface="Courier New"/>
                <a:ea typeface="Courier New"/>
              </a:rPr>
              <a:t>This will print the numbers 0 to 10 on successive l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95240" y="380880"/>
            <a:ext cx="57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Session Objectiv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200" y="1447920"/>
            <a:ext cx="49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dentify the iteration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272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Understand simple control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676520"/>
            <a:ext cx="777240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The whil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The do… while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Nested while and do…while loop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The for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Multiple initialisations / increments in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 Unicode MS"/>
              </a:rPr>
              <a:t>Nested for loops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25920" y="304920"/>
            <a:ext cx="90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 Unicode MS"/>
              </a:rPr>
              <a:t>Multiple Initialization / Inc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2201760"/>
          <a:ext cx="495288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1760"/>
                    <a:ext cx="495288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52520" y="1233360"/>
            <a:ext cx="82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following loop is used for multiple initialization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1203480"/>
            <a:ext cx="853416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 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int bats_score, team_score, bats_no, runs_scored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har c_quit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lrscr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for(team_score = 0, bats_no = 1; bats_no &lt;= 11 &amp;&amp; c_quit != 'Y' &amp;&amp; c_quit != 'y'; bats_no++, team_score += runs_scor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out &lt;&lt; "\nTEAM SCORE: " &lt;&lt; team_scor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out &lt;&lt; "\t\tBATSMAN " &lt;&lt; bats_no &lt;&lt; " - RUNS SCORED: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in &gt;&gt; runs_scored ;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43520" y="90360"/>
            <a:ext cx="35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xample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8080" y="1355760"/>
            <a:ext cx="762012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if(bats_no &lt; 1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out &lt;&lt; "Quit entering data (Y/N) ?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in &gt;&gt; c_quit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}  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</a:rPr>
              <a:t>cout &lt;&lt; "\nTOTAL TEAM SCORE: " &lt;&lt; team_score 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43520" y="90360"/>
            <a:ext cx="35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xample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8080" y="838080"/>
            <a:ext cx="7620120" cy="5306040"/>
          </a:xfrm>
          <a:prstGeom prst="rect">
            <a:avLst/>
          </a:prstGeom>
          <a:gradFill rotWithShape="0">
            <a:gsLst>
              <a:gs pos="0">
                <a:srgbClr val="d1d1ff"/>
              </a:gs>
              <a:gs pos="50000">
                <a:srgbClr val="fefefe"/>
              </a:gs>
              <a:gs pos="100000">
                <a:srgbClr val="d1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TEAM SCORE: 0           BATSMAN 1 - RUNS SCORED: 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Quit entering data (Y/N) ?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TEAM SCORE: 56          BATSMAN 2 - RUNS SCORED: 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Quit entering data (Y/N) ?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TEAM SCORE: 112         BATSMAN 3 - RUNS SCORED: 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Quit entering data (Y/N) ?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TEAM SCORE: 188         BATSMAN 4 - RUNS SCORED: 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Quit entering data (Y/N) ?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TEAM SCORE: 244         BATSMAN 5 - RUNS SCORED: 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Quit entering data (Y/N) ?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TEAM SCORE: 300         BATSMAN 6 - RUNS SCORED: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Quit entering data (Y/N) ?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TOTAL TEAM SCORE: 3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08600" y="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Example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39840" y="76320"/>
            <a:ext cx="534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Nested </a:t>
            </a:r>
            <a:r>
              <a:rPr b="1" lang="en-US" sz="4800" spc="-1" strike="noStrike">
                <a:solidFill>
                  <a:srgbClr val="ffff00"/>
                </a:solidFill>
                <a:latin typeface="Arial Unicode MS"/>
              </a:rPr>
              <a:t>for</a:t>
            </a: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 Loop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2333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SzPct val="102805"/>
              <a:buBlip>
                <a:blip r:embed="rId1"/>
              </a:buBlip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e general syntax of the nest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loop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6668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for (expression 1; expression 2; expression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	</a:t>
            </a: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for (expression 1; expression 2; expression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	</a:t>
            </a: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	</a:t>
            </a:r>
            <a:r>
              <a:rPr b="1" i="1" lang="en-GB" sz="2400" spc="-1" strike="noStrike">
                <a:solidFill>
                  <a:srgbClr val="ffccff"/>
                </a:solidFill>
                <a:latin typeface="Arial Unicode MS"/>
              </a:rPr>
              <a:t>Processing statement</a:t>
            </a: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41360" y="12528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Simple ‘Nested For loop ’ Exam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044720"/>
            <a:ext cx="4800600" cy="47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#include &lt;iostream.h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#include &lt;conio.h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void main(vo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int i, j, k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i = 0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clrscr()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cout &lt;&lt; "Enter number of rows: "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cin &gt;&gt; i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cout &lt;&lt; endl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for(j = 0; j &lt; i; j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cout &lt;&lt; "\n"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for(k = 0; k &lt;= j; k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cout &lt;&lt; "*"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8f378d"/>
                </a:solidFill>
                <a:latin typeface="Courier New"/>
              </a:rPr>
              <a:t>}}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3657600" cy="3111480"/>
          </a:xfrm>
          <a:prstGeom prst="rect">
            <a:avLst/>
          </a:prstGeom>
          <a:gradFill rotWithShape="0">
            <a:gsLst>
              <a:gs pos="0">
                <a:srgbClr val="b18bab"/>
              </a:gs>
              <a:gs pos="100000">
                <a:srgbClr val="ffc9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Courier New"/>
              </a:rPr>
              <a:t>Enter number of rows: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*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**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***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****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*****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******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44"/>
                </a:solidFill>
                <a:latin typeface="Arial Unicode MS"/>
              </a:rPr>
              <a:t>********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39400" y="76320"/>
            <a:ext cx="674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The Comma Opera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2333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SzPct val="102805"/>
              <a:buBlip>
                <a:blip r:embed="rId1"/>
              </a:buBlip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mma Op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26668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 Unicode MS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b = 5, a = (++b), a +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The value of the expression is 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12</a:t>
            </a: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. When the last sub-expression; that is, 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a + b</a:t>
            </a: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 is calculated, 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b</a:t>
            </a: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 has the value of 6 and 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a </a:t>
            </a:r>
            <a:r>
              <a:rPr b="1" lang="en-GB" sz="2400" spc="-1" strike="noStrike">
                <a:solidFill>
                  <a:srgbClr val="ffccff"/>
                </a:solidFill>
                <a:latin typeface="Arial Unicode MS"/>
              </a:rPr>
              <a:t>has the value of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12333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SzPct val="102805"/>
              <a:buBlip>
                <a:blip r:embed="rId1"/>
              </a:buBlip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break’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6668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 Unicode MS"/>
              </a:rPr>
              <a:t>The break statement used within a loop causes the loop to be terminated and forces the execution to proceed with the statements following that loo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43800" y="152280"/>
            <a:ext cx="659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The </a:t>
            </a:r>
            <a:r>
              <a:rPr b="1" lang="en-US" sz="4800" spc="-1" strike="noStrike">
                <a:solidFill>
                  <a:srgbClr val="ffff00"/>
                </a:solidFill>
                <a:latin typeface="Arial Unicode MS"/>
              </a:rPr>
              <a:t>break</a:t>
            </a: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 State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55960" y="190440"/>
            <a:ext cx="703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 Unicode MS"/>
              </a:rPr>
              <a:t>Simple ‘ break ’ Example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508040"/>
            <a:ext cx="762012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int i, num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lrscr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for(i = 0; i &lt; 10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out &lt;&lt; "Enter any number between 1 &amp; 10: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31920" y="76320"/>
            <a:ext cx="703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 Unicode MS"/>
              </a:rPr>
              <a:t>Simple ‘ break ’ Exampl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4800600"/>
            <a:ext cx="6400800" cy="1191240"/>
          </a:xfrm>
          <a:prstGeom prst="rect">
            <a:avLst/>
          </a:prstGeom>
          <a:gradFill rotWithShape="0">
            <a:gsLst>
              <a:gs pos="0">
                <a:srgbClr val="f20c69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any number between 1 &amp; 10: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any number between 1 &amp; 10: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Break statement exec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990720"/>
            <a:ext cx="731520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in &gt;&gt; num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out &lt;&lt; end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if(num == 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out &lt;&lt; "\nBreak statement executed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11840" y="380880"/>
            <a:ext cx="63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Iteration Construc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3960" y="152388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teration constructs supported by C++  incl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876920"/>
            <a:ext cx="6629400" cy="1218960"/>
          </a:xfrm>
          <a:custGeom>
            <a:avLst/>
            <a:gdLst>
              <a:gd name="textAreaLeft" fmla="*/ 0 w 6629400"/>
              <a:gd name="textAreaRight" fmla="*/ 6629760 w 6629400"/>
              <a:gd name="textAreaTop" fmla="*/ 158040 h 1218960"/>
              <a:gd name="textAreaBottom" fmla="*/ 10609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ce1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44"/>
                </a:solidFill>
                <a:latin typeface="Times New Roman"/>
              </a:rPr>
              <a:t>fo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loo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286000"/>
            <a:ext cx="6629400" cy="1219320"/>
          </a:xfrm>
          <a:custGeom>
            <a:avLst/>
            <a:gdLst>
              <a:gd name="textAreaLeft" fmla="*/ 0 w 6629400"/>
              <a:gd name="textAreaRight" fmla="*/ 6629760 w 662940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ce1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Th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44"/>
                </a:solidFill>
                <a:latin typeface="Times New Roman"/>
              </a:rPr>
              <a:t>whil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loo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581280"/>
            <a:ext cx="6629400" cy="1219320"/>
          </a:xfrm>
          <a:custGeom>
            <a:avLst/>
            <a:gdLst>
              <a:gd name="textAreaLeft" fmla="*/ 0 w 6629400"/>
              <a:gd name="textAreaRight" fmla="*/ 6629760 w 662940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ce1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Th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44"/>
                </a:solidFill>
                <a:latin typeface="Times New Roman"/>
              </a:rPr>
              <a:t>do….whil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loo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12333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SzPct val="102805"/>
              <a:buBlip>
                <a:blip r:embed="rId1"/>
              </a:buBlip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ntinue’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6668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 Unicode MS"/>
              </a:rPr>
              <a:t>When continue statement is encountered in a loop, the rest of the statements in the loop are skipped and the control passes to the condition, which is evaluated and if TRUE the loop is entered again.</a:t>
            </a: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6720" y="76320"/>
            <a:ext cx="753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The </a:t>
            </a:r>
            <a:r>
              <a:rPr b="1" lang="en-US" sz="4800" spc="-1" strike="noStrike">
                <a:solidFill>
                  <a:srgbClr val="ffff00"/>
                </a:solidFill>
                <a:latin typeface="Arial Unicode MS"/>
              </a:rPr>
              <a:t>continue</a:t>
            </a: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 State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13880" y="90360"/>
            <a:ext cx="79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imple ‘ continue ’ Examp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990720"/>
            <a:ext cx="762012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int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clrscr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for(i = 1; i &lt;= 100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if(i % 9 ==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continu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cout &lt;&lt; i &lt;&lt; "\t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1143000"/>
            <a:ext cx="3657600" cy="1557000"/>
          </a:xfrm>
          <a:prstGeom prst="rect">
            <a:avLst/>
          </a:prstGeom>
          <a:gradFill rotWithShape="0">
            <a:gsLst>
              <a:gs pos="0">
                <a:srgbClr val="914f5f"/>
              </a:gs>
              <a:gs pos="50000">
                <a:srgbClr val="fd8ba6"/>
              </a:gs>
              <a:gs pos="100000">
                <a:srgbClr val="914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This prints all the numbers from 1 to 100 which are not divisible by 9.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61640" y="141120"/>
            <a:ext cx="896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 ‘ </a:t>
            </a: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continue and break’ Example (1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2193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i_num, i_total = 0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lrscr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Enter a number (0 to quit) :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in &gt;&gt; i_num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f(i_num ==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 if(i_num &lt;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ntinu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61640" y="141120"/>
            <a:ext cx="896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 ‘ </a:t>
            </a: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continue and break’ Example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4175280"/>
            <a:ext cx="7543800" cy="1618560"/>
          </a:xfrm>
          <a:prstGeom prst="rect">
            <a:avLst/>
          </a:prstGeom>
          <a:gradFill rotWithShape="0">
            <a:gsLst>
              <a:gs pos="0">
                <a:srgbClr val="8f378d"/>
              </a:gs>
              <a:gs pos="100000">
                <a:srgbClr val="d2af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a number (0 to quit) : 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a number (0 to quit) : 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a number (0 to quit) : 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a number (0 to quit) :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The sum of all the positive values entered : 17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79440"/>
            <a:ext cx="8229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_total += i_num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 while(1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The sum of all the positive values entered : " &lt;&lt; i_tota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ch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" y="12333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SzPct val="102805"/>
              <a:buBlip>
                <a:blip r:embed="rId1"/>
              </a:buBlip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xit() Constr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6668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Arial Unicode MS"/>
              </a:rPr>
              <a:t>The function exit() is used to terminate a program immediately. An exit() is used to check if a mandatory condition for a program execution is satisfied or not. The general form of an exit() 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exit(int return_c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09400" y="152280"/>
            <a:ext cx="618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Arial Unicode MS"/>
              </a:rPr>
              <a:t>The exit() Construc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44840" y="0"/>
            <a:ext cx="776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 ‘ </a:t>
            </a: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exit() construct’ Example (1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1127160"/>
            <a:ext cx="762012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#include &lt;process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int val = 1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har c_entry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lrscr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while(val &lt;= 5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out &lt;&lt; "Val =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in &gt;&gt; va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out &lt;&lt; "Enter E to exit system immediately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in &gt;&gt; c_entry ;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3840" y="90360"/>
            <a:ext cx="84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‘ 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xit() construct’ Example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600200"/>
            <a:ext cx="762012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if(c_entry == 'E' || c_entry == 'e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exit(0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   </a:t>
            </a: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cout &lt;&lt; "Exiting system...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63a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4038480"/>
            <a:ext cx="7848720" cy="1557000"/>
          </a:xfrm>
          <a:prstGeom prst="rect">
            <a:avLst/>
          </a:prstGeom>
          <a:gradFill rotWithShape="0">
            <a:gsLst>
              <a:gs pos="0">
                <a:srgbClr val="f20c69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Val = 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E to exit system immediately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Val =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E to exit system immediately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22680" y="141120"/>
            <a:ext cx="55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 Unicode MS"/>
              </a:rPr>
              <a:t>        </a:t>
            </a:r>
            <a:r>
              <a:rPr b="1" lang="en-US" sz="4400" spc="-1" strike="noStrike">
                <a:solidFill>
                  <a:srgbClr val="66ffff"/>
                </a:solidFill>
                <a:latin typeface="Arial Unicode MS"/>
              </a:rPr>
              <a:t>Basics of Loo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438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e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Step 1: - Initialising the control variable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4434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e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Step 2: - Evaluating expression</a:t>
            </a:r>
            <a:r>
              <a:rPr b="1" lang="en-GB" sz="2800" spc="-1" strike="noStrike">
                <a:solidFill>
                  <a:srgbClr val="f1550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1550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5864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Step 3: - Incrementing the value of control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0240" y="1393920"/>
            <a:ext cx="82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8d43"/>
                </a:solidFill>
                <a:latin typeface="Arial Unicode MS"/>
              </a:rPr>
              <a:t>Standard Algorithm for any loop construct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01280" y="90360"/>
            <a:ext cx="47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ffff"/>
                </a:solidFill>
                <a:latin typeface="Arial Unicode MS"/>
              </a:rPr>
              <a:t>The while loop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7920" y="1219320"/>
            <a:ext cx="7321680" cy="17398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Unicode MS"/>
              </a:rPr>
              <a:t>The ‘while’ loop iterates unti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Unicode MS"/>
              </a:rPr>
              <a:t>expression is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508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Arial Unicode MS"/>
              </a:rPr>
              <a:t>while (expres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Arial Unicode MS"/>
              </a:rPr>
              <a:t>             </a:t>
            </a:r>
            <a:r>
              <a:rPr b="1" lang="en-GB" sz="2800" spc="-1" strike="noStrike">
                <a:solidFill>
                  <a:srgbClr val="ffccff"/>
                </a:solidFill>
                <a:latin typeface="Arial Unicode MS"/>
              </a:rPr>
              <a:t>Processing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01440" y="90360"/>
            <a:ext cx="69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imple ‘ while ’ Examp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143000"/>
            <a:ext cx="7620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iostream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con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{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x = 0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lrscr() ;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while(x &lt;= 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x++ &lt;&lt; endl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333520"/>
            <a:ext cx="3809880" cy="1191240"/>
          </a:xfrm>
          <a:prstGeom prst="rect">
            <a:avLst/>
          </a:prstGeom>
          <a:gradFill rotWithShape="0">
            <a:gsLst>
              <a:gs pos="0">
                <a:srgbClr val="f20c69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This will print the numbers 0 to 10 on successive l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94200" y="0"/>
            <a:ext cx="49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 ‘ </a:t>
            </a: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while ’ Example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050840"/>
            <a:ext cx="7620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nt marks, att_percent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grade, cont = 'Y'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hile(cont != 'N' &amp;&amp; cont != 'n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lrscr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Enter MARKS: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in &gt;&gt; marks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end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Enter ATTENDANCE PERCENTAGE: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in &gt;&gt; att_percent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endl ;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01592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witch(marks &gt;= 8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      case 1 : grade = 'A'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0 : switch(marks &gt;= 60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1 : switch(att_percent &gt;= 8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1 : grade = 'A'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0 : grade = 'B'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  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0 : switch(marks &gt;= 3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1 : switch(att_percent &gt;= 8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1 : grade = 'C'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94200" y="0"/>
            <a:ext cx="49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 ‘ </a:t>
            </a: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while ’ Exampl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822240"/>
            <a:ext cx="7619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0 : grade = 'P'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  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0 : grade ='F'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   }  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Grade: " &lt;&lt; grade &lt;&lt; end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Continue (Y/N) : 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in &gt;&gt; cont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317840"/>
            <a:ext cx="5943600" cy="1739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MARKS: 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urier New"/>
                <a:ea typeface="Courier New"/>
              </a:rPr>
              <a:t>Enter ATTENDANCE PERCENTAGE: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urier New"/>
                <a:ea typeface="Courier New"/>
              </a:rPr>
              <a:t>Grade: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urier New"/>
                <a:ea typeface="Courier New"/>
              </a:rPr>
              <a:t>Continue (Y/N) :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94200" y="60480"/>
            <a:ext cx="49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 ‘ </a:t>
            </a: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while ’ Example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03:13:45Z</dcterms:created>
  <dc:creator>Amit Shindore</dc:creator>
  <dc:description/>
  <dc:language>en-US</dc:language>
  <cp:lastModifiedBy>Sindhu</cp:lastModifiedBy>
  <dcterms:modified xsi:type="dcterms:W3CDTF">2001-09-20T05:57:30Z</dcterms:modified>
  <cp:revision>174</cp:revision>
  <dc:subject/>
  <dc:title>PowerPoint Presentation</dc:title>
</cp:coreProperties>
</file>