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69A-8F72-41BC-95E6-42394239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CB0-7E5A-478A-A74B-6B473519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2F5-59B1-4F3D-9F32-6021D570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FF6-003C-456B-BFE9-65ACA5BC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0BA-EA21-419D-8C99-5A72F7DE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083-2B86-4C9A-A7F2-EE26732D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A25-9D39-49C9-BCE1-0311E3F2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555-A44E-460B-8B3D-65F7490F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2A8-EF21-47C2-B3C9-43F70068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EBE-8B58-4ACE-8859-910B8ADB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CF3-F896-403F-90A5-0E864E65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992-5B5C-4A63-ABCB-B09DB3A5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0" y="6553080"/>
            <a:ext cx="91440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Linux, C, C++ / Object Oriented Programming with C++ / Session 4 / </a:t>
            </a:r>
            <a:fld id="{A00344EC-931A-4D4A-B3BD-06A0A6DF14A5}" type="slidenum"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 of 2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5D94-93D5-4C10-929A-2BC9887D94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80680" y="90360"/>
            <a:ext cx="285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600200" y="1295280"/>
            <a:ext cx="6095880" cy="42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Impact"/>
              </a:rPr>
              <a:t>Program Control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cc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Impact"/>
              </a:rPr>
              <a:t>     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Impact"/>
              </a:rPr>
              <a:t>Statements - 1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22440" y="76320"/>
            <a:ext cx="624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wo way selection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1447920"/>
            <a:ext cx="6400800" cy="19227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ffff00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if (expre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Processing statement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Processing statement 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3505320"/>
            <a:ext cx="6172200" cy="26542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ffff00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if (expre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Processing statement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else if(expression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Processing statement 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Processing statement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29040" y="76320"/>
            <a:ext cx="624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wo way selection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286000"/>
            <a:ext cx="8534160" cy="37515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ffff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if(score &gt;= 7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grade = 'A'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Excellent. Grade: " &lt;&lt; grad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grade = 'B'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Average. Grade: " &lt;&lt; grad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1279440"/>
            <a:ext cx="3962160" cy="1923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Enter the score: 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Excellent. Grade: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Enter the score: 5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Average. Grade: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57640" y="152280"/>
            <a:ext cx="624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wo way selection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280" y="1371600"/>
          <a:ext cx="63198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63198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562720" y="2057400"/>
            <a:ext cx="3429000" cy="3143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Enter the score: 3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Failed. Grade: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Enter the score: 5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Average. Grade: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Enter the score: 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Excellent. Grade: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00040" y="1676520"/>
            <a:ext cx="7239240" cy="39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if (expression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if (expression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Processing statement 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Processing statement 2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0760" y="152280"/>
            <a:ext cx="65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Nested ‘ if ‘ statement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590920"/>
            <a:ext cx="762120" cy="2057400"/>
          </a:xfrm>
          <a:custGeom>
            <a:avLst/>
            <a:gdLst>
              <a:gd name="textAreaLeft" fmla="*/ 487080 w 762120"/>
              <a:gd name="textAreaRight" fmla="*/ 762480 w 7621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828800"/>
            <a:ext cx="762120" cy="3276720"/>
          </a:xfrm>
          <a:custGeom>
            <a:avLst/>
            <a:gdLst>
              <a:gd name="textAreaLeft" fmla="*/ 487080 w 762120"/>
              <a:gd name="textAreaRight" fmla="*/ 762480 w 7621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900080"/>
            <a:ext cx="138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An i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Wi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an 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55080" y="76320"/>
            <a:ext cx="599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witch statement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95560" y="3409920"/>
            <a:ext cx="7262640" cy="1390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Multi-way</a:t>
            </a:r>
            <a:endParaRPr b="0" lang="en-US" sz="2400" spc="1" strike="noStrike">
              <a:ln w="1260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decision-making</a:t>
            </a:r>
            <a:endParaRPr b="0" lang="en-US" sz="2400" spc="1" strike="noStrike">
              <a:ln w="1260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construct</a:t>
            </a:r>
            <a:endParaRPr b="0" lang="en-US" sz="2400" spc="1" strike="noStrike">
              <a:ln w="1260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50160" y="76320"/>
            <a:ext cx="599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witch statement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76520" y="1143000"/>
            <a:ext cx="61722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Test whether an </a:t>
            </a:r>
            <a:endParaRPr b="0" lang="en-US" sz="2400" spc="1" strike="noStrike">
              <a:ln w="1260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expression matches a </a:t>
            </a:r>
            <a:endParaRPr b="0" lang="en-US" sz="2400" spc="1" strike="noStrike">
              <a:ln w="1260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number of </a:t>
            </a:r>
            <a:endParaRPr b="0" lang="en-US" sz="2400" spc="1" strike="noStrike">
              <a:ln w="1260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constant values</a:t>
            </a:r>
            <a:endParaRPr b="0" lang="en-US" sz="2400" spc="1" strike="noStrike">
              <a:ln w="1260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and branches</a:t>
            </a:r>
            <a:endParaRPr b="0" lang="en-US" sz="2400" spc="1" strike="noStrike">
              <a:ln w="1260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accordingly</a:t>
            </a:r>
            <a:endParaRPr b="0" lang="en-US" sz="2400" spc="1" strike="noStrike">
              <a:ln w="1260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18480" y="76320"/>
            <a:ext cx="599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witch statement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14300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witch (expre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ase value 1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ssing sta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ase value 2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ssing sta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reak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essing sta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90720" y="5029200"/>
            <a:ext cx="71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20c6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eater alternative to if els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20c6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33520" y="4952880"/>
            <a:ext cx="6400800" cy="990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3733920"/>
            <a:ext cx="6400800" cy="990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2590920"/>
            <a:ext cx="6400800" cy="990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447920"/>
            <a:ext cx="6400800" cy="990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18480" y="76320"/>
            <a:ext cx="599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witch statement (4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120" y="1596960"/>
            <a:ext cx="54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The body of the switch statement shou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be enclosed in br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0920" y="289260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The values with case should be 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8760" y="3822840"/>
            <a:ext cx="564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If any of the values match, the state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following that case till break are exec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04180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The keyword ‘break’ is used to indicate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end of processing statements under a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 rot="5400000">
            <a:off x="5314680" y="3295440"/>
            <a:ext cx="541008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In switch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6320" y="152280"/>
            <a:ext cx="494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Keyword Defaul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6400" y="1781280"/>
            <a:ext cx="7702560" cy="283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Arial Unicode MS"/>
              </a:rPr>
              <a:t>If none of the case values match the result of the expression, then the statements following </a:t>
            </a:r>
            <a:r>
              <a:rPr b="1" lang="en-US" sz="3600" spc="-1" strike="noStrike">
                <a:solidFill>
                  <a:srgbClr val="ff3300"/>
                </a:solidFill>
                <a:latin typeface="Arial Unicode MS"/>
              </a:rPr>
              <a:t>default </a:t>
            </a:r>
            <a:r>
              <a:rPr b="1" lang="en-US" sz="3600" spc="-1" strike="noStrike">
                <a:solidFill>
                  <a:srgbClr val="000044"/>
                </a:solidFill>
                <a:latin typeface="Arial Unicode MS"/>
              </a:rPr>
              <a:t>, which is optional, are execu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990720"/>
            <a:ext cx="8534160" cy="5031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switch(dest_choi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se 1 : cout &lt;&lt; "Delhi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break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se 2 : cout &lt;&lt; "Mumbai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break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se 3 : cout &lt;&lt; "Chennai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break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se 4 : cout &lt;&lt; "Calcutta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break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se 5 : cout &lt;&lt; "Bangalore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break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se 6 : clrscr(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break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default : clrscr(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Invalid entry. Valid (1-6)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break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853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763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Menu structure program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81400" y="76320"/>
            <a:ext cx="56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  <a:ea typeface="Times New Roman"/>
              </a:rPr>
              <a:t>Session Objective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69840" y="1143000"/>
            <a:ext cx="6193080" cy="685800"/>
            <a:chOff x="969840" y="1143000"/>
            <a:chExt cx="6193080" cy="685800"/>
          </a:xfrm>
        </p:grpSpPr>
        <p:sp>
          <p:nvSpPr>
            <p:cNvPr id="142" name=""/>
            <p:cNvSpPr/>
            <p:nvPr/>
          </p:nvSpPr>
          <p:spPr>
            <a:xfrm>
              <a:off x="990720" y="114300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69840" y="1260720"/>
              <a:ext cx="42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44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Explain the selection construc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274760" y="2057400"/>
            <a:ext cx="6192720" cy="685800"/>
            <a:chOff x="1274760" y="2057400"/>
            <a:chExt cx="6192720" cy="685800"/>
          </a:xfrm>
        </p:grpSpPr>
        <p:sp>
          <p:nvSpPr>
            <p:cNvPr id="145" name=""/>
            <p:cNvSpPr/>
            <p:nvPr/>
          </p:nvSpPr>
          <p:spPr>
            <a:xfrm>
              <a:off x="1295280" y="205740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4760" y="2133720"/>
              <a:ext cx="246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The if stat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289520" y="2743200"/>
            <a:ext cx="6177960" cy="685800"/>
            <a:chOff x="1289520" y="2743200"/>
            <a:chExt cx="6177960" cy="685800"/>
          </a:xfrm>
        </p:grpSpPr>
        <p:sp>
          <p:nvSpPr>
            <p:cNvPr id="148" name=""/>
            <p:cNvSpPr/>
            <p:nvPr/>
          </p:nvSpPr>
          <p:spPr>
            <a:xfrm>
              <a:off x="1295280" y="274320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89520" y="2835000"/>
              <a:ext cx="33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The if….else stat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87360" y="3429000"/>
            <a:ext cx="6180120" cy="685800"/>
            <a:chOff x="1287360" y="3429000"/>
            <a:chExt cx="6180120" cy="685800"/>
          </a:xfrm>
        </p:grpSpPr>
        <p:sp>
          <p:nvSpPr>
            <p:cNvPr id="151" name=""/>
            <p:cNvSpPr/>
            <p:nvPr/>
          </p:nvSpPr>
          <p:spPr>
            <a:xfrm>
              <a:off x="1295280" y="342900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87360" y="3504960"/>
              <a:ext cx="428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The if..else…if…else stat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278000" y="4114800"/>
            <a:ext cx="6189480" cy="685800"/>
            <a:chOff x="1278000" y="4114800"/>
            <a:chExt cx="6189480" cy="685800"/>
          </a:xfrm>
        </p:grpSpPr>
        <p:sp>
          <p:nvSpPr>
            <p:cNvPr id="154" name=""/>
            <p:cNvSpPr/>
            <p:nvPr/>
          </p:nvSpPr>
          <p:spPr>
            <a:xfrm>
              <a:off x="1295280" y="411480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78000" y="4232520"/>
              <a:ext cx="170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Nested i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274760" y="4800600"/>
            <a:ext cx="6192720" cy="685800"/>
            <a:chOff x="1274760" y="4800600"/>
            <a:chExt cx="6192720" cy="685800"/>
          </a:xfrm>
        </p:grpSpPr>
        <p:sp>
          <p:nvSpPr>
            <p:cNvPr id="157" name=""/>
            <p:cNvSpPr/>
            <p:nvPr/>
          </p:nvSpPr>
          <p:spPr>
            <a:xfrm>
              <a:off x="1295280" y="480060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74760" y="487692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The switch stat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293840" y="5486400"/>
            <a:ext cx="6173640" cy="685800"/>
            <a:chOff x="1293840" y="5486400"/>
            <a:chExt cx="6173640" cy="685800"/>
          </a:xfrm>
        </p:grpSpPr>
        <p:sp>
          <p:nvSpPr>
            <p:cNvPr id="160" name=""/>
            <p:cNvSpPr/>
            <p:nvPr/>
          </p:nvSpPr>
          <p:spPr>
            <a:xfrm>
              <a:off x="1295280" y="548640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3840" y="55782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Nested switch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4853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1981080"/>
            <a:ext cx="472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1. Del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2. Mumb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3. Chenn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4. Calcut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5. Bangal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6. 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hoose your destination (1-5) or enter 6 to exit: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ination chosen: Chenn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7632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Menu structure program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90720" y="914400"/>
            <a:ext cx="7162560" cy="5181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22360" y="76320"/>
            <a:ext cx="64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mission of ‘break’(1)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81080" y="2190600"/>
            <a:ext cx="5410440" cy="2837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The break statement can be omitted when the same operation is to be performed for a number of c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1143000"/>
            <a:ext cx="8076960" cy="5031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har ch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Enter a vowel / consonant / space: 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h = getche() 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endl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 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switch (c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se ‘a’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se ‘e’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se ‘i’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se ‘o’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se ‘u’ :cout &lt;&lt; "You entered a vowel" &lt;&lt; end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break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ase ‘ ‘ :cout &lt;&lt; "You entered a space" &lt;&lt; endl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break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default  :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You entered a consonant"&lt;&lt; endl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break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67080" y="1752480"/>
            <a:ext cx="4191120" cy="175284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22360" y="76320"/>
            <a:ext cx="64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mission of ‘break’(2)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44400" y="2133720"/>
            <a:ext cx="394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getche() is used to accept 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character as inp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including spac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22360" y="76320"/>
            <a:ext cx="64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mission of ‘break’(3)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1971720"/>
            <a:ext cx="7086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utpu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 a vowel / consonant / sp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You entered a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utpu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 a vowel / consonant / space: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You entered a vow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09960" y="90360"/>
            <a:ext cx="46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troduction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88200" y="1241280"/>
            <a:ext cx="6932160" cy="1739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Control flow statements are use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change the flow of programs after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test or decision is tak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BD04912_" descr=""/>
          <p:cNvPicPr/>
          <p:nvPr/>
        </p:nvPicPr>
        <p:blipFill>
          <a:blip r:embed="rId1"/>
          <a:stretch/>
        </p:blipFill>
        <p:spPr>
          <a:xfrm>
            <a:off x="3490920" y="3124080"/>
            <a:ext cx="2224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62600" y="90360"/>
            <a:ext cx="46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troduction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87040" y="1273320"/>
            <a:ext cx="57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Program control statement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"/>
          <p:cNvCxnSpPr/>
          <p:nvPr/>
        </p:nvCxnSpPr>
        <p:spPr>
          <a:xfrm rot="5400000">
            <a:off x="1256400" y="2552400"/>
            <a:ext cx="2591640" cy="1143720"/>
          </a:xfrm>
          <a:prstGeom prst="bentConnector3">
            <a:avLst>
              <a:gd name="adj1" fmla="val 50000"/>
            </a:avLst>
          </a:prstGeom>
          <a:ln w="76320">
            <a:solidFill>
              <a:srgbClr val="ffccff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H="1" rot="16200000">
            <a:off x="5218560" y="2704680"/>
            <a:ext cx="2591640" cy="839160"/>
          </a:xfrm>
          <a:prstGeom prst="bentConnector3">
            <a:avLst>
              <a:gd name="adj1" fmla="val 50000"/>
            </a:avLst>
          </a:prstGeom>
          <a:ln w="76320">
            <a:solidFill>
              <a:srgbClr val="ffccff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314640" y="4572000"/>
            <a:ext cx="35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Arial Unicode MS"/>
              </a:rPr>
              <a:t>Decision constr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ff99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ff99"/>
                </a:solidFill>
                <a:latin typeface="Arial Unicode MS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Arial Unicode MS"/>
              </a:rPr>
              <a:t>Branching sta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47720" y="4692600"/>
            <a:ext cx="32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Arial Unicode MS"/>
              </a:rPr>
              <a:t>Iteration constr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85240" y="90360"/>
            <a:ext cx="584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ecision Construc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819440" y="1219320"/>
            <a:ext cx="602928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undamentally 3 construct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57200" y="2286000"/>
            <a:ext cx="8381520" cy="2743200"/>
            <a:chOff x="457200" y="2286000"/>
            <a:chExt cx="8381520" cy="2743200"/>
          </a:xfrm>
        </p:grpSpPr>
        <p:grpSp>
          <p:nvGrpSpPr>
            <p:cNvPr id="174" name=""/>
            <p:cNvGrpSpPr/>
            <p:nvPr/>
          </p:nvGrpSpPr>
          <p:grpSpPr>
            <a:xfrm>
              <a:off x="457200" y="2286000"/>
              <a:ext cx="1600200" cy="914400"/>
              <a:chOff x="457200" y="2286000"/>
              <a:chExt cx="1600200" cy="914400"/>
            </a:xfrm>
          </p:grpSpPr>
          <p:sp>
            <p:nvSpPr>
              <p:cNvPr id="175" name=""/>
              <p:cNvSpPr/>
              <p:nvPr/>
            </p:nvSpPr>
            <p:spPr>
              <a:xfrm>
                <a:off x="457200" y="2286000"/>
                <a:ext cx="1600200" cy="914400"/>
              </a:xfrm>
              <a:prstGeom prst="ellipse">
                <a:avLst/>
              </a:prstGeom>
              <a:gradFill rotWithShape="0">
                <a:gsLst>
                  <a:gs pos="0">
                    <a:srgbClr val="000044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1067040" y="2438280"/>
                <a:ext cx="352440" cy="64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if</a:t>
                </a:r>
                <a:endPara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819520" y="2590920"/>
              <a:ext cx="6019200" cy="2438280"/>
              <a:chOff x="2819520" y="2590920"/>
              <a:chExt cx="6019200" cy="2438280"/>
            </a:xfrm>
          </p:grpSpPr>
          <p:sp>
            <p:nvSpPr>
              <p:cNvPr id="178" name=""/>
              <p:cNvSpPr/>
              <p:nvPr/>
            </p:nvSpPr>
            <p:spPr>
              <a:xfrm>
                <a:off x="2819520" y="2590920"/>
                <a:ext cx="2742840" cy="1600200"/>
              </a:xfrm>
              <a:prstGeom prst="ellips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3352680" y="2971800"/>
                <a:ext cx="1914120" cy="64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if - else</a:t>
                </a:r>
                <a:endPara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19560" y="3505320"/>
                <a:ext cx="2819160" cy="1523880"/>
              </a:xfrm>
              <a:prstGeom prst="ellipse">
                <a:avLst/>
              </a:prstGeom>
              <a:gradFill rotWithShape="0">
                <a:gsLst>
                  <a:gs pos="0">
                    <a:srgbClr val="000044"/>
                  </a:gs>
                  <a:gs pos="100000">
                    <a:srgbClr val="008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6505560" y="3886200"/>
                <a:ext cx="1723680" cy="64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/>
                      </a:outerShdw>
                    </a:effectLst>
                    <a:latin typeface="Arial Black"/>
                  </a:rPr>
                  <a:t>switch</a:t>
                </a:r>
                <a:endPara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472120" y="76320"/>
            <a:ext cx="452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low of Contro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6704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52480" y="1295280"/>
          <a:ext cx="5715000" cy="43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95280"/>
                    <a:ext cx="571500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98000" y="90360"/>
            <a:ext cx="69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imple Selection ( if )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1447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urier New"/>
                <a:ea typeface="Courier New"/>
              </a:rPr>
              <a:t>if (expre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urier New"/>
                <a:ea typeface="Courier New"/>
              </a:rPr>
              <a:t>Processing statement_1 ;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4382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Executes when if(expression)=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3200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urier New"/>
                <a:ea typeface="Courier New"/>
              </a:rPr>
              <a:t>Processing statement_2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90204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Executes when if(expression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42958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  <a:ea typeface="Courier New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1055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after completion of processing statement  following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if(expre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82280" y="1344600"/>
            <a:ext cx="7782480" cy="1556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50000">
                <a:srgbClr val="d1c39f"/>
              </a:gs>
              <a:gs pos="100000">
                <a:srgbClr val="ffef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Arial Unicode MS"/>
              </a:rPr>
              <a:t>The ‘if’ construct can have more t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Arial Unicode MS"/>
              </a:rPr>
              <a:t>one processing statements enclo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Arial Unicode MS"/>
              </a:rPr>
              <a:t>                  </a:t>
            </a:r>
            <a:r>
              <a:rPr b="1" lang="en-US" sz="3200" spc="-1" strike="noStrike">
                <a:solidFill>
                  <a:srgbClr val="000044"/>
                </a:solidFill>
                <a:latin typeface="Arial Unicode MS"/>
              </a:rPr>
              <a:t>in curly bra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35082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urier New"/>
                <a:ea typeface="Courier New"/>
              </a:rPr>
              <a:t>if (expre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ffccff"/>
                </a:solidFill>
                <a:latin typeface="Courier New"/>
                <a:ea typeface="Courier New"/>
              </a:rPr>
              <a:t>Processing statement 1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ffccff"/>
                </a:solidFill>
                <a:latin typeface="Courier New"/>
                <a:ea typeface="Courier New"/>
              </a:rPr>
              <a:t>Processing statement 2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98000" y="90360"/>
            <a:ext cx="69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imple Selection ( if )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8080" y="1044720"/>
            <a:ext cx="7620120" cy="5306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#include &lt;iostream.h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#include &lt;conio.h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void main(vo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har grade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int score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Enter the score: "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in &gt;&gt; score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endl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if(score &gt;= 7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grade = 'A'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out &lt;&lt; "Excellent. Grade: " &lt;&lt; grade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32400" y="90360"/>
            <a:ext cx="578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imple ‘ if ’ Examp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1523880"/>
            <a:ext cx="3809880" cy="119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0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Enter the score: 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  <a:ea typeface="Courier New"/>
              </a:rPr>
              <a:t>Excellent. Grade: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01:36:51Z</dcterms:created>
  <dc:creator>Victor</dc:creator>
  <dc:description/>
  <dc:language>en-US</dc:language>
  <cp:lastModifiedBy>Sindhu</cp:lastModifiedBy>
  <dcterms:modified xsi:type="dcterms:W3CDTF">2001-09-20T06:27:21Z</dcterms:modified>
  <cp:revision>60</cp:revision>
  <dc:subject/>
  <dc:title>PowerPoint Presentation</dc:title>
</cp:coreProperties>
</file>