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.gif" ContentType="image/gi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9.png" ContentType="image/png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46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6.png" ContentType="image/png"/>
  <Override PartName="/ppt/media/image3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887C-5DDD-4E03-9959-06DD2DB00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2AF5-1FFF-4181-A291-F8DBBE5F0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945A-817D-44A1-9D3A-04E73F552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CA01-ED3A-4DCF-BE00-E5415808E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4B9A-F214-4568-A97C-207A14D52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3B31-F6E8-45CB-BA11-2291EC253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C61E-A2F9-4195-941B-85E805FD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AC65-D784-4CC4-920C-CD89724D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CC63-D743-4D2C-B557-D6AEC710A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13FA-6BBF-4980-8C8F-6BB3B5EE4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E5EC-31C9-48E2-A298-10286B976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2EB4-DC3F-4420-A099-924235F23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"/>
          <p:cNvSpPr/>
          <p:nvPr/>
        </p:nvSpPr>
        <p:spPr>
          <a:xfrm>
            <a:off x="4564440" y="6540480"/>
            <a:ext cx="469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Linux, C, C++ / Object Oriented Programming with C++ / Session 14 / </a:t>
            </a:r>
            <a:fld id="{D7A7D3E2-24D6-4B57-8EAD-1B557443CD3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of  3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68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7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BF49C-8F49-42DF-805F-F49CB2D9161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7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8.png"/><Relationship Id="rId7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3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4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5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6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739600" y="122400"/>
            <a:ext cx="320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Session 1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762120" y="1828800"/>
            <a:ext cx="769608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17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cc3300"/>
                    </a:gs>
                  </a:gsLst>
                  <a:lin ang="5400000"/>
                </a:gradFill>
                <a:latin typeface="Monotype Corsiva"/>
              </a:rPr>
              <a:t>IOStream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cc33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978480" y="122400"/>
            <a:ext cx="8096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Other </a:t>
            </a:r>
            <a:r>
              <a:rPr b="0" lang="en-US" sz="4800" spc="-1" strike="noStrike">
                <a:solidFill>
                  <a:srgbClr val="ffff00"/>
                </a:solidFill>
                <a:latin typeface="Arial Unicode MS"/>
              </a:rPr>
              <a:t>ostream</a:t>
            </a: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 functions (1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57560" y="1168560"/>
            <a:ext cx="801936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part from the overloaded operator &lt;&lt;, the ostream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class provides some other functions for outpu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028880" y="2514600"/>
            <a:ext cx="74293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6600ff"/>
                  </a:solidFill>
                  <a:miter/>
                </a:ln>
                <a:gradFill rotWithShape="0">
                  <a:gsLst>
                    <a:gs pos="0">
                      <a:srgbClr val="cc3300"/>
                    </a:gs>
                    <a:gs pos="50000">
                      <a:srgbClr val="ffff00"/>
                    </a:gs>
                    <a:gs pos="100000">
                      <a:srgbClr val="cc3300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6600ff"/>
                  </a:outerShdw>
                </a:effectLst>
                <a:latin typeface="Arial Black"/>
              </a:rPr>
              <a:t>ostream &amp;put (char) ;</a:t>
            </a:r>
            <a:endParaRPr b="0" lang="en-US" sz="2400" spc="1" strike="noStrike">
              <a:ln w="9360">
                <a:solidFill>
                  <a:srgbClr val="6600ff"/>
                </a:solidFill>
                <a:miter/>
              </a:ln>
              <a:gradFill rotWithShape="0">
                <a:gsLst>
                  <a:gs pos="0">
                    <a:srgbClr val="cc3300"/>
                  </a:gs>
                  <a:gs pos="50000">
                    <a:srgbClr val="ffff00"/>
                  </a:gs>
                  <a:gs pos="100000">
                    <a:srgbClr val="cc3300"/>
                  </a:gs>
                </a:gsLst>
                <a:lin ang="10800000"/>
              </a:gradFill>
              <a:effectLst>
                <a:outerShdw dist="17819" dir="2700000" blurRad="0" rotWithShape="0">
                  <a:srgbClr val="6600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2" name=""/>
          <p:cNvSpPr/>
          <p:nvPr/>
        </p:nvSpPr>
        <p:spPr>
          <a:xfrm>
            <a:off x="461520" y="3505320"/>
            <a:ext cx="37918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Only prints charact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022400" y="4419720"/>
            <a:ext cx="7429320" cy="647640"/>
            <a:chOff x="1022400" y="4419720"/>
            <a:chExt cx="7429320" cy="647640"/>
          </a:xfrm>
        </p:grpSpPr>
        <p:sp>
          <p:nvSpPr>
            <p:cNvPr id="194" name=""/>
            <p:cNvSpPr txBox="1"/>
            <p:nvPr/>
          </p:nvSpPr>
          <p:spPr>
            <a:xfrm>
              <a:off x="1022400" y="4419720"/>
              <a:ext cx="742932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6600ff"/>
                    </a:solidFill>
                    <a:miter/>
                  </a:ln>
                  <a:gradFill rotWithShape="0">
                    <a:gsLst>
                      <a:gs pos="0">
                        <a:srgbClr val="cc3300"/>
                      </a:gs>
                      <a:gs pos="50000">
                        <a:srgbClr val="ffff00"/>
                      </a:gs>
                      <a:gs pos="100000">
                        <a:srgbClr val="cc3300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6600ff"/>
                    </a:outerShdw>
                  </a:effectLst>
                  <a:latin typeface="Arial Black"/>
                </a:rPr>
                <a:t>cout put ('v');</a:t>
              </a:r>
              <a:endParaRPr b="0" lang="en-US" sz="2400" spc="1" strike="noStrike">
                <a:ln w="9360">
                  <a:solidFill>
                    <a:srgbClr val="6600ff"/>
                  </a:solidFill>
                  <a:miter/>
                </a:ln>
                <a:gradFill rotWithShape="0">
                  <a:gsLst>
                    <a:gs pos="0">
                      <a:srgbClr val="cc3300"/>
                    </a:gs>
                    <a:gs pos="50000">
                      <a:srgbClr val="ffff00"/>
                    </a:gs>
                    <a:gs pos="100000">
                      <a:srgbClr val="cc3300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6600ff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195" name=""/>
            <p:cNvSpPr txBox="1"/>
            <p:nvPr/>
          </p:nvSpPr>
          <p:spPr>
            <a:xfrm>
              <a:off x="3657600" y="4686480"/>
              <a:ext cx="133200" cy="264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Times New Roman"/>
                </a:rPr>
                <a:t>.</a:t>
              </a:r>
              <a:endPara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434160" y="5424480"/>
            <a:ext cx="849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his function also returns a reference to the cout obje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978480" y="122400"/>
            <a:ext cx="8096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Other </a:t>
            </a:r>
            <a:r>
              <a:rPr b="0" lang="en-US" sz="4800" spc="-1" strike="noStrike">
                <a:solidFill>
                  <a:srgbClr val="ffff00"/>
                </a:solidFill>
                <a:latin typeface="Arial Unicode MS"/>
              </a:rPr>
              <a:t>ostream</a:t>
            </a: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 functions (2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79080" y="1371600"/>
            <a:ext cx="70412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here is another function write() in this cla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914400" y="2538360"/>
            <a:ext cx="7429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6600ff"/>
                  </a:solidFill>
                  <a:miter/>
                </a:ln>
                <a:gradFill rotWithShape="0">
                  <a:gsLst>
                    <a:gs pos="0">
                      <a:srgbClr val="cc3300"/>
                    </a:gs>
                    <a:gs pos="50000">
                      <a:srgbClr val="ffff00"/>
                    </a:gs>
                    <a:gs pos="100000">
                      <a:srgbClr val="cc3300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6600ff"/>
                  </a:outerShdw>
                </a:effectLst>
                <a:latin typeface="Arial Black"/>
              </a:rPr>
              <a:t>ostream &amp;write (char *, int);</a:t>
            </a:r>
            <a:endParaRPr b="0" lang="en-US" sz="2400" spc="1" strike="noStrike">
              <a:ln w="9360">
                <a:solidFill>
                  <a:srgbClr val="6600ff"/>
                </a:solidFill>
                <a:miter/>
              </a:ln>
              <a:gradFill rotWithShape="0">
                <a:gsLst>
                  <a:gs pos="0">
                    <a:srgbClr val="cc3300"/>
                  </a:gs>
                  <a:gs pos="50000">
                    <a:srgbClr val="ffff00"/>
                  </a:gs>
                  <a:gs pos="100000">
                    <a:srgbClr val="cc3300"/>
                  </a:gs>
                </a:gsLst>
                <a:lin ang="10800000"/>
              </a:gradFill>
              <a:effectLst>
                <a:outerShdw dist="17819" dir="2700000" blurRad="0" rotWithShape="0">
                  <a:srgbClr val="6600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0" name=""/>
          <p:cNvSpPr/>
          <p:nvPr/>
        </p:nvSpPr>
        <p:spPr>
          <a:xfrm>
            <a:off x="378000" y="3733920"/>
            <a:ext cx="56833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his function prints an entire str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978480" y="122400"/>
            <a:ext cx="8096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Other </a:t>
            </a:r>
            <a:r>
              <a:rPr b="0" lang="en-US" sz="4800" spc="-1" strike="noStrike">
                <a:solidFill>
                  <a:srgbClr val="ffff00"/>
                </a:solidFill>
                <a:latin typeface="Arial Unicode MS"/>
              </a:rPr>
              <a:t>ostream</a:t>
            </a: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 functions (3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457200" y="1066680"/>
          <a:ext cx="8229600" cy="216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66680"/>
                    <a:ext cx="8229600" cy="21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"/>
          <p:cNvSpPr/>
          <p:nvPr/>
        </p:nvSpPr>
        <p:spPr>
          <a:xfrm>
            <a:off x="381240" y="3352680"/>
            <a:ext cx="18489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Output 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2286000" y="3505320"/>
          <a:ext cx="1488960" cy="2590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86000" y="3505320"/>
                    <a:ext cx="1488960" cy="25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978480" y="122400"/>
            <a:ext cx="8096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Other </a:t>
            </a:r>
            <a:r>
              <a:rPr b="0" lang="en-US" sz="4800" spc="-1" strike="noStrike">
                <a:solidFill>
                  <a:srgbClr val="ffff00"/>
                </a:solidFill>
                <a:latin typeface="Arial Unicode MS"/>
              </a:rPr>
              <a:t>ostream</a:t>
            </a: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 functions (4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49040" y="1168560"/>
            <a:ext cx="89125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he function flush() can be used to flush the output buff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51920" y="1919160"/>
            <a:ext cx="72543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he function endl() prints a new line charac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685800" y="2971800"/>
          <a:ext cx="769608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2971800"/>
                    <a:ext cx="769608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"/>
          <p:cNvSpPr txBox="1"/>
          <p:nvPr/>
        </p:nvSpPr>
        <p:spPr>
          <a:xfrm>
            <a:off x="4191120" y="3848040"/>
            <a:ext cx="838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or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3505320" y="4862520"/>
          <a:ext cx="2286000" cy="700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4862520"/>
                    <a:ext cx="2286000" cy="7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8520" y="122400"/>
            <a:ext cx="914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Formatting output with </a:t>
            </a:r>
            <a:r>
              <a:rPr b="0" lang="en-US" sz="4800" spc="-1" strike="noStrike">
                <a:solidFill>
                  <a:srgbClr val="ffff00"/>
                </a:solidFill>
                <a:latin typeface="Arial Unicode MS"/>
              </a:rPr>
              <a:t>cout </a:t>
            </a: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(1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51560" y="1168560"/>
            <a:ext cx="877608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he overloaded functions for the insertion operator &lt;&lt; of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 the ostream class formats the variables before display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53360" y="2224080"/>
            <a:ext cx="29613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efault format 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228600" y="2971800"/>
          <a:ext cx="8686800" cy="3124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2971800"/>
                    <a:ext cx="868680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-37440" y="122400"/>
            <a:ext cx="914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Formatting output with </a:t>
            </a:r>
            <a:r>
              <a:rPr b="0" lang="en-US" sz="4800" spc="-1" strike="noStrike">
                <a:solidFill>
                  <a:srgbClr val="ffff00"/>
                </a:solidFill>
                <a:latin typeface="Arial Unicode MS"/>
              </a:rPr>
              <a:t>cout </a:t>
            </a: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(2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295280" y="1219320"/>
          <a:ext cx="6553440" cy="48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219320"/>
                    <a:ext cx="6553440" cy="48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-37440" y="122400"/>
            <a:ext cx="914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Formatting output with </a:t>
            </a:r>
            <a:r>
              <a:rPr b="0" lang="en-US" sz="4800" spc="-1" strike="noStrike">
                <a:solidFill>
                  <a:srgbClr val="ffff00"/>
                </a:solidFill>
                <a:latin typeface="Arial Unicode MS"/>
              </a:rPr>
              <a:t>cout </a:t>
            </a: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(3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4280" y="1168560"/>
            <a:ext cx="15530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Outp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762120" y="2185920"/>
          <a:ext cx="7619760" cy="291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2185920"/>
                    <a:ext cx="7619760" cy="29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511720" y="122400"/>
            <a:ext cx="4863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Manipulators (1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14280" y="1168560"/>
            <a:ext cx="82342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here are several classes in the iostream.h header fi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2209680" y="1981080"/>
            <a:ext cx="4648320" cy="4011840"/>
            <a:chOff x="2209680" y="1981080"/>
            <a:chExt cx="4648320" cy="4011840"/>
          </a:xfrm>
        </p:grpSpPr>
        <p:graphicFrame>
          <p:nvGraphicFramePr>
            <p:cNvPr id="230" name=""/>
            <p:cNvGraphicFramePr/>
            <p:nvPr/>
          </p:nvGraphicFramePr>
          <p:xfrm>
            <a:off x="2209680" y="1981080"/>
            <a:ext cx="4648320" cy="40118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3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209680" y="1981080"/>
                      <a:ext cx="4648320" cy="4011840"/>
                    </a:xfrm>
                    <a:prstGeom prst="rect">
                      <a:avLst/>
                    </a:prstGeom>
                    <a:ln w="9360">
                      <a:solidFill>
                        <a:srgbClr val="000044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32" name=""/>
            <p:cNvSpPr/>
            <p:nvPr/>
          </p:nvSpPr>
          <p:spPr>
            <a:xfrm flipV="1">
              <a:off x="3065400" y="2590560"/>
              <a:ext cx="1008000" cy="106668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4905360" y="4038480"/>
              <a:ext cx="1114560" cy="110808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 flipV="1">
              <a:off x="4876920" y="2590560"/>
              <a:ext cx="1108080" cy="111420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 flipV="1">
              <a:off x="2971800" y="4038480"/>
              <a:ext cx="1108080" cy="111456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2151360" y="122400"/>
            <a:ext cx="4863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Manipulators (2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533520" y="1295280"/>
          <a:ext cx="8001000" cy="323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95280"/>
                    <a:ext cx="8001000" cy="32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4572000" y="4746600"/>
          <a:ext cx="3962520" cy="134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4746600"/>
                    <a:ext cx="3962520" cy="13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"/>
          <p:cNvSpPr/>
          <p:nvPr/>
        </p:nvSpPr>
        <p:spPr>
          <a:xfrm>
            <a:off x="2417760" y="5043600"/>
            <a:ext cx="18489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Output 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327320" y="122400"/>
            <a:ext cx="71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Changing Field Width (1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380880" y="1143000"/>
          <a:ext cx="838224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143000"/>
                    <a:ext cx="838224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854360" y="122400"/>
            <a:ext cx="547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Session Objectiv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99640" y="1285920"/>
            <a:ext cx="32392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iscuss IOStre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99640" y="2403360"/>
            <a:ext cx="43059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Work with File IOStre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98920" y="3527280"/>
            <a:ext cx="36644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ormat Output stre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98560" y="4673520"/>
            <a:ext cx="34358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reate Manipul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327320" y="122400"/>
            <a:ext cx="71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Changing Field Width (2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14280" y="1168560"/>
            <a:ext cx="18489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Output 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2057400" y="2057400"/>
          <a:ext cx="4267080" cy="1982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7400" y="2057400"/>
                    <a:ext cx="4267080" cy="19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047600" y="122400"/>
            <a:ext cx="724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Padding the extra plac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457200" y="1066680"/>
          <a:ext cx="8305920" cy="303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66680"/>
                    <a:ext cx="8305920" cy="303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>
            <a:off x="314280" y="4290840"/>
            <a:ext cx="18489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Output 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2057400" y="5180040"/>
          <a:ext cx="2971800" cy="763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57400" y="5180040"/>
                    <a:ext cx="2971800" cy="7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409040" y="122400"/>
            <a:ext cx="619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Setting The precis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457200" y="1143000"/>
          <a:ext cx="8153280" cy="329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143000"/>
                    <a:ext cx="8153280" cy="329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"/>
          <p:cNvSpPr/>
          <p:nvPr/>
        </p:nvSpPr>
        <p:spPr>
          <a:xfrm>
            <a:off x="436680" y="4662360"/>
            <a:ext cx="18489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Output 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3581280" y="4689360"/>
          <a:ext cx="2971800" cy="1406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581280" y="4689360"/>
                    <a:ext cx="2971800" cy="14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310680" y="990720"/>
            <a:ext cx="75607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he function only has the following prototypes 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719720" y="122400"/>
            <a:ext cx="6239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The </a:t>
            </a:r>
            <a:r>
              <a:rPr b="0" lang="en-US" sz="4800" spc="-1" strike="noStrike">
                <a:solidFill>
                  <a:srgbClr val="ffff00"/>
                </a:solidFill>
                <a:latin typeface="Arial Unicode MS"/>
              </a:rPr>
              <a:t>setf()</a:t>
            </a: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 function (1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1447920" y="1803240"/>
          <a:ext cx="6781680" cy="83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1803240"/>
                    <a:ext cx="678168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"/>
          <p:cNvSpPr/>
          <p:nvPr/>
        </p:nvSpPr>
        <p:spPr>
          <a:xfrm>
            <a:off x="303840" y="2808360"/>
            <a:ext cx="7345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an have any one of the following arguments 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914400" y="3505320"/>
          <a:ext cx="7467480" cy="266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14400" y="3505320"/>
                    <a:ext cx="746748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872000" y="122400"/>
            <a:ext cx="6239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The </a:t>
            </a:r>
            <a:r>
              <a:rPr b="0" lang="en-US" sz="4800" spc="-1" strike="noStrike">
                <a:solidFill>
                  <a:srgbClr val="ffff00"/>
                </a:solidFill>
                <a:latin typeface="Arial Unicode MS"/>
              </a:rPr>
              <a:t>setf()</a:t>
            </a: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 function (2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04920" y="1320840"/>
            <a:ext cx="8534160" cy="88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The second prototype can have any of the following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arguments -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838080" y="2362320"/>
          <a:ext cx="7925040" cy="3733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2362320"/>
                    <a:ext cx="7925040" cy="37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872000" y="122400"/>
            <a:ext cx="6239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The </a:t>
            </a:r>
            <a:r>
              <a:rPr b="0" lang="en-US" sz="4800" spc="-1" strike="noStrike">
                <a:solidFill>
                  <a:srgbClr val="ffff00"/>
                </a:solidFill>
                <a:latin typeface="Arial Unicode MS"/>
              </a:rPr>
              <a:t>setf()</a:t>
            </a: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 function (3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669960" y="1066680"/>
          <a:ext cx="7940520" cy="503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960" y="1066680"/>
                    <a:ext cx="7940520" cy="503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304920" y="1143000"/>
            <a:ext cx="18489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Output 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872000" y="122400"/>
            <a:ext cx="6239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The </a:t>
            </a:r>
            <a:r>
              <a:rPr b="0" lang="en-US" sz="4800" spc="-1" strike="noStrike">
                <a:solidFill>
                  <a:srgbClr val="ffff00"/>
                </a:solidFill>
                <a:latin typeface="Arial Unicode MS"/>
              </a:rPr>
              <a:t>setf()</a:t>
            </a: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 function (4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2057400" y="1905120"/>
          <a:ext cx="3581280" cy="1919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7400" y="1905120"/>
                    <a:ext cx="3581280" cy="19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872000" y="122400"/>
            <a:ext cx="6239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The </a:t>
            </a:r>
            <a:r>
              <a:rPr b="0" lang="en-US" sz="4800" spc="-1" strike="noStrike">
                <a:solidFill>
                  <a:srgbClr val="ffff00"/>
                </a:solidFill>
                <a:latin typeface="Arial Unicode MS"/>
              </a:rPr>
              <a:t>setf()</a:t>
            </a: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 function (5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143000"/>
          <a:ext cx="8382240" cy="28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143000"/>
                    <a:ext cx="838224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"/>
          <p:cNvSpPr/>
          <p:nvPr/>
        </p:nvSpPr>
        <p:spPr>
          <a:xfrm>
            <a:off x="304920" y="4379760"/>
            <a:ext cx="18489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Output 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2286000" y="4670280"/>
          <a:ext cx="4648320" cy="1501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86000" y="4670280"/>
                    <a:ext cx="4648320" cy="15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9440" y="244440"/>
            <a:ext cx="91130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ffff"/>
                </a:solidFill>
                <a:latin typeface="Arial Unicode MS"/>
              </a:rPr>
              <a:t>The Overloaded Extraction Operator (1)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920" y="1143000"/>
            <a:ext cx="18489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yntax 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2114640" y="1981080"/>
            <a:ext cx="50482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44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ff3300"/>
                  </a:outerShdw>
                </a:effectLst>
                <a:latin typeface="Arial Black"/>
              </a:rPr>
              <a:t>cin &gt;&gt; variablename</a:t>
            </a:r>
            <a:endParaRPr b="0" lang="en-US" sz="2400" spc="1" strike="noStrike">
              <a:ln w="12600">
                <a:solidFill>
                  <a:srgbClr val="000044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ff330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8" name=""/>
          <p:cNvGraphicFramePr/>
          <p:nvPr/>
        </p:nvGraphicFramePr>
        <p:xfrm>
          <a:off x="914400" y="1295280"/>
          <a:ext cx="7467480" cy="469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295280"/>
                    <a:ext cx="7467480" cy="469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"/>
          <p:cNvSpPr/>
          <p:nvPr/>
        </p:nvSpPr>
        <p:spPr>
          <a:xfrm>
            <a:off x="11520" y="244440"/>
            <a:ext cx="91130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ffff"/>
                </a:solidFill>
                <a:latin typeface="Arial Unicode MS"/>
              </a:rPr>
              <a:t>The Overloaded Extraction Operator (2)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295800" y="122400"/>
            <a:ext cx="253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Stream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24160" y="990720"/>
            <a:ext cx="795888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an be viewed as a common logical interface to the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devices of a compu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25240" y="2254320"/>
            <a:ext cx="782028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inks the physical I / O devices with the C++ I / O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3080" y="3549600"/>
            <a:ext cx="83916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he stream used to input data to a program is known as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99ff66"/>
                </a:solidFill>
                <a:latin typeface="Times New Roman"/>
              </a:rPr>
              <a:t>input strea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1280" y="4768920"/>
            <a:ext cx="827604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he stream used to output data is known as the </a:t>
            </a:r>
            <a:r>
              <a:rPr b="0" lang="en-US" sz="2800" spc="-1" strike="noStrike">
                <a:solidFill>
                  <a:srgbClr val="99ff66"/>
                </a:solidFill>
                <a:latin typeface="Times New Roman"/>
              </a:rPr>
              <a:t>output </a:t>
            </a:r>
            <a:br>
              <a:rPr sz="2800"/>
            </a:br>
            <a:r>
              <a:rPr b="0" lang="en-US" sz="2800" spc="-1" strike="noStrike">
                <a:solidFill>
                  <a:srgbClr val="99ff66"/>
                </a:solidFill>
                <a:latin typeface="Times New Roman"/>
              </a:rPr>
              <a:t>    stream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04920" y="1143000"/>
            <a:ext cx="18489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Output 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1520" y="244440"/>
            <a:ext cx="91130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ffff"/>
                </a:solidFill>
                <a:latin typeface="Arial Unicode MS"/>
              </a:rPr>
              <a:t>The Overloaded Extraction Operator (3)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2057400" y="1981080"/>
          <a:ext cx="4800600" cy="277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7400" y="1981080"/>
                    <a:ext cx="4800600" cy="27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095840" y="166680"/>
            <a:ext cx="7011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Other </a:t>
            </a:r>
            <a:r>
              <a:rPr b="0" lang="en-US" sz="4800" spc="-1" strike="noStrike">
                <a:solidFill>
                  <a:srgbClr val="ffff00"/>
                </a:solidFill>
                <a:latin typeface="Arial Unicode MS"/>
              </a:rPr>
              <a:t>istream</a:t>
            </a: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 func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04200" y="1143000"/>
            <a:ext cx="871668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part from the overloaded functions for the extraction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 operator, the istream class also has some other functions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 for input; one of them is the get(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304920" y="2743200"/>
          <a:ext cx="8534160" cy="3200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2743200"/>
                    <a:ext cx="853416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1784880" y="166680"/>
            <a:ext cx="632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File Input / Output (1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04200" y="1143000"/>
            <a:ext cx="4395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reating a file for output 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380880" y="1876320"/>
          <a:ext cx="8382240" cy="267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1876320"/>
                    <a:ext cx="8382240" cy="26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"/>
          <p:cNvSpPr/>
          <p:nvPr/>
        </p:nvSpPr>
        <p:spPr>
          <a:xfrm>
            <a:off x="304920" y="4738680"/>
            <a:ext cx="18489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Output 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1981080" y="5334120"/>
          <a:ext cx="5334120" cy="566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5334120"/>
                    <a:ext cx="533412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784880" y="166680"/>
            <a:ext cx="632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File Input / Output (2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04920" y="1143000"/>
            <a:ext cx="42368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reating a file for Input 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380880" y="1828800"/>
          <a:ext cx="8305920" cy="3352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1828800"/>
                    <a:ext cx="830592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175040" y="166680"/>
            <a:ext cx="6935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Other I / O functions (1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03120" y="1143000"/>
            <a:ext cx="841104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he get() and the getline() functions are also used on a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 large scale for file input and outpu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143000" y="5410080"/>
            <a:ext cx="18489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Output 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3276720" y="5221440"/>
          <a:ext cx="3886200" cy="87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4">
                    <a:alphaModFix amt="50000"/>
                  </a:blip>
                  <a:stretch/>
                </p:blipFill>
                <p:spPr>
                  <a:xfrm>
                    <a:off x="3276720" y="5221440"/>
                    <a:ext cx="3886200" cy="87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"/>
          <p:cNvGraphicFramePr/>
          <p:nvPr/>
        </p:nvGraphicFramePr>
        <p:xfrm>
          <a:off x="1676520" y="2286000"/>
          <a:ext cx="5562360" cy="2819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2286000"/>
                    <a:ext cx="556236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1186200" y="166680"/>
            <a:ext cx="6935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Other I / O functions (2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03840" y="1143000"/>
            <a:ext cx="23547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nt eof(voi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03480" y="2224080"/>
            <a:ext cx="23745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nt fail(voi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03840" y="3290760"/>
            <a:ext cx="43282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void clear(int newvalue=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"/>
          <p:cNvGrpSpPr/>
          <p:nvPr/>
        </p:nvGrpSpPr>
        <p:grpSpPr>
          <a:xfrm>
            <a:off x="533520" y="2438280"/>
            <a:ext cx="8076960" cy="3452760"/>
            <a:chOff x="533520" y="2438280"/>
            <a:chExt cx="8076960" cy="3452760"/>
          </a:xfrm>
        </p:grpSpPr>
        <p:graphicFrame>
          <p:nvGraphicFramePr>
            <p:cNvPr id="322" name=""/>
            <p:cNvGraphicFramePr/>
            <p:nvPr/>
          </p:nvGraphicFramePr>
          <p:xfrm>
            <a:off x="533520" y="2438280"/>
            <a:ext cx="8076960" cy="3452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2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520" y="2438280"/>
                      <a:ext cx="8076960" cy="345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4" name=""/>
            <p:cNvSpPr/>
            <p:nvPr/>
          </p:nvSpPr>
          <p:spPr>
            <a:xfrm>
              <a:off x="533520" y="2971800"/>
              <a:ext cx="807696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1186200" y="166680"/>
            <a:ext cx="6935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Other I / O functions (3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02760" y="1309680"/>
            <a:ext cx="6103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void open(char filename int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enmode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1523520" y="1828800"/>
            <a:ext cx="3582000" cy="609480"/>
            <a:chOff x="1523520" y="1828800"/>
            <a:chExt cx="3582000" cy="609480"/>
          </a:xfrm>
        </p:grpSpPr>
        <p:sp>
          <p:nvSpPr>
            <p:cNvPr id="328" name=""/>
            <p:cNvSpPr/>
            <p:nvPr/>
          </p:nvSpPr>
          <p:spPr>
            <a:xfrm>
              <a:off x="5105520" y="1828800"/>
              <a:ext cx="0" cy="304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1523520" y="2133720"/>
              <a:ext cx="3581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523880" y="213372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1" name=""/>
          <p:cNvGraphicFramePr/>
          <p:nvPr/>
        </p:nvGraphicFramePr>
        <p:xfrm>
          <a:off x="457200" y="1219320"/>
          <a:ext cx="4495680" cy="5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19320"/>
                    <a:ext cx="449568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3" name=""/>
          <p:cNvGraphicFramePr/>
          <p:nvPr/>
        </p:nvGraphicFramePr>
        <p:xfrm>
          <a:off x="474840" y="1889280"/>
          <a:ext cx="5468760" cy="474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4840" y="1889280"/>
                    <a:ext cx="546876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5" name=""/>
          <p:cNvGraphicFramePr/>
          <p:nvPr/>
        </p:nvGraphicFramePr>
        <p:xfrm>
          <a:off x="457200" y="2482920"/>
          <a:ext cx="5410080" cy="504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2482920"/>
                    <a:ext cx="541008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7" name=""/>
          <p:cNvGraphicFramePr/>
          <p:nvPr/>
        </p:nvGraphicFramePr>
        <p:xfrm>
          <a:off x="457200" y="3092400"/>
          <a:ext cx="5286240" cy="536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3092400"/>
                    <a:ext cx="5286240" cy="5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9" name=""/>
          <p:cNvGraphicFramePr/>
          <p:nvPr/>
        </p:nvGraphicFramePr>
        <p:xfrm>
          <a:off x="473040" y="3743280"/>
          <a:ext cx="7070760" cy="539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3040" y="3743280"/>
                    <a:ext cx="707076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1" name=""/>
          <p:cNvGraphicFramePr/>
          <p:nvPr/>
        </p:nvGraphicFramePr>
        <p:xfrm>
          <a:off x="457200" y="4398840"/>
          <a:ext cx="6705720" cy="912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57200" y="4398840"/>
                    <a:ext cx="6705720" cy="9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3" name=""/>
          <p:cNvGraphicFramePr/>
          <p:nvPr/>
        </p:nvGraphicFramePr>
        <p:xfrm>
          <a:off x="457200" y="5450040"/>
          <a:ext cx="2971800" cy="563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57200" y="5450040"/>
                    <a:ext cx="297180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"/>
          <p:cNvSpPr/>
          <p:nvPr/>
        </p:nvSpPr>
        <p:spPr>
          <a:xfrm>
            <a:off x="1186200" y="166680"/>
            <a:ext cx="6935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Other I / O functions (4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980360" y="122400"/>
            <a:ext cx="509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Types of Stream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11640" y="1168560"/>
            <a:ext cx="51897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here are two types of streams 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838080" y="2362320"/>
            <a:ext cx="8187480" cy="672840"/>
            <a:chOff x="838080" y="2362320"/>
            <a:chExt cx="8187480" cy="672840"/>
          </a:xfrm>
        </p:grpSpPr>
        <p:sp>
          <p:nvSpPr>
            <p:cNvPr id="153" name=""/>
            <p:cNvSpPr txBox="1"/>
            <p:nvPr/>
          </p:nvSpPr>
          <p:spPr>
            <a:xfrm>
              <a:off x="838080" y="2362320"/>
              <a:ext cx="129528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600ff"/>
                      </a:gs>
                    </a:gsLst>
                    <a:path path="rect">
                      <a:fillToRect l="50000" t="50000" r="50000" b="50000"/>
                    </a:path>
                  </a:gradFill>
                  <a:effectLst>
                    <a:outerShdw dist="50760" dir="5400000" blurRad="0" rotWithShape="0">
                      <a:srgbClr val="99ff66"/>
                    </a:outerShdw>
                  </a:effectLst>
                  <a:latin typeface="Arial Black"/>
                </a:rPr>
                <a:t>Text - 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6600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50760" dir="5400000" blurRad="0" rotWithShape="0">
                    <a:srgbClr val="99ff66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74840" y="2514600"/>
              <a:ext cx="675072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99ff66"/>
                  </a:solidFill>
                  <a:latin typeface="Times New Roman"/>
                </a:rPr>
                <a:t>A text stream is linked with ASCII characters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847800" y="3900600"/>
            <a:ext cx="7593840" cy="1053360"/>
            <a:chOff x="847800" y="3900600"/>
            <a:chExt cx="7593840" cy="1053360"/>
          </a:xfrm>
        </p:grpSpPr>
        <p:sp>
          <p:nvSpPr>
            <p:cNvPr id="156" name=""/>
            <p:cNvSpPr txBox="1"/>
            <p:nvPr/>
          </p:nvSpPr>
          <p:spPr>
            <a:xfrm>
              <a:off x="847800" y="3900600"/>
              <a:ext cx="2047680" cy="64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600ff"/>
                      </a:gs>
                    </a:gsLst>
                    <a:path path="rect">
                      <a:fillToRect l="50000" t="50000" r="50000" b="50000"/>
                    </a:path>
                  </a:gradFill>
                  <a:effectLst>
                    <a:outerShdw dist="63360" dir="5400000" blurRad="0" rotWithShape="0">
                      <a:srgbClr val="99ff66"/>
                    </a:outerShdw>
                  </a:effectLst>
                  <a:latin typeface="Arial Black"/>
                </a:rPr>
                <a:t>Binary - 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6600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63360" dir="5400000" blurRad="0" rotWithShape="0">
                    <a:srgbClr val="99ff66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972520" y="4006800"/>
              <a:ext cx="5469120" cy="9471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99ff66"/>
                  </a:solidFill>
                  <a:latin typeface="Times New Roman"/>
                </a:rPr>
                <a:t>In binary stream there is no character</a:t>
              </a:r>
              <a:br>
                <a:rPr sz="2800"/>
              </a:br>
              <a:r>
                <a:rPr b="0" lang="en-US" sz="2800" spc="-1" strike="noStrike">
                  <a:solidFill>
                    <a:srgbClr val="99ff66"/>
                  </a:solidFill>
                  <a:latin typeface="Times New Roman"/>
                </a:rPr>
                <a:t>translation as in the text stream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621440" y="122400"/>
            <a:ext cx="584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Predefined Stream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0560" y="1168560"/>
            <a:ext cx="822888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Whenever a C++ program is executed, there are some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predefined streams, which are automatically opened 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33520" y="2476440"/>
            <a:ext cx="761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ff99"/>
                    </a:gs>
                    <a:gs pos="50000">
                      <a:srgbClr val="6600ff"/>
                    </a:gs>
                    <a:gs pos="100000">
                      <a:srgbClr val="66ff99"/>
                    </a:gs>
                  </a:gsLst>
                  <a:lin ang="8100000"/>
                </a:gradFill>
                <a:latin typeface="Arial Black"/>
              </a:rPr>
              <a:t>ci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ff99"/>
                  </a:gs>
                  <a:gs pos="50000">
                    <a:srgbClr val="6600ff"/>
                  </a:gs>
                  <a:gs pos="100000">
                    <a:srgbClr val="66ff99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  <p:sp>
        <p:nvSpPr>
          <p:cNvPr id="161" name=""/>
          <p:cNvSpPr/>
          <p:nvPr/>
        </p:nvSpPr>
        <p:spPr>
          <a:xfrm>
            <a:off x="1447920" y="2857680"/>
            <a:ext cx="11430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733840" y="2629080"/>
            <a:ext cx="610524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777777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Associated with Standard Input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777777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33520" y="3390840"/>
            <a:ext cx="1114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ff99"/>
                    </a:gs>
                    <a:gs pos="50000">
                      <a:srgbClr val="ffff00"/>
                    </a:gs>
                    <a:gs pos="100000">
                      <a:srgbClr val="66ff99"/>
                    </a:gs>
                  </a:gsLst>
                  <a:lin ang="8100000"/>
                </a:gradFill>
                <a:latin typeface="Arial Black"/>
              </a:rPr>
              <a:t>cou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ff99"/>
                  </a:gs>
                  <a:gs pos="50000">
                    <a:srgbClr val="ffff00"/>
                  </a:gs>
                  <a:gs pos="100000">
                    <a:srgbClr val="66ff99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3733920"/>
            <a:ext cx="762120" cy="0"/>
          </a:xfrm>
          <a:prstGeom prst="line">
            <a:avLst/>
          </a:prstGeom>
          <a:ln w="38160">
            <a:solidFill>
              <a:srgbClr val="66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429000" y="4467240"/>
            <a:ext cx="550548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Associated with Standard Output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33520" y="4419720"/>
            <a:ext cx="1114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ff99"/>
                    </a:gs>
                    <a:gs pos="50000">
                      <a:srgbClr val="ffff00"/>
                    </a:gs>
                    <a:gs pos="100000">
                      <a:srgbClr val="66ff99"/>
                    </a:gs>
                  </a:gsLst>
                  <a:lin ang="8100000"/>
                </a:gradFill>
                <a:latin typeface="Arial Black"/>
              </a:rPr>
              <a:t>cer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ff99"/>
                  </a:gs>
                  <a:gs pos="50000">
                    <a:srgbClr val="ffff00"/>
                  </a:gs>
                  <a:gs pos="100000">
                    <a:srgbClr val="66ff99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  <p:sp>
        <p:nvSpPr>
          <p:cNvPr id="167" name=""/>
          <p:cNvSpPr/>
          <p:nvPr/>
        </p:nvSpPr>
        <p:spPr>
          <a:xfrm>
            <a:off x="1828800" y="4648320"/>
            <a:ext cx="762120" cy="0"/>
          </a:xfrm>
          <a:prstGeom prst="line">
            <a:avLst/>
          </a:prstGeom>
          <a:ln w="38160">
            <a:solidFill>
              <a:srgbClr val="66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533520" y="5181480"/>
            <a:ext cx="1114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ff99"/>
                    </a:gs>
                    <a:gs pos="50000">
                      <a:srgbClr val="ffff00"/>
                    </a:gs>
                    <a:gs pos="100000">
                      <a:srgbClr val="66ff99"/>
                    </a:gs>
                  </a:gsLst>
                  <a:lin ang="8100000"/>
                </a:gradFill>
                <a:latin typeface="Arial Black"/>
              </a:rPr>
              <a:t>clo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ff99"/>
                  </a:gs>
                  <a:gs pos="50000">
                    <a:srgbClr val="ffff00"/>
                  </a:gs>
                  <a:gs pos="100000">
                    <a:srgbClr val="66ff99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743200" y="3505320"/>
            <a:ext cx="60948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3300"/>
                    </a:gs>
                    <a:gs pos="50000">
                      <a:srgbClr val="ffff00"/>
                    </a:gs>
                    <a:gs pos="100000">
                      <a:srgbClr val="cc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}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3300"/>
                  </a:gs>
                  <a:gs pos="50000">
                    <a:srgbClr val="ffff00"/>
                  </a:gs>
                  <a:gs pos="100000">
                    <a:srgbClr val="cc33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828800" y="5562720"/>
            <a:ext cx="762120" cy="0"/>
          </a:xfrm>
          <a:prstGeom prst="line">
            <a:avLst/>
          </a:prstGeom>
          <a:ln w="38160">
            <a:solidFill>
              <a:srgbClr val="66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611360" y="122400"/>
            <a:ext cx="5589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Managing Stream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6120" y="1168560"/>
            <a:ext cx="699696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iven below is a list of some classes and the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 functionality associated with them 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380880" y="2362320"/>
          <a:ext cx="8534520" cy="3657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2362320"/>
                    <a:ext cx="853452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308600" y="122400"/>
            <a:ext cx="6417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Insertion Operator </a:t>
            </a:r>
            <a:r>
              <a:rPr b="0" lang="en-US" sz="4800" spc="-1" strike="noStrike">
                <a:solidFill>
                  <a:srgbClr val="ffff00"/>
                </a:solidFill>
                <a:latin typeface="Arial Unicode MS"/>
              </a:rPr>
              <a:t>&lt;&lt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3960" y="1168560"/>
            <a:ext cx="808056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Output on the standard stream is done using the </a:t>
            </a:r>
            <a:r>
              <a:rPr b="1" lang="en-US" sz="2800" spc="-1" strike="noStrike">
                <a:solidFill>
                  <a:srgbClr val="66ff99"/>
                </a:solidFill>
                <a:latin typeface="Times New Roman"/>
              </a:rPr>
              <a:t>cout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object of the </a:t>
            </a:r>
            <a:r>
              <a:rPr b="1" lang="en-US" sz="2800" spc="-1" strike="noStrike">
                <a:solidFill>
                  <a:srgbClr val="66ff99"/>
                </a:solidFill>
                <a:latin typeface="Times New Roman"/>
              </a:rPr>
              <a:t>ostream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cl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3960" y="2376360"/>
            <a:ext cx="77634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his class overloads the bitwise left-shift operat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6120" y="3367080"/>
            <a:ext cx="55047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Overloaded for performing outpu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405160" y="4772160"/>
            <a:ext cx="433368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6600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cout &lt;&lt; variable ;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3300"/>
                  </a:gs>
                  <a:gs pos="100000">
                    <a:srgbClr val="6600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927080" y="122400"/>
            <a:ext cx="619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The </a:t>
            </a:r>
            <a:r>
              <a:rPr b="0" lang="en-US" sz="4800" spc="-1" strike="noStrike">
                <a:solidFill>
                  <a:srgbClr val="ffff00"/>
                </a:solidFill>
                <a:latin typeface="Arial Unicode MS"/>
              </a:rPr>
              <a:t>ostream</a:t>
            </a: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 class (1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55400" y="1168560"/>
            <a:ext cx="859716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66ff99"/>
                </a:solidFill>
                <a:latin typeface="Times New Roman"/>
              </a:rPr>
              <a:t>operator function ‘&lt;&lt;‘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is overloaded and it returns a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 reference to the class </a:t>
            </a:r>
            <a:r>
              <a:rPr b="0" lang="en-US" sz="2800" spc="-1" strike="noStrike">
                <a:solidFill>
                  <a:srgbClr val="66ff99"/>
                </a:solidFill>
                <a:latin typeface="Times New Roman"/>
              </a:rPr>
              <a:t>ostre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028880" y="3009960"/>
            <a:ext cx="74293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6600ff"/>
                  </a:solidFill>
                  <a:miter/>
                </a:ln>
                <a:gradFill rotWithShape="0">
                  <a:gsLst>
                    <a:gs pos="0">
                      <a:srgbClr val="cc3300"/>
                    </a:gs>
                    <a:gs pos="50000">
                      <a:srgbClr val="ffff00"/>
                    </a:gs>
                    <a:gs pos="100000">
                      <a:srgbClr val="cc3300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6600ff"/>
                  </a:outerShdw>
                </a:effectLst>
                <a:latin typeface="Arial Black"/>
              </a:rPr>
              <a:t>ostream &amp;operator &lt;&lt; (int n) ;</a:t>
            </a:r>
            <a:endParaRPr b="0" lang="en-US" sz="2400" spc="1" strike="noStrike">
              <a:ln w="9360">
                <a:solidFill>
                  <a:srgbClr val="6600ff"/>
                </a:solidFill>
                <a:miter/>
              </a:ln>
              <a:gradFill rotWithShape="0">
                <a:gsLst>
                  <a:gs pos="0">
                    <a:srgbClr val="cc3300"/>
                  </a:gs>
                  <a:gs pos="50000">
                    <a:srgbClr val="ffff00"/>
                  </a:gs>
                  <a:gs pos="100000">
                    <a:srgbClr val="cc3300"/>
                  </a:gs>
                </a:gsLst>
                <a:lin ang="10800000"/>
              </a:gradFill>
              <a:effectLst>
                <a:outerShdw dist="17819" dir="2700000" blurRad="0" rotWithShape="0">
                  <a:srgbClr val="6600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927080" y="122400"/>
            <a:ext cx="619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The </a:t>
            </a:r>
            <a:r>
              <a:rPr b="0" lang="en-US" sz="4800" spc="-1" strike="noStrike">
                <a:solidFill>
                  <a:srgbClr val="ffff00"/>
                </a:solidFill>
                <a:latin typeface="Arial Unicode MS"/>
              </a:rPr>
              <a:t>ostream</a:t>
            </a: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 class (2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838080" y="1219320"/>
          <a:ext cx="7543800" cy="323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219320"/>
                    <a:ext cx="7543800" cy="32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457200" y="4586400"/>
            <a:ext cx="18489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Output 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2286000" y="5105520"/>
          <a:ext cx="4038480" cy="976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86000" y="5105520"/>
                    <a:ext cx="4038480" cy="9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7T07:23:10Z</dcterms:created>
  <dc:creator>Amit Shindore</dc:creator>
  <dc:description/>
  <dc:language>en-US</dc:language>
  <cp:lastModifiedBy>Sindhu</cp:lastModifiedBy>
  <dcterms:modified xsi:type="dcterms:W3CDTF">2001-09-23T07:23:09Z</dcterms:modified>
  <cp:revision>155</cp:revision>
  <dc:subject/>
  <dc:title>PowerPoint Presentation</dc:title>
</cp:coreProperties>
</file>