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648450" cy="9805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Linux, C, C++ / Object Oriented Programming with C++ / Session 11 / </a:t>
            </a:r>
            <a:fld id="{92CD375D-1C91-44A5-A758-82058AACA08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of 3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8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1"/>
          </p:nvPr>
        </p:nvSpPr>
        <p:spPr>
          <a:xfrm>
            <a:off x="4495680" y="6324480"/>
            <a:ext cx="464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inux, C, C++/Object Oriented Programming with C++/Session 11/</a:t>
            </a:r>
            <a:fld id="{DDBF3784-4B05-4FC9-8133-8771E7D48F7F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of 4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447920" y="15228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1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 rot="21062400">
            <a:off x="1142640" y="1142640"/>
            <a:ext cx="73105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95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latin typeface="Impact"/>
              </a:rPr>
              <a:t>Inherit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Protected Access Specifie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rotected section is like the private section in terms of scope and a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ed members can be accessed only by members of that cla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ed members cannot be accessed by objects or functions from outside the class, such as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tected members is accessible in the derived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mbers of the derived class can access public and protected members; they cannot access the private members of the base cla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access to some of the class members. Those members can be put in the private sec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 controlled access by providing some protected memb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heritance does not work in revers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0" y="75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Unicode MS"/>
              </a:rPr>
              <a:t>Accessing Base Class Memb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821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ff"/>
                </a:solidFill>
                <a:latin typeface="Arial Unicode MS"/>
              </a:rPr>
              <a:t>Access rules for Base class members (1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80880" y="1981080"/>
          <a:ext cx="8382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82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lass Employee{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//base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t priv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ect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t prot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t pub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0" y="1821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ff"/>
                </a:solidFill>
                <a:latin typeface="Arial Unicode MS"/>
              </a:rPr>
              <a:t>Access rules for Base class members (2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//derived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lass Manager : public Employee{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oid f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t 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 = privA;  //error:not acce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 = protA;  //va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 = pubA;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//va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1821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ff"/>
                </a:solidFill>
                <a:latin typeface="Arial Unicode MS"/>
              </a:rPr>
              <a:t>Access rules for Base class members (3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ployee emp;  //base class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p.privA = 1; //error:not acce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p.protA = 1; //error:not acce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p.pubA = 1;  //va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nager mgr;   //derived class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gr.privA = 1; //error:not acce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gr.protA = 1; //error:not acce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gr.pubA = 1;  //va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0" y="1821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ff"/>
                </a:solidFill>
                <a:latin typeface="Arial Unicode MS"/>
              </a:rPr>
              <a:t>Access rules for Base class members (4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Pointers in classes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use a pointer, which has been declared to point to one class, to actually refer to another cla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 derived class has a public base class, then a pointer to the derived class can be assigned to a variable of type pointer to the bas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 object of a derived class can be treated as an object of its base class when manipulated through pointers.  However, the opposite is not tr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nager mg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ployee* emp = &amp;mgr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valid:every Manager is an Employee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ployee em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nager* man = &amp;eml;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error: not every Employee is a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Pointers in classes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Types of Inheritance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rived class can be declared with one of the specifiers  - public, private and protec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keyword public in the class declaration of the derived class specifies that objects of the derived class are able to access public member functions of the base clas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 the keyword private in the derived class declaration, objects of the derived class in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main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nnot even access public member functions of the base cla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class A{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//base cl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private:  int priv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protected:  int prot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public:  int pub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class B : public A{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//publicly derived cl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void fn()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int 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a = privA;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//error:not acces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a = protA;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//val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a = pubA;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//val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Types of Inheritance (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-1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Session Objectives</a:t>
            </a: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272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escribe Single Inherit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272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escribe Base class and Derived cl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272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ccess Base class members and use pointers in clas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272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escribe types of inherit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272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escribe Constructors and Destructors under inherit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272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escribe how to call Member Functions of the Base Class and Derived Cl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272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escribe Container Clas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class C : private A{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//privately derived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void f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{ int 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 = privA;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//error:not acce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 = protA;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//val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 = pubA;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//val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void 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int 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B obj1;  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//object of publicly derived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Types of Inheritance (3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75960" y="91404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m = obj1.privA;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//error:not acce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m = obj1.protA;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//error:not acce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m = obj1.pubA;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//valid: B is publicly derived fr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                 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//class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C obj2;        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//object of privately derived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m = obj2.privA;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//error:not acce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m = obj2.protA;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//error:not acce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m = obj2.pubA;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//error:not accessible: C is privat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                 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//derived from class 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Types of Inheritance (4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4968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no access specifier is given while creating the class, private is assu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36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Types of Inheritance (5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04920" y="182880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Multi-level inheritance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5640" y="15998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, private or protected will affect the access the derived class functions have over the members of the base classes in a multi-level inheri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15800" y="1828800"/>
          <a:ext cx="171792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5800" y="1828800"/>
                    <a:ext cx="17179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66680" y="990360"/>
            <a:ext cx="6858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class A{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public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int 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class B : private A{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public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int 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void func_b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{ int x,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x=a;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// va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y=b;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// va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Multi-level inheritance (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02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class C : public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{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public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44"/>
                </a:solidFill>
                <a:latin typeface="Courier New"/>
              </a:rPr>
              <a:t>void func_c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{int x,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x=a;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// not va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y=b;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// va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Multi-level inheritance (3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366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Constructors under inheritance (1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class Base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protected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int 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Base(){a = 0;}</a:t>
            </a: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Courier New"/>
              </a:rPr>
              <a:t>//default constru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Base(int c){ a = c;}</a:t>
            </a:r>
            <a:r>
              <a:rPr b="1" lang="en-GB" sz="2400" spc="-1" strike="noStrike">
                <a:solidFill>
                  <a:srgbClr val="cc3300"/>
                </a:solidFill>
                <a:latin typeface="Courier New"/>
              </a:rPr>
              <a:t>//one-arg constru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class Derived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Derived(): Base(){}</a:t>
            </a:r>
            <a:r>
              <a:rPr b="1" lang="en-GB" sz="2400" spc="-1" strike="noStrike">
                <a:solidFill>
                  <a:srgbClr val="cc3300"/>
                </a:solidFill>
                <a:latin typeface="Courier New"/>
              </a:rPr>
              <a:t>//default constru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Derived(int c): Base(c){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cc3300"/>
                </a:solidFill>
                <a:latin typeface="Courier New"/>
              </a:rPr>
              <a:t>//constructor with one-a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onstructor of the base class that should be called during a call of the constructor of a derived class is selected explici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Derived obj1(20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Derived(int c): Base(c);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0" y="-15192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Constructors under inheritance (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Destructor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ructors will be called for the derived class first, then for the base clas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destructor for the derived class is to be defined only if its constructor allocates any memory through dynamic memory managemen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214200"/>
            <a:ext cx="84582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alling Member Functions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mber functions in a derived class can have the same name as those in the base cla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the function is invoked with the object of the base class, the function from the base class is ca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a member function from the derived class wants to call the base class function of the same name, it must use the scope resolution opera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Single Inheritance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ngle inheritance is the process of creating new classes from an existing base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066680" y="2286000"/>
            <a:ext cx="6400800" cy="2454120"/>
            <a:chOff x="1066680" y="2286000"/>
            <a:chExt cx="6400800" cy="2454120"/>
          </a:xfrm>
        </p:grpSpPr>
        <p:sp>
          <p:nvSpPr>
            <p:cNvPr id="143" name=""/>
            <p:cNvSpPr/>
            <p:nvPr/>
          </p:nvSpPr>
          <p:spPr>
            <a:xfrm>
              <a:off x="3484440" y="2286000"/>
              <a:ext cx="1281240" cy="6699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mploye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6680" y="4070520"/>
              <a:ext cx="1138320" cy="669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Dire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7480" y="4070520"/>
              <a:ext cx="1281240" cy="669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06800" y="4070520"/>
              <a:ext cx="1138320" cy="669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Secret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13560" y="4070520"/>
              <a:ext cx="853920" cy="669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le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54320" y="2955960"/>
              <a:ext cx="0" cy="712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35120" y="3668760"/>
              <a:ext cx="5405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35120" y="3668760"/>
              <a:ext cx="0" cy="4460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27360" y="3668760"/>
              <a:ext cx="0" cy="4460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34120" y="3668760"/>
              <a:ext cx="0" cy="4460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40520" y="3668760"/>
              <a:ext cx="0" cy="4460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029200" y="251460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172200" y="2286000"/>
            <a:ext cx="228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ase Clas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 flipH="1" rot="5400000">
            <a:off x="3885480" y="2285280"/>
            <a:ext cx="533160" cy="5715000"/>
          </a:xfrm>
          <a:custGeom>
            <a:avLst/>
            <a:gdLst>
              <a:gd name="textAreaLeft" fmla="*/ 340200 w 533160"/>
              <a:gd name="textAreaRight" fmla="*/ 533160 w 533160"/>
              <a:gd name="textAreaTop" fmla="*/ 149040 h 5715000"/>
              <a:gd name="textAreaBottom" fmla="*/ 5565960 h 57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6000" y="5448240"/>
            <a:ext cx="3733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erived Classe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534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function in the base class can be invoked using the objects of the base class as well as the derived clas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a function exists in the derived class and not in the base class, it can be invoked only with the objects of the derived cla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380520" y="-214200"/>
            <a:ext cx="84582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alling Member Functions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class Base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protect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int s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int func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{return ss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class Derived: public Base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int func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{return Base::func();}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80520" y="-214200"/>
            <a:ext cx="84582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alling Member Functions (3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1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Base b1;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Courier New"/>
              </a:rPr>
              <a:t>//base class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b1.func();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Courier New"/>
              </a:rPr>
              <a:t>//calls base class fu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Derived  a1;</a:t>
            </a:r>
            <a:r>
              <a:rPr b="1" lang="en-GB" sz="2400" spc="-1" strike="noStrike">
                <a:solidFill>
                  <a:srgbClr val="cc3300"/>
                </a:solidFill>
                <a:latin typeface="Courier New"/>
              </a:rPr>
              <a:t>//derived class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a1.func();</a:t>
            </a: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Courier New"/>
              </a:rPr>
              <a:t>//calls derived class fu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44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380520" y="-214200"/>
            <a:ext cx="84582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alling Member Functions (4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Container classes (1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10600" y="1142640"/>
            <a:ext cx="8704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heritance can be termed as an "is a" relationshi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Arial"/>
              </a:rPr>
              <a:t>Example of the employee: The manager is an employe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contrast, a class X that has a member of another class Y is said to have a Y or X contains Y.  This relationship is called a membership or a "has a" relationship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class X{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Courier New"/>
              </a:rPr>
              <a:t>//X contains 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Y abc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04920" y="184140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en a class contains an object of another class as its member it is called a container clas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of a jet plane: Consider deriving a class for a jet plane from a class called engine. A jet plane is not an engine but  has an engin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76212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ontainer classes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2120" y="-93240"/>
            <a:ext cx="81612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Constructors in container classes (1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362320" y="1905120"/>
            <a:ext cx="4495680" cy="320040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lass engine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t nu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ublic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ngine(int 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{num = s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33520" y="1430280"/>
            <a:ext cx="8076960" cy="405936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lass jet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t j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ngine eobj;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jet(int  x, int y): eobj(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{jt = x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-76320"/>
            <a:ext cx="84582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Constructors in container classes (2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114440" y="2209680"/>
            <a:ext cx="4876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erived classes inherit the methods and variables of the base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can also have properties and methods of their own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523880"/>
            <a:ext cx="3352320" cy="4190760"/>
            <a:chOff x="304920" y="1523880"/>
            <a:chExt cx="3352320" cy="4190760"/>
          </a:xfrm>
        </p:grpSpPr>
        <p:sp>
          <p:nvSpPr>
            <p:cNvPr id="160" name=""/>
            <p:cNvSpPr/>
            <p:nvPr/>
          </p:nvSpPr>
          <p:spPr>
            <a:xfrm>
              <a:off x="304920" y="3527640"/>
              <a:ext cx="3352320" cy="2187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Class: Manage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m_name, m_age, m_Emp_id, m_salary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m_departm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perks, no_of_employees reporting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1523880"/>
              <a:ext cx="3154320" cy="127476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Class: Employe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Name, Age, Emp_i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Salary, Departm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882080" y="2798640"/>
              <a:ext cx="0" cy="728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Single Inheritance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Advantage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important advantage: reusability of cod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 of reusability of code is the development of class librari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 class library consists of data and methods encapsulated in a clas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eriving a class from an existing one allows redefining a member function of the base class and also adding new members to the derived cla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base class remains unchanged in the process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150840"/>
            <a:ext cx="883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Base Class and Derived Cl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00040" y="1142640"/>
            <a:ext cx="579132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laration of a singly derived class is similar to that of any ordinary class, except that the name of the base class also needs to be specifi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class Manager : public Employ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base class can be classified into two typ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Arial"/>
              </a:rPr>
              <a:t>direct b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Arial"/>
              </a:rPr>
              <a:t>indirect b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87200" y="1752480"/>
            <a:ext cx="2708280" cy="2714760"/>
            <a:chOff x="187200" y="1752480"/>
            <a:chExt cx="2708280" cy="2714760"/>
          </a:xfrm>
        </p:grpSpPr>
        <p:sp>
          <p:nvSpPr>
            <p:cNvPr id="169" name=""/>
            <p:cNvSpPr/>
            <p:nvPr/>
          </p:nvSpPr>
          <p:spPr>
            <a:xfrm>
              <a:off x="228600" y="1752480"/>
              <a:ext cx="1447920" cy="609840"/>
            </a:xfrm>
            <a:prstGeom prst="rect">
              <a:avLst/>
            </a:prstGeom>
            <a:noFill/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mploye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7200" y="3733920"/>
              <a:ext cx="1447920" cy="581040"/>
            </a:xfrm>
            <a:prstGeom prst="rect">
              <a:avLst/>
            </a:prstGeom>
            <a:noFill/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914400" y="2361960"/>
              <a:ext cx="0" cy="135252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65440" y="1752480"/>
              <a:ext cx="825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Bas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la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65440" y="3657600"/>
              <a:ext cx="11300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Derived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la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22400" y="2833560"/>
              <a:ext cx="111132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Derived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fro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Direct and Indirect Ba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base class is called direct if it is mentioned in the base lis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class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{ 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class B : public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{ };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//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class A is a direct clas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 indirect class can be written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class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{ 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class B : public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{ 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class C : public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{ };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/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Here class A is a indirect class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756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ccessibility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ing when a member function or data member of a base class can be used by objects of the derived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members can always be accessed by member functions within their own class, whether the members are private or public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s defined outside the class can access class members only if the members are publi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inheritanc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ived class members can access members of the base class if its members are publi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ived class members cannot access the private members of the base cla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85800" y="1663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Accessibility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2:59:19Z</dcterms:created>
  <dc:creator>vinod</dc:creator>
  <dc:description/>
  <dc:language>en-US</dc:language>
  <cp:lastModifiedBy>Manoj  Rajan</cp:lastModifiedBy>
  <cp:lastPrinted>1999-06-19T10:53:55Z</cp:lastPrinted>
  <dcterms:modified xsi:type="dcterms:W3CDTF">2001-07-21T13:38:35Z</dcterms:modified>
  <cp:revision>108</cp:revision>
  <dc:subject/>
  <dc:title>Inheritance</dc:title>
</cp:coreProperties>
</file>