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10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E82-8A41-4163-B4E6-1345C856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A38-60F8-4F3D-A120-35A6BE9D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652-CA29-4DA2-B26A-D8CEA48C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664-B537-4712-B1CA-9B0FF36E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68C-4C51-4973-9796-6CDEE208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5A4-7D5E-4E44-9A58-D72BFD16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E9C-729E-465C-AF32-D363CCE7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9BF-46C8-4396-AE97-024B9D87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875-68AF-4208-84C1-1C8EDE56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95C-F9BE-4BB8-9530-096D1267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5BC-0742-4B93-AAAB-21A40644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656-7DEA-4CDF-889D-AB5F9335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inux, C, C++ / Object Oriented Programming with C++ / Session 8 / </a:t>
            </a:r>
            <a:fld id="{C9E9DCEC-08D0-4F65-B4A1-1593B2CE87BE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of 4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1B57-87CB-4679-A60E-B772C70DFD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263760" y="151920"/>
            <a:ext cx="26798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52600" y="2286000"/>
            <a:ext cx="8286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Basic Object Orien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Concep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1520" y="-214200"/>
            <a:ext cx="89409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Data and Functions of an Objec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57200" y="1295280"/>
            <a:ext cx="8686440" cy="4341600"/>
            <a:chOff x="457200" y="1295280"/>
            <a:chExt cx="8686440" cy="4341600"/>
          </a:xfrm>
        </p:grpSpPr>
        <p:sp>
          <p:nvSpPr>
            <p:cNvPr id="187" name=""/>
            <p:cNvSpPr/>
            <p:nvPr/>
          </p:nvSpPr>
          <p:spPr>
            <a:xfrm>
              <a:off x="3689280" y="1295280"/>
              <a:ext cx="2222280" cy="43416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93200" y="1295280"/>
              <a:ext cx="181800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ccou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9" name=""/>
            <p:cNvGraphicFramePr/>
            <p:nvPr/>
          </p:nvGraphicFramePr>
          <p:xfrm>
            <a:off x="4093200" y="2061720"/>
            <a:ext cx="1009440" cy="122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93200" y="2061720"/>
                      <a:ext cx="1009440" cy="12207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4699440" y="3632400"/>
            <a:ext cx="546840" cy="1880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99440" y="3632400"/>
                      <a:ext cx="546840" cy="18806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3890880" y="3430800"/>
            <a:ext cx="557640" cy="201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90880" y="3430800"/>
                      <a:ext cx="557640" cy="20181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457200" y="1333440"/>
              <a:ext cx="3232080" cy="38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Data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umber of employe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alary stateme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il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ouch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ceip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tty cash record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anking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11560" y="1333440"/>
              <a:ext cx="3232080" cy="30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unctions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lculate sal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y salar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y bil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ally accou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act with bank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bjec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cept or thing with defined boundaries that is relevant to the problem we are dealing wi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serve two purpo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to understand the real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practical basis for a computer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bject has its own properties or characteristics that describe what it is or do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Different Objec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62520" y="2619360"/>
          <a:ext cx="209556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619360"/>
                    <a:ext cx="2095560" cy="1457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202" name=""/>
          <p:cNvGrpSpPr/>
          <p:nvPr/>
        </p:nvGrpSpPr>
        <p:grpSpPr>
          <a:xfrm>
            <a:off x="914400" y="1523880"/>
            <a:ext cx="7342200" cy="3886200"/>
            <a:chOff x="914400" y="1523880"/>
            <a:chExt cx="7342200" cy="3886200"/>
          </a:xfrm>
        </p:grpSpPr>
        <p:graphicFrame>
          <p:nvGraphicFramePr>
            <p:cNvPr id="203" name=""/>
            <p:cNvGraphicFramePr/>
            <p:nvPr/>
          </p:nvGraphicFramePr>
          <p:xfrm>
            <a:off x="914400" y="2211480"/>
            <a:ext cx="828720" cy="3051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14400" y="2211480"/>
                      <a:ext cx="828720" cy="3051000"/>
                    </a:xfrm>
                    <a:prstGeom prst="rect">
                      <a:avLst/>
                    </a:prstGeom>
                    <a:ln w="9360">
                      <a:solidFill>
                        <a:srgbClr val="000044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05" name=""/>
            <p:cNvSpPr/>
            <p:nvPr/>
          </p:nvSpPr>
          <p:spPr>
            <a:xfrm>
              <a:off x="2149560" y="1981080"/>
              <a:ext cx="1739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me: Jac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:  2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eight: 65 kg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03240" y="1752480"/>
              <a:ext cx="2006640" cy="365760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1280" y="1981080"/>
              <a:ext cx="1672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del: Ferrar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our: R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ear: 199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48520" y="1523880"/>
              <a:ext cx="2008080" cy="388620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66200" y="3352680"/>
              <a:ext cx="1087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ctions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al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al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lee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82400" y="3581280"/>
              <a:ext cx="1267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ctions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a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celer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lasse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 of objects that have the same properties, common behaviour and common relationship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term class is an abbreviation of “class of objects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, A class of persons, class of animals, class of process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ch object is said to be an instance of its class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bjects and Classe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2944800"/>
            <a:ext cx="2239920" cy="784080"/>
          </a:xfrm>
          <a:prstGeom prst="parallelogram">
            <a:avLst>
              <a:gd name="adj" fmla="val 714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52640" y="2819520"/>
            <a:ext cx="1719360" cy="1069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4024440"/>
            <a:ext cx="865080" cy="161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00360" y="4498920"/>
            <a:ext cx="1947960" cy="1216080"/>
          </a:xfrm>
          <a:custGeom>
            <a:avLst/>
            <a:gdLst>
              <a:gd name="textAreaLeft" fmla="*/ 428400 w 1947960"/>
              <a:gd name="textAreaRight" fmla="*/ 1519560 w 1947960"/>
              <a:gd name="textAreaTop" fmla="*/ 267480 h 1216080"/>
              <a:gd name="textAreaBottom" fmla="*/ 9486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7400" y="3754440"/>
            <a:ext cx="11570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67400" y="3228840"/>
            <a:ext cx="11570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str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1523880"/>
            <a:ext cx="2743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ygon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pert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rder 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l 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1905120"/>
            <a:ext cx="2819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ygon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roperty/Attribut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5345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racteristic required of an object or entity when represented in a cla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nstance of the class or object has its own value for each of its properties but it shares the property names or operations with other instances of the cla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Method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724280" y="12949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lack box actually contains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ommunication between objects is done using messag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messages can be translated to function calls in a program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4952880"/>
            <a:ext cx="6095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ction required of an object or entity when represented in a class is known as a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52280" y="1219320"/>
            <a:ext cx="4648320" cy="4660920"/>
            <a:chOff x="152280" y="1219320"/>
            <a:chExt cx="4648320" cy="4660920"/>
          </a:xfrm>
        </p:grpSpPr>
        <p:grpSp>
          <p:nvGrpSpPr>
            <p:cNvPr id="228" name=""/>
            <p:cNvGrpSpPr/>
            <p:nvPr/>
          </p:nvGrpSpPr>
          <p:grpSpPr>
            <a:xfrm>
              <a:off x="152280" y="1219320"/>
              <a:ext cx="4648320" cy="4660920"/>
              <a:chOff x="152280" y="1219320"/>
              <a:chExt cx="4648320" cy="4660920"/>
            </a:xfrm>
          </p:grpSpPr>
          <p:sp>
            <p:nvSpPr>
              <p:cNvPr id="229" name=""/>
              <p:cNvSpPr/>
              <p:nvPr/>
            </p:nvSpPr>
            <p:spPr>
              <a:xfrm>
                <a:off x="152280" y="1752480"/>
                <a:ext cx="2286000" cy="18795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2280" y="4038480"/>
                <a:ext cx="2154240" cy="18417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231" name=""/>
              <p:cNvGraphicFramePr/>
              <p:nvPr/>
            </p:nvGraphicFramePr>
            <p:xfrm>
              <a:off x="304920" y="4572000"/>
              <a:ext cx="1315800" cy="1263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3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04920" y="4572000"/>
                        <a:ext cx="1315800" cy="126360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</p:pic>
                </p:oleObj>
              </a:graphicData>
            </a:graphic>
          </p:graphicFrame>
          <p:graphicFrame>
            <p:nvGraphicFramePr>
              <p:cNvPr id="233" name=""/>
              <p:cNvGraphicFramePr/>
              <p:nvPr/>
            </p:nvGraphicFramePr>
            <p:xfrm>
              <a:off x="457200" y="2362320"/>
              <a:ext cx="1182600" cy="10681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34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57200" y="2362320"/>
                        <a:ext cx="1182600" cy="106812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235" name=""/>
              <p:cNvSpPr/>
              <p:nvPr/>
            </p:nvSpPr>
            <p:spPr>
              <a:xfrm>
                <a:off x="2590920" y="1219320"/>
                <a:ext cx="2209680" cy="1218960"/>
              </a:xfrm>
              <a:prstGeom prst="wedgeRoundRectCallout">
                <a:avLst>
                  <a:gd name="adj1" fmla="val -66810"/>
                  <a:gd name="adj2" fmla="val 45180"/>
                  <a:gd name="adj3" fmla="val 16667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44"/>
                    </a:solidFill>
                    <a:latin typeface="Times New Roman"/>
                  </a:rPr>
                  <a:t>What is the salary of Jac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14600" y="3276720"/>
                <a:ext cx="2209680" cy="1218960"/>
              </a:xfrm>
              <a:prstGeom prst="wedgeRoundRectCallout">
                <a:avLst>
                  <a:gd name="adj1" fmla="val -66810"/>
                  <a:gd name="adj2" fmla="val 45180"/>
                  <a:gd name="adj3" fmla="val 16667"/>
                </a:avLst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44"/>
                    </a:solidFill>
                    <a:latin typeface="Times New Roman"/>
                  </a:rPr>
                  <a:t>Jack’s salary is $2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80880" y="1752480"/>
              <a:ext cx="1676520" cy="45720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44"/>
                  </a:solidFill>
                  <a:latin typeface="Times New Roman"/>
                </a:rPr>
                <a:t>Sal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0880" y="4038480"/>
              <a:ext cx="1676520" cy="45720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44"/>
                  </a:solidFill>
                  <a:latin typeface="Times New Roman"/>
                </a:rPr>
                <a:t>Accoun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bstrac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6108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of examining certain aspects of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bstract specification tells us what an object does independent of how it work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Data Abstrac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61084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119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sed to identify properties and methods of each object as relevant to the application at hand.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119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y grouping objects into classes, we are doing data abstraction of a problem.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119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mmon definitions are stored once per class rather than once per instance of the class.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119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ethods can be written once for a class, so that all the objects in a class benefit from code reuse.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nheritance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property that allows the reuse of an existing class to build a new cla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perclass -  The class from which another class inherits its behaviou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class - The class that inherits the properties and methods of another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Objective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he fo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bject-Oriented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backs of traditional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basic Object-Oriented concepts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5345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ubclass shares common properties with the class from which it is deriv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class may have its own particular characterist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nheritance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Class Animals and its subclass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281240" y="1600200"/>
            <a:ext cx="7481880" cy="3962160"/>
            <a:chOff x="1281240" y="1600200"/>
            <a:chExt cx="7481880" cy="3962160"/>
          </a:xfrm>
        </p:grpSpPr>
        <p:sp>
          <p:nvSpPr>
            <p:cNvPr id="249" name=""/>
            <p:cNvSpPr/>
            <p:nvPr/>
          </p:nvSpPr>
          <p:spPr>
            <a:xfrm>
              <a:off x="4419720" y="2438280"/>
              <a:ext cx="0" cy="831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281240" y="1600200"/>
              <a:ext cx="7481880" cy="3962160"/>
              <a:chOff x="1281240" y="1600200"/>
              <a:chExt cx="7481880" cy="396216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1281240" y="4198680"/>
              <a:ext cx="1295640" cy="1059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81240" y="4198680"/>
                        <a:ext cx="1295640" cy="1059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3" name=""/>
              <p:cNvGraphicFramePr/>
              <p:nvPr/>
            </p:nvGraphicFramePr>
            <p:xfrm>
              <a:off x="7148880" y="4171680"/>
              <a:ext cx="1347840" cy="1314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148880" y="4171680"/>
                        <a:ext cx="1347840" cy="131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5" name=""/>
              <p:cNvGraphicFramePr/>
              <p:nvPr/>
            </p:nvGraphicFramePr>
            <p:xfrm>
              <a:off x="5399280" y="4092480"/>
              <a:ext cx="1139760" cy="1469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399280" y="4092480"/>
                        <a:ext cx="1139760" cy="1469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7" name=""/>
              <p:cNvGraphicFramePr/>
              <p:nvPr/>
            </p:nvGraphicFramePr>
            <p:xfrm>
              <a:off x="3262680" y="4228920"/>
              <a:ext cx="1388880" cy="1333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62680" y="4228920"/>
                        <a:ext cx="1388880" cy="1333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9" name=""/>
              <p:cNvSpPr/>
              <p:nvPr/>
            </p:nvSpPr>
            <p:spPr>
              <a:xfrm>
                <a:off x="3414960" y="1600200"/>
                <a:ext cx="1925640" cy="830160"/>
              </a:xfrm>
              <a:prstGeom prst="rect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nimal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92560" y="3760560"/>
                <a:ext cx="12096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Insect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335760" y="3760560"/>
                <a:ext cx="135864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Mamma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4600" y="3722400"/>
                <a:ext cx="120960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Reptil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01000" y="3760560"/>
                <a:ext cx="166212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mphibian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11520" y="3262320"/>
                <a:ext cx="57420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11520" y="3262320"/>
                <a:ext cx="0" cy="554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926160" y="3262320"/>
                <a:ext cx="0" cy="554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40560" y="3262320"/>
                <a:ext cx="0" cy="554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53520" y="3262320"/>
                <a:ext cx="0" cy="554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ncapsulation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viding access to an object only through its messages, while keeping the details private is called information hiding. An equivalent buzzword is encapsul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class has many properties and methods.  It is not necessary for a user to have access to all of th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communication to an object is done via messages. Messages define the interface to the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capsul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ilds an impenetrable wall to protect the code from accidental corruption due to the silly little errors that we are all prone to mak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olates errors to small sections of code to make them easier to find and fix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ncapsulation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usabilit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-oriented development a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formation to be shared within an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use of designs and code for future proje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grams are broken down into reusable objec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heritance also promotes re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Felines and Subclasse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523880" y="1219320"/>
            <a:ext cx="7086600" cy="4766760"/>
            <a:chOff x="1523880" y="1219320"/>
            <a:chExt cx="7086600" cy="4766760"/>
          </a:xfrm>
        </p:grpSpPr>
        <p:graphicFrame>
          <p:nvGraphicFramePr>
            <p:cNvPr id="277" name=""/>
            <p:cNvGraphicFramePr/>
            <p:nvPr/>
          </p:nvGraphicFramePr>
          <p:xfrm>
            <a:off x="1781280" y="4933440"/>
            <a:ext cx="1014480" cy="96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81280" y="4933440"/>
                      <a:ext cx="1014480" cy="96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"/>
            <p:cNvGraphicFramePr/>
            <p:nvPr/>
          </p:nvGraphicFramePr>
          <p:xfrm>
            <a:off x="5840280" y="4950360"/>
            <a:ext cx="1027080" cy="61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40280" y="4950360"/>
                      <a:ext cx="1027080" cy="61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1" name=""/>
            <p:cNvSpPr/>
            <p:nvPr/>
          </p:nvSpPr>
          <p:spPr>
            <a:xfrm>
              <a:off x="4809960" y="3472920"/>
              <a:ext cx="0" cy="587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1523880" y="1219320"/>
              <a:ext cx="7086600" cy="4766760"/>
              <a:chOff x="1523880" y="1219320"/>
              <a:chExt cx="7086600" cy="4766760"/>
            </a:xfrm>
          </p:grpSpPr>
          <p:sp>
            <p:nvSpPr>
              <p:cNvPr id="283" name=""/>
              <p:cNvSpPr/>
              <p:nvPr/>
            </p:nvSpPr>
            <p:spPr>
              <a:xfrm>
                <a:off x="1523880" y="4436640"/>
                <a:ext cx="3216240" cy="154944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ats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     Actions: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Mew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rink mil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unt mic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60520" y="1219320"/>
                <a:ext cx="5031000" cy="13813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Felines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Actions: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Make sound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at/drin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unt pre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00240" y="4055040"/>
                <a:ext cx="37195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990880" y="4055040"/>
                <a:ext cx="1440" cy="387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38840" y="4055040"/>
                <a:ext cx="0" cy="293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815000" y="2673360"/>
                <a:ext cx="0" cy="9453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10080" y="4374360"/>
                <a:ext cx="3200400" cy="16009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Lions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       Actions: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Roa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at flesh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unt big gam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5328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olymorphism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ymorphism enables the same function to behave differently on different clas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existing object stays the same, and any changes made are only additions to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762120" y="495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morphism promotes encapsul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52480" y="1752480"/>
            <a:ext cx="5486400" cy="2819520"/>
            <a:chOff x="1752480" y="1752480"/>
            <a:chExt cx="5486400" cy="2819520"/>
          </a:xfrm>
        </p:grpSpPr>
        <p:sp>
          <p:nvSpPr>
            <p:cNvPr id="294" name=""/>
            <p:cNvSpPr/>
            <p:nvPr/>
          </p:nvSpPr>
          <p:spPr>
            <a:xfrm>
              <a:off x="6141960" y="2754360"/>
              <a:ext cx="1096920" cy="80172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752480" y="1752480"/>
              <a:ext cx="4572000" cy="2819520"/>
              <a:chOff x="1752480" y="1752480"/>
              <a:chExt cx="4572000" cy="2819520"/>
            </a:xfrm>
          </p:grpSpPr>
          <p:sp>
            <p:nvSpPr>
              <p:cNvPr id="296" name=""/>
              <p:cNvSpPr/>
              <p:nvPr/>
            </p:nvSpPr>
            <p:spPr>
              <a:xfrm>
                <a:off x="2301840" y="2166840"/>
                <a:ext cx="1644840" cy="24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lass: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Shap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Methods: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raw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Mov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Initialis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752480" y="1752480"/>
                <a:ext cx="2378160" cy="2805120"/>
              </a:xfrm>
              <a:prstGeom prst="cloudCallout">
                <a:avLst>
                  <a:gd name="adj1" fmla="val -30611"/>
                  <a:gd name="adj2" fmla="val 26388"/>
                </a:avLst>
              </a:prstGeom>
              <a:noFill/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61080" y="2354400"/>
                <a:ext cx="1098360" cy="801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78200" y="3355920"/>
                <a:ext cx="1097280" cy="60012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78200" y="1752480"/>
                <a:ext cx="1646280" cy="60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Subclas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685800" y="47160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olymorphism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lass Construct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9320" y="1231560"/>
            <a:ext cx="777240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eneral syntax of the class construc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lass user_defined name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ata_type memb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mplementation operatio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ata_type memb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mplementation operatio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lasses and Structures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ructure contains one or more data items (called members) which are grouped together as a single uni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ss consists of not only data elements but also functions, which operate on the data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he variables and the functions declared in a class, whether in the public or private section, are the members of the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a structure all elements are public by defaul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Objectives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Classes with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Private and Public sections of Clas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Member fun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ublic and Private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ss members can be declared in the public or the private sections of a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prevent data from unrestricted access, the data members of a class are normally declared in the private sec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ublic part constitutes the interface to objects of the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ata members and functions declared in the public section, can be accessed by any function in the outside world (outside the class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876920" y="1371240"/>
            <a:ext cx="3962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data is not available outside the cl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data of other classes is hidden and not available within the functions of this clas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2755800"/>
            <a:ext cx="1554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accessible from outside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4530600"/>
            <a:ext cx="1554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ible from outside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3328920"/>
            <a:ext cx="906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93840" y="4979880"/>
            <a:ext cx="777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575080" y="1828800"/>
            <a:ext cx="2073240" cy="3835440"/>
            <a:chOff x="2575080" y="1828800"/>
            <a:chExt cx="2073240" cy="3835440"/>
          </a:xfrm>
        </p:grpSpPr>
        <p:sp>
          <p:nvSpPr>
            <p:cNvPr id="314" name=""/>
            <p:cNvSpPr/>
            <p:nvPr/>
          </p:nvSpPr>
          <p:spPr>
            <a:xfrm>
              <a:off x="2575080" y="2362320"/>
              <a:ext cx="2073240" cy="3301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4735440"/>
              <a:ext cx="1166760" cy="75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1828800"/>
              <a:ext cx="12952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la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8120" y="3029040"/>
              <a:ext cx="1166760" cy="75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24080" y="3029040"/>
              <a:ext cx="12956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Data or func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24080" y="4789440"/>
              <a:ext cx="129564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Data or func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2448000"/>
              <a:ext cx="103680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Priv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81280" y="3970440"/>
              <a:ext cx="10368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4"/>
                  </a:solidFill>
                  <a:latin typeface="Times New Roman"/>
                </a:rPr>
                <a:t>Publi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581280" y="3809880"/>
              <a:ext cx="0" cy="719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ublic and Private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Member functions (1)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	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C++, a function declared as a member of a class is called a member func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mber functions are usually put in the public part of the class because they have to be called outside the class either in a program or in a function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laration of a member function must define its return value as well as the list of its argument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the member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void setdate(int, int, int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has no return value or has a void return value, and has three integer argument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mber functions can be more complex as they can have local variable, parameters and other elemen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uld not have the same name as a data memb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Member functions (2)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	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Using the clas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class exampleclass{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priv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object_data is an integer; member_function1(parameter1, parameter2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{assign value to object_data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member_function2(){display data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main program{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exampleclass object1,object2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object1.member_function1(200);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object1.member_function2();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object2.member_function1(350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object2.member_function2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Using the class (2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708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Defining Objec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Courier New"/>
              </a:rPr>
              <a:t>exampleclass object1,object2;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defines two objects, object1 and object2, of class 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examplecla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we define an object, space is set aside for it in memor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12168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alling member function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ommunicate with objects by calling their member functi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object1.member_function1(20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object1.member_function2();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mber function is always called to act on a specific object, not on the clas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with a specific object with the dot operator ( the period)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eneral syntax for accessing a member function of a class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class_object.function_memb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ot operator is called the class member operato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alling member functions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214200"/>
            <a:ext cx="9144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wo objects with different value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5230800"/>
            <a:ext cx="21207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cl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 spec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1371600"/>
            <a:ext cx="19764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_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72120" y="1789200"/>
            <a:ext cx="1471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19920" y="4925880"/>
            <a:ext cx="1547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37440" y="3035160"/>
            <a:ext cx="2349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s of  the clas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14400" y="1371600"/>
            <a:ext cx="2260440" cy="379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76720" y="2158920"/>
            <a:ext cx="928800" cy="355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5280" y="1676520"/>
            <a:ext cx="1868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2209680"/>
            <a:ext cx="928800" cy="35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895480"/>
            <a:ext cx="22366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ations for exampleclass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6469200" y="2144520"/>
            <a:ext cx="529920" cy="1068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77120" y="4191120"/>
            <a:ext cx="30456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3962520"/>
            <a:ext cx="197640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_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00400" y="4749840"/>
            <a:ext cx="928800" cy="355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Objectives (3)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Objects and Member functions of a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Member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 and retur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briefly the features of C++ and another OO language (Smalltal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896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assing Object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s can be passed to a function and returned back just like normal variab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compiler creates another object as a formal  variable in the called fun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nt function1(exampleclass obj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{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return object_data;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77120" y="464832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54100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Formal arg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83908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bove function can be invoked using a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 such 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int variable = object1.function1(object2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n a member function is called, it is given access to the object of which the function is a memb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assing Objects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"/>
          <p:cNvSpPr/>
          <p:nvPr/>
        </p:nvSpPr>
        <p:spPr>
          <a:xfrm>
            <a:off x="7391520" y="281952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3733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tual arg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turning Objec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return statement in a function is considered to initialise a variable of the returned typ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ffcc00"/>
                </a:solidFill>
                <a:latin typeface="Courier New"/>
              </a:rPr>
              <a:t>exampleclass object3 =   object1.function1(object2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ing and returning of objects is not very efficient since it involves passing and returning a copy of the data membe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-214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bject-Oriented Language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++ , Smalltalk , Eiffel, CLOS, J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ry in their support of object-oriented concep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single language that matches all styles and meets all need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212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n introduction to C++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veloped by Bjarne Stroustrup at AT&amp;T Bell Laborator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rived from the C languag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compatible with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++ programs are fast and efficient but it sacrifices some flexibility in order to remain effici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++ uses compile-time binding.  Provides high run-time efficiency and small code size, but it trades off some of the power to reuse class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n introduction to C++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malltalk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108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re object-oriented languag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le C++ makes some practical compromises to ensure fast execution and small code size, Smalltalk makes no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s run-time binding, which means that nothing about the type of an object need be known before a Smalltalk program is ru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ificantly faster to develop than C++ program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s a rich class library that can be easily reused via inheri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s a dynamic development environmen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not explicitly compiled, like C++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talk generally takes longer to master than C++.  It is syntactically very simp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malltalk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-214200"/>
            <a:ext cx="84582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he Object-Oriented approach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lassify living beings as objects just as we classify things we use as objects of different typ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application can be defined in terms of entities or objects so that the process replicates human thought process as closely as possibl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12348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ff"/>
                </a:solidFill>
                <a:latin typeface="Arial Unicode MS"/>
              </a:rPr>
              <a:t>Departments as objects in an organisation</a:t>
            </a: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5334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ople in each department control and operate on that department's data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2070000"/>
            <a:ext cx="1006560" cy="1554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49760" y="3441600"/>
            <a:ext cx="1004760" cy="1587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4240" y="2070000"/>
            <a:ext cx="1006560" cy="1554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22640" y="3441600"/>
            <a:ext cx="82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Sal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78160" y="207000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Personne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78560" y="207000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40120" y="3718080"/>
          <a:ext cx="549360" cy="49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0120" y="3718080"/>
                    <a:ext cx="549360" cy="493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840120" y="4325760"/>
          <a:ext cx="247680" cy="6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40120" y="4325760"/>
                    <a:ext cx="247680" cy="673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851440" y="2892600"/>
          <a:ext cx="247680" cy="67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51440" y="2892600"/>
                    <a:ext cx="247680" cy="67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486400" y="2835360"/>
          <a:ext cx="252360" cy="722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6400" y="2835360"/>
                    <a:ext cx="252360" cy="722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678040" y="2951280"/>
          <a:ext cx="247680" cy="672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78040" y="2951280"/>
                    <a:ext cx="247680" cy="67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378160" y="2892600"/>
          <a:ext cx="252360" cy="723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78160" y="2892600"/>
                    <a:ext cx="252360" cy="723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2378160" y="2344680"/>
            <a:ext cx="3657600" cy="2654280"/>
            <a:chOff x="2378160" y="2344680"/>
            <a:chExt cx="3657600" cy="2654280"/>
          </a:xfrm>
        </p:grpSpPr>
        <p:graphicFrame>
          <p:nvGraphicFramePr>
            <p:cNvPr id="169" name=""/>
            <p:cNvGraphicFramePr/>
            <p:nvPr/>
          </p:nvGraphicFramePr>
          <p:xfrm>
            <a:off x="5578560" y="2344680"/>
            <a:ext cx="457200" cy="4366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578560" y="2344680"/>
                      <a:ext cx="457200" cy="43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4114800" y="4276800"/>
            <a:ext cx="252360" cy="7221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114800" y="4276800"/>
                      <a:ext cx="252360" cy="7221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2378160" y="2344680"/>
            <a:ext cx="639720" cy="5828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2378160" y="2344680"/>
                      <a:ext cx="639720" cy="5828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3200400" y="2892600"/>
              <a:ext cx="219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664160" y="3624120"/>
              <a:ext cx="1004760" cy="54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35360" y="3624120"/>
              <a:ext cx="914400" cy="640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-62640"/>
            <a:ext cx="8991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 Unicode MS"/>
              </a:rPr>
              <a:t>Traditional Programming Drawbacks (1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manageabl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ograms become larger they become unmanage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276720"/>
            <a:ext cx="807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roblems in modifica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ng new data items means modifying all the tasks or functions that access the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to impossible to separate parts of a program from revisions made in another pa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itional Programming focussed on implementation detail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raditional Programming code and data were stored separat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76320" y="-153000"/>
            <a:ext cx="89913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 Unicode MS"/>
              </a:rPr>
              <a:t>Traditional Programming Drawbacks (2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ntroduction to OOP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OP allows for analysis and design of an application in terms of entities or obj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nd data are merged into a single indivisible thing -- an obje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0:18:42Z</dcterms:created>
  <dc:creator>VICTOR</dc:creator>
  <dc:description/>
  <dc:language>en-US</dc:language>
  <cp:lastModifiedBy>Sindhu</cp:lastModifiedBy>
  <cp:lastPrinted>1999-04-23T09:43:18Z</cp:lastPrinted>
  <dcterms:modified xsi:type="dcterms:W3CDTF">2001-09-20T12:06:33Z</dcterms:modified>
  <cp:revision>115</cp:revision>
  <dc:subject/>
  <dc:title>Session 1</dc:title>
</cp:coreProperties>
</file>