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F18-5637-4ABC-ABF3-331B8DBE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195-51B8-4804-83F2-39F8089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9BF-BD64-43C2-A25A-8BC9D9E6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645-3EEC-40EF-874D-ADBE5ECC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3DB-D243-4E50-BAAA-63B918E2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45D-2917-4DA5-ADC0-1B741F18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D71-1DE8-4ABA-ADE0-9AA3FAE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C2E-622F-4571-B72D-3288CE3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645-727F-487D-97BE-13249A1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E2F-53B2-4B18-8A2C-16E9F9A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ECD-D5BB-4365-958B-DD0D8763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F2E-F865-48A3-B460-19CADC7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0" y="63244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nux, C, C++/ Object Oriented Programming with C++ / Session 1/ </a:t>
            </a:r>
            <a:fld id="{4E08AD4F-0C22-4162-A19A-8C31B6EBAF6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of 2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54F-605A-4305-9012-DFDAB0C3E4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75760" y="16668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676520"/>
            <a:ext cx="73915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tting Started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ith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++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633760" y="30492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Header Fi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0880" y="1260360"/>
            <a:ext cx="87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Header files are used to enable the feature of reusability of program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2680" y="2286000"/>
            <a:ext cx="85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function present in a library can be used through a header file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without having access to its actual code struc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1600" y="3718080"/>
            <a:ext cx="81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enable this feature you need to include a declaration of the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function, contained in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h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file, called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ader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19360" y="4924440"/>
            <a:ext cx="5705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# include &lt;iostream.h&gt;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449440" y="30492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Input / Outpu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560" y="1271520"/>
            <a:ext cx="8711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Input is the process of retrieving data from an input device -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Keyboar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0160" y="1839960"/>
            <a:ext cx="8792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Output is the process of transmitting data to an output device -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Monito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120" y="2438280"/>
            <a:ext cx="828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I / O operations in C++ involve moving bytes from devices to 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memory and vice versa in a consistent and reliable manne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3429000"/>
          <a:ext cx="8076960" cy="233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429000"/>
                    <a:ext cx="80769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720" y="304920"/>
            <a:ext cx="70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ndard Input Strea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920" y="1271520"/>
            <a:ext cx="8604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following object, in combination with its corresponding insertion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operator performs input in C++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52480" y="2362320"/>
            <a:ext cx="76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86040" y="236232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&gt;&gt;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29040" y="2362320"/>
            <a:ext cx="2257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_number ;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" y="2209680"/>
            <a:ext cx="2743200" cy="4303440"/>
            <a:chOff x="228600" y="2209680"/>
            <a:chExt cx="2743200" cy="4303440"/>
          </a:xfrm>
        </p:grpSpPr>
        <p:sp>
          <p:nvSpPr>
            <p:cNvPr id="217" name=""/>
            <p:cNvSpPr/>
            <p:nvPr/>
          </p:nvSpPr>
          <p:spPr>
            <a:xfrm>
              <a:off x="228600" y="4191120"/>
              <a:ext cx="2743200" cy="1981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2209680"/>
              <a:ext cx="13716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5440" y="4286160"/>
              <a:ext cx="257004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The object corresponds to the standard input stream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720" y="3200400"/>
              <a:ext cx="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0400" y="2209680"/>
            <a:ext cx="5867280" cy="4330080"/>
            <a:chOff x="3200400" y="2209680"/>
            <a:chExt cx="5867280" cy="4330080"/>
          </a:xfrm>
        </p:grpSpPr>
        <p:sp>
          <p:nvSpPr>
            <p:cNvPr id="222" name=""/>
            <p:cNvSpPr/>
            <p:nvPr/>
          </p:nvSpPr>
          <p:spPr>
            <a:xfrm>
              <a:off x="4495680" y="3809880"/>
              <a:ext cx="4572000" cy="236232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2209680"/>
              <a:ext cx="13716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0" y="3886200"/>
              <a:ext cx="43070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The insertion operator is used with the cin statement</a:t>
              </a:r>
              <a:br>
                <a:rPr sz="2800"/>
              </a:b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for the input to be redirected to the memory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1280" y="3200400"/>
              <a:ext cx="0" cy="1219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41972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6280" y="1271520"/>
            <a:ext cx="8749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following object, in combination with its corresponding extraction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operator performs output in C++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5800" y="304920"/>
            <a:ext cx="750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tandard Output Strea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09680" y="2438280"/>
            <a:ext cx="1067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u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43240" y="24382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&lt;&lt;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86240" y="2438280"/>
            <a:ext cx="2257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_number ;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0880" y="2286000"/>
            <a:ext cx="3733920" cy="3886200"/>
            <a:chOff x="380880" y="2286000"/>
            <a:chExt cx="3733920" cy="3886200"/>
          </a:xfrm>
        </p:grpSpPr>
        <p:sp>
          <p:nvSpPr>
            <p:cNvPr id="233" name=""/>
            <p:cNvSpPr/>
            <p:nvPr/>
          </p:nvSpPr>
          <p:spPr>
            <a:xfrm>
              <a:off x="380880" y="4191120"/>
              <a:ext cx="3733920" cy="1981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2286000"/>
              <a:ext cx="167616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720" y="4295880"/>
              <a:ext cx="3560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The object corresponds to the standard output stream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276720"/>
              <a:ext cx="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63880" y="2314440"/>
            <a:ext cx="5280120" cy="4149000"/>
            <a:chOff x="3863880" y="2314440"/>
            <a:chExt cx="5280120" cy="4149000"/>
          </a:xfrm>
        </p:grpSpPr>
        <p:sp>
          <p:nvSpPr>
            <p:cNvPr id="238" name=""/>
            <p:cNvSpPr/>
            <p:nvPr/>
          </p:nvSpPr>
          <p:spPr>
            <a:xfrm>
              <a:off x="4648320" y="3733920"/>
              <a:ext cx="4495680" cy="236196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63880" y="2314440"/>
              <a:ext cx="13716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312408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3809880"/>
              <a:ext cx="4419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The extraction operator is used with the cout statement</a:t>
              </a:r>
              <a:br>
                <a:rPr sz="2800"/>
              </a:br>
              <a:r>
                <a:rPr b="0" lang="en-US" sz="2800" spc="-1" strike="noStrike">
                  <a:solidFill>
                    <a:srgbClr val="003399"/>
                  </a:solidFill>
                  <a:latin typeface="Tahoma"/>
                </a:rPr>
                <a:t>for the output to be redirected to the monitor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01360" y="304920"/>
            <a:ext cx="75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ascading I / O Operato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5120" y="1271520"/>
            <a:ext cx="8207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input and output streams can be used in combination and this 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method of using I / O streams is referred to as Cascading of I / O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operator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95280" y="2514600"/>
          <a:ext cx="6629400" cy="35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14600"/>
                    <a:ext cx="662940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58800" y="304920"/>
            <a:ext cx="62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In C++ -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7640" y="1271520"/>
            <a:ext cx="8332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Output in C++ can be formatted using special characters associated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with the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cin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and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cout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statement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71960" y="2071800"/>
            <a:ext cx="7757640" cy="3795480"/>
            <a:chOff x="471960" y="2071800"/>
            <a:chExt cx="7757640" cy="3795480"/>
          </a:xfrm>
        </p:grpSpPr>
        <p:graphicFrame>
          <p:nvGraphicFramePr>
            <p:cNvPr id="249" name=""/>
            <p:cNvGraphicFramePr/>
            <p:nvPr/>
          </p:nvGraphicFramePr>
          <p:xfrm>
            <a:off x="914400" y="2712960"/>
            <a:ext cx="7315200" cy="3154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712960"/>
                      <a:ext cx="731520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"/>
            <p:cNvSpPr/>
            <p:nvPr/>
          </p:nvSpPr>
          <p:spPr>
            <a:xfrm>
              <a:off x="471960" y="2071800"/>
              <a:ext cx="1655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Example :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35120" y="304920"/>
            <a:ext cx="62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In C++ -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70880" y="2071800"/>
            <a:ext cx="7758720" cy="1995480"/>
            <a:chOff x="470880" y="2071800"/>
            <a:chExt cx="7758720" cy="1995480"/>
          </a:xfrm>
        </p:grpSpPr>
        <p:sp>
          <p:nvSpPr>
            <p:cNvPr id="254" name=""/>
            <p:cNvSpPr/>
            <p:nvPr/>
          </p:nvSpPr>
          <p:spPr>
            <a:xfrm>
              <a:off x="470880" y="2071800"/>
              <a:ext cx="1429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71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Output :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914400" y="2971800"/>
            <a:ext cx="7315200" cy="109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971800"/>
                      <a:ext cx="7315200" cy="10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-24120" y="152280"/>
            <a:ext cx="915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Functions In C++ -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62520" y="182880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d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75120" y="3336840"/>
            <a:ext cx="487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ahoma"/>
              </a:rPr>
              <a:t>This function inserts a new lin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00" y="4191120"/>
            <a:ext cx="842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ahoma"/>
              </a:rPr>
              <a:t>It clears the current output stream of any existing da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-24120" y="304920"/>
            <a:ext cx="915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ormatting Functions In C++ -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84400" y="1828800"/>
            <a:ext cx="8605440" cy="2821320"/>
            <a:chOff x="284400" y="1828800"/>
            <a:chExt cx="8605440" cy="2821320"/>
          </a:xfrm>
        </p:grpSpPr>
        <p:sp>
          <p:nvSpPr>
            <p:cNvPr id="263" name=""/>
            <p:cNvSpPr txBox="1"/>
            <p:nvPr/>
          </p:nvSpPr>
          <p:spPr>
            <a:xfrm>
              <a:off x="3809880" y="1828800"/>
              <a:ext cx="1447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width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00" y="2952720"/>
              <a:ext cx="860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The width function used by the output stream is used to </a:t>
              </a:r>
              <a:br>
                <a:rPr sz="2500"/>
              </a:b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indicate the current output stream width.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7680" y="4175280"/>
              <a:ext cx="771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It is also used to modify the output stream width.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02800" y="30492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ertain Essentials -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760" y="1271520"/>
            <a:ext cx="681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essential components of a program construct are 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185760" y="1981080"/>
            <a:ext cx="9606600" cy="3888000"/>
            <a:chOff x="-185760" y="1981080"/>
            <a:chExt cx="9606600" cy="3888000"/>
          </a:xfrm>
        </p:grpSpPr>
        <p:grpSp>
          <p:nvGrpSpPr>
            <p:cNvPr id="269" name=""/>
            <p:cNvGrpSpPr/>
            <p:nvPr/>
          </p:nvGrpSpPr>
          <p:grpSpPr>
            <a:xfrm>
              <a:off x="1295280" y="1981080"/>
              <a:ext cx="6705720" cy="3124440"/>
              <a:chOff x="1295280" y="1981080"/>
              <a:chExt cx="6705720" cy="312444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1981080"/>
                <a:ext cx="6705720" cy="3124440"/>
              </a:xfrm>
              <a:prstGeom prst="irregularSeal2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98d4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 rot="20852400">
                <a:off x="3367080" y="2819520"/>
                <a:ext cx="2409840" cy="1295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Arial Black"/>
                  </a:rPr>
                  <a:t>Function </a:t>
                </a:r>
                <a:endPara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Arial Black"/>
                  </a:rPr>
                  <a:t>Definition</a:t>
                </a:r>
                <a:endPara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-185760" y="5394240"/>
              <a:ext cx="9606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Functions are defined to break up large tasks into smaller task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54360" y="166680"/>
            <a:ext cx="54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Session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68040" y="1295280"/>
            <a:ext cx="6194880" cy="685800"/>
            <a:chOff x="968040" y="1295280"/>
            <a:chExt cx="6194880" cy="685800"/>
          </a:xfrm>
        </p:grpSpPr>
        <p:sp>
          <p:nvSpPr>
            <p:cNvPr id="142" name=""/>
            <p:cNvSpPr/>
            <p:nvPr/>
          </p:nvSpPr>
          <p:spPr>
            <a:xfrm>
              <a:off x="990720" y="129528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68040" y="1413000"/>
              <a:ext cx="51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Define the structure of a C++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65880" y="2514600"/>
            <a:ext cx="6294960" cy="685800"/>
            <a:chOff x="965880" y="2514600"/>
            <a:chExt cx="6294960" cy="685800"/>
          </a:xfrm>
        </p:grpSpPr>
        <p:sp>
          <p:nvSpPr>
            <p:cNvPr id="145" name=""/>
            <p:cNvSpPr/>
            <p:nvPr/>
          </p:nvSpPr>
          <p:spPr>
            <a:xfrm>
              <a:off x="990720" y="251460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65880" y="2590920"/>
              <a:ext cx="629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Identify the standard input and output fun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83880" y="3733920"/>
            <a:ext cx="6179040" cy="685800"/>
            <a:chOff x="983880" y="3733920"/>
            <a:chExt cx="6179040" cy="685800"/>
          </a:xfrm>
        </p:grpSpPr>
        <p:sp>
          <p:nvSpPr>
            <p:cNvPr id="148" name=""/>
            <p:cNvSpPr/>
            <p:nvPr/>
          </p:nvSpPr>
          <p:spPr>
            <a:xfrm>
              <a:off x="990720" y="373392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83880" y="3825720"/>
              <a:ext cx="58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Use comments, width() and endl() fun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88200" y="4952880"/>
            <a:ext cx="6174720" cy="685800"/>
            <a:chOff x="988200" y="4952880"/>
            <a:chExt cx="6174720" cy="685800"/>
          </a:xfrm>
        </p:grpSpPr>
        <p:sp>
          <p:nvSpPr>
            <p:cNvPr id="151" name=""/>
            <p:cNvSpPr/>
            <p:nvPr/>
          </p:nvSpPr>
          <p:spPr>
            <a:xfrm>
              <a:off x="990720" y="4952880"/>
              <a:ext cx="617220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8200" y="502884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44"/>
                  </a:solidFill>
                  <a:latin typeface="Times New Roman"/>
                </a:rPr>
                <a:t>Use the ed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779120" y="30492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ertain Essentials -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-118800" y="1600200"/>
            <a:ext cx="9443520" cy="4268520"/>
            <a:chOff x="-118800" y="1600200"/>
            <a:chExt cx="9443520" cy="4268520"/>
          </a:xfrm>
        </p:grpSpPr>
        <p:sp>
          <p:nvSpPr>
            <p:cNvPr id="275" name=""/>
            <p:cNvSpPr/>
            <p:nvPr/>
          </p:nvSpPr>
          <p:spPr>
            <a:xfrm>
              <a:off x="1281240" y="1600200"/>
              <a:ext cx="6705360" cy="312408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 rot="20852400">
              <a:off x="3052440" y="2774880"/>
              <a:ext cx="2744640" cy="99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Delimiters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118800" y="5013000"/>
              <a:ext cx="9443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Delimiters { … } are used to delimit blocks of code in loops and</a:t>
              </a:r>
              <a:br>
                <a:rPr sz="2500"/>
              </a:b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functions.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02800" y="30492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ertain Essentials - 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108000" y="1600200"/>
            <a:ext cx="9304920" cy="4268520"/>
            <a:chOff x="-108000" y="1600200"/>
            <a:chExt cx="9304920" cy="4268520"/>
          </a:xfrm>
        </p:grpSpPr>
        <p:sp>
          <p:nvSpPr>
            <p:cNvPr id="280" name=""/>
            <p:cNvSpPr/>
            <p:nvPr/>
          </p:nvSpPr>
          <p:spPr>
            <a:xfrm>
              <a:off x="1281240" y="1600200"/>
              <a:ext cx="6705360" cy="312408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20852400">
              <a:off x="2801880" y="2617560"/>
              <a:ext cx="2978280" cy="11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Statement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Terminator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-108000" y="5013000"/>
              <a:ext cx="930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Each code instruction in C++ must be terminated with a semi-</a:t>
              </a:r>
              <a:br>
                <a:rPr sz="2500"/>
              </a:b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colon (;).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02800" y="30492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ertain Essentials - 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47960" y="1676520"/>
            <a:ext cx="9046080" cy="4268520"/>
            <a:chOff x="-147960" y="1676520"/>
            <a:chExt cx="9046080" cy="4268520"/>
          </a:xfrm>
        </p:grpSpPr>
        <p:sp>
          <p:nvSpPr>
            <p:cNvPr id="285" name=""/>
            <p:cNvSpPr/>
            <p:nvPr/>
          </p:nvSpPr>
          <p:spPr>
            <a:xfrm>
              <a:off x="1281240" y="1676520"/>
              <a:ext cx="6705360" cy="312408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98d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 rot="20852400">
              <a:off x="2801880" y="2693880"/>
              <a:ext cx="2978280" cy="11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Comments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147960" y="5089320"/>
              <a:ext cx="90460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Comments can be single line comments (</a:t>
              </a:r>
              <a:r>
                <a:rPr b="0" lang="en-US" sz="2500" spc="-1" strike="noStrike">
                  <a:solidFill>
                    <a:srgbClr val="ff3300"/>
                  </a:solidFill>
                  <a:latin typeface="Tahoma"/>
                </a:rPr>
                <a:t>//</a:t>
              </a: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) or multiple line </a:t>
              </a:r>
              <a:br>
                <a:rPr sz="2500"/>
              </a:b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comments (</a:t>
              </a:r>
              <a:r>
                <a:rPr b="0" lang="en-US" sz="2500" spc="-1" strike="noStrike">
                  <a:solidFill>
                    <a:srgbClr val="ff3300"/>
                  </a:solidFill>
                  <a:latin typeface="Tahoma"/>
                </a:rPr>
                <a:t>/*</a:t>
              </a: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 …… </a:t>
              </a:r>
              <a:r>
                <a:rPr b="0" lang="en-US" sz="2500" spc="-1" strike="noStrike">
                  <a:solidFill>
                    <a:srgbClr val="ff3300"/>
                  </a:solidFill>
                  <a:latin typeface="Tahoma"/>
                </a:rPr>
                <a:t>*/</a:t>
              </a:r>
              <a:r>
                <a:rPr b="0" lang="en-US" sz="2500" spc="-1" strike="noStrike">
                  <a:solidFill>
                    <a:srgbClr val="ffff00"/>
                  </a:solidFill>
                  <a:latin typeface="Tahoma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895760" y="76320"/>
            <a:ext cx="55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Borland C++ Edit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3774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2320" y="1066680"/>
            <a:ext cx="7996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Borland C++ interface is a simple character based interfac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9080" y="1614600"/>
            <a:ext cx="834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A C++ program is first written in the editor, called the source cod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706840" y="304920"/>
            <a:ext cx="451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mpilation -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560" y="1295280"/>
            <a:ext cx="8653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The Borland C++ compiler translates the source code to assembly</a:t>
            </a:r>
            <a:br>
              <a:rPr sz="2300"/>
            </a:b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   language that the computer understand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600" y="2514600"/>
            <a:ext cx="8865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If a program is too large to be contained in one file, it can be put in </a:t>
            </a:r>
            <a:br>
              <a:rPr sz="2300"/>
            </a:b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   separate files and each of the files can be compiled separately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40" y="3778200"/>
            <a:ext cx="8962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The advantage of having separate compilation is that if code in a file</a:t>
            </a:r>
            <a:br>
              <a:rPr sz="2300"/>
            </a:b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   is changed, the entire program need not be recompiled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240" y="4997520"/>
            <a:ext cx="8638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Th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ile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option under the </a:t>
            </a:r>
            <a:r>
              <a:rPr b="1" lang="en-US" sz="2300" spc="-1" strike="noStrike">
                <a:solidFill>
                  <a:srgbClr val="ff3300"/>
                </a:solidFill>
                <a:latin typeface="Times New Roman"/>
              </a:rPr>
              <a:t>Compile</a:t>
            </a: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menu compiles the active </a:t>
            </a:r>
            <a:br>
              <a:rPr sz="2300"/>
            </a:br>
            <a:r>
              <a:rPr b="1" lang="en-US" sz="2300" spc="-1" strike="noStrike">
                <a:solidFill>
                  <a:srgbClr val="66ff33"/>
                </a:solidFill>
                <a:latin typeface="Times New Roman"/>
              </a:rPr>
              <a:t>    editor fil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mpile-screen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4906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706840" y="76320"/>
            <a:ext cx="451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ompilation -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9600" y="76320"/>
            <a:ext cx="463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rror Messag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8000" y="914400"/>
            <a:ext cx="7792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Errors and warnings are generated by the compiler at run tim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160" y="1461960"/>
            <a:ext cx="601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All these are displayed in the message window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43000" y="2057400"/>
          <a:ext cx="678168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057400"/>
                    <a:ext cx="678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88960" y="304920"/>
            <a:ext cx="31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inking - 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79800" y="1295280"/>
            <a:ext cx="8673480" cy="2988000"/>
            <a:chOff x="379800" y="1295280"/>
            <a:chExt cx="8673480" cy="2988000"/>
          </a:xfrm>
        </p:grpSpPr>
        <p:sp>
          <p:nvSpPr>
            <p:cNvPr id="306" name=""/>
            <p:cNvSpPr/>
            <p:nvPr/>
          </p:nvSpPr>
          <p:spPr>
            <a:xfrm>
              <a:off x="383040" y="1295280"/>
              <a:ext cx="797904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71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The source code along with support routines from the function </a:t>
              </a:r>
              <a:br>
                <a:rPr sz="2300"/>
              </a:b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   libraries and any other separately compiled functions are linked </a:t>
              </a:r>
              <a:br>
                <a:rPr sz="2300"/>
              </a:b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   together by the C++ linker into an executable code, which is the</a:t>
              </a:r>
              <a:br>
                <a:rPr sz="2300"/>
              </a:b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   .exe file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9800" y="3138480"/>
              <a:ext cx="86734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The </a:t>
              </a:r>
              <a:r>
                <a:rPr b="0" lang="en-US" sz="2300" spc="-1" strike="noStrike">
                  <a:solidFill>
                    <a:srgbClr val="ffff00"/>
                  </a:solidFill>
                  <a:latin typeface="Times New Roman"/>
                </a:rPr>
                <a:t>Link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command in the </a:t>
              </a:r>
              <a:r>
                <a:rPr b="0" lang="en-US" sz="2300" spc="-1" strike="noStrike">
                  <a:solidFill>
                    <a:srgbClr val="ff3300"/>
                  </a:solidFill>
                  <a:latin typeface="Times New Roman"/>
                </a:rPr>
                <a:t>Compile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menu links all the different object </a:t>
              </a:r>
              <a:br>
                <a:rPr sz="2300"/>
              </a:b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   code files as specified in the </a:t>
              </a:r>
              <a:r>
                <a:rPr b="0" lang="en-US" sz="2300" spc="-1" strike="noStrike">
                  <a:solidFill>
                    <a:srgbClr val="ffff00"/>
                  </a:solidFill>
                  <a:latin typeface="Times New Roman"/>
                </a:rPr>
                <a:t>Include Files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option of the </a:t>
              </a:r>
              <a:r>
                <a:rPr b="0" lang="en-US" sz="2300" spc="-1" strike="noStrike">
                  <a:solidFill>
                    <a:srgbClr val="ff3300"/>
                  </a:solidFill>
                  <a:latin typeface="Times New Roman"/>
                </a:rPr>
                <a:t>Project</a:t>
              </a: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br>
                <a:rPr sz="2300"/>
              </a:br>
              <a:r>
                <a:rPr b="0" lang="en-US" sz="2300" spc="-1" strike="noStrike">
                  <a:solidFill>
                    <a:srgbClr val="66ff33"/>
                  </a:solidFill>
                  <a:latin typeface="Times New Roman"/>
                </a:rPr>
                <a:t>    menu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linker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4624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60360" y="304920"/>
            <a:ext cx="31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Linking - 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067560" y="76320"/>
            <a:ext cx="297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xecu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7640" y="990720"/>
            <a:ext cx="7558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e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Run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option from the </a:t>
            </a:r>
            <a:r>
              <a:rPr b="0" lang="en-US" sz="2300" spc="-1" strike="noStrike">
                <a:solidFill>
                  <a:srgbClr val="ff3300"/>
                </a:solidFill>
                <a:latin typeface="Times New Roman"/>
              </a:rPr>
              <a:t>Run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menu carries out the action of </a:t>
            </a:r>
            <a:br>
              <a:rPr sz="2300"/>
            </a:b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   compiling, linking and executing the program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9080" y="2057400"/>
            <a:ext cx="738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This can also be done using the Ctrl + F9 key combinatio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run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640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09800" y="7632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ogra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7960" y="923760"/>
            <a:ext cx="78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A program can be defined as a set of instructions, which tell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a computer what to do in order to serve the requirements of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the us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360" y="2133720"/>
            <a:ext cx="62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undamentally, there are 3 types of program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743200"/>
            <a:ext cx="4495680" cy="1523880"/>
          </a:xfrm>
          <a:custGeom>
            <a:avLst/>
            <a:gdLst>
              <a:gd name="textAreaLeft" fmla="*/ 1123920 w 4495680"/>
              <a:gd name="textAreaRight" fmla="*/ 3371760 w 4495680"/>
              <a:gd name="textAreaTop" fmla="*/ 50796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Custom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572000"/>
            <a:ext cx="3505320" cy="152388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50796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4572000"/>
            <a:ext cx="3429000" cy="152388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50796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02680" y="166680"/>
            <a:ext cx="49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Evolution Of C+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bellogo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5181480" cy="1241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095880" y="1600200"/>
            <a:ext cx="2819520" cy="4495680"/>
            <a:chOff x="6095880" y="1600200"/>
            <a:chExt cx="2819520" cy="4495680"/>
          </a:xfrm>
        </p:grpSpPr>
        <p:pic>
          <p:nvPicPr>
            <p:cNvPr id="162" name="pe01460_" descr=""/>
            <p:cNvPicPr/>
            <p:nvPr/>
          </p:nvPicPr>
          <p:blipFill>
            <a:blip r:embed="rId2"/>
            <a:stretch/>
          </p:blipFill>
          <p:spPr>
            <a:xfrm>
              <a:off x="6095880" y="2666880"/>
              <a:ext cx="27576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6095880" y="1600200"/>
              <a:ext cx="2819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Bjarn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Stroustrup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3581280" y="342900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8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1676520"/>
            <a:ext cx="1905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++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87240" y="304920"/>
            <a:ext cx="396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Produc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209680"/>
            <a:ext cx="4114800" cy="9144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70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urbo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209680"/>
            <a:ext cx="4114800" cy="9144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70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orland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86160" y="3505320"/>
            <a:ext cx="4114800" cy="9144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70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ortech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800600"/>
            <a:ext cx="4114800" cy="9144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70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T &amp; T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800600"/>
            <a:ext cx="4114800" cy="9144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70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n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760" y="126036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re are several C++ products available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5440" y="304920"/>
            <a:ext cx="67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C++ Program Stru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880" y="126036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++ is a structural programming langu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0280" y="18288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Let us see a simple C++ program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2514600"/>
          <a:ext cx="7467480" cy="13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14600"/>
                    <a:ext cx="74674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27400" y="4114800"/>
            <a:ext cx="83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above program prints the following message on your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19520" y="4952880"/>
            <a:ext cx="350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ello there !!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50840" y="304920"/>
            <a:ext cx="67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# include ….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 state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800" y="1260360"/>
            <a:ext cx="85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# include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statement is the first statement in any C++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240" y="1996920"/>
            <a:ext cx="86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t is the most fundamental set of instructions, which is required for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writing any C++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139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#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notation at the beginning of the statement indicates tha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ollowing instruction is a special instruction to C++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4120" y="4343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t  establishes a reference to the header f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920" y="525780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t  is termed a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rocessor directive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21160" y="304920"/>
            <a:ext cx="574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The</a:t>
            </a:r>
            <a:r>
              <a:rPr b="0" lang="en-US" sz="4800" spc="-1" strike="noStrike">
                <a:solidFill>
                  <a:srgbClr val="ffff00"/>
                </a:solidFill>
                <a:latin typeface="Arial Unicode MS"/>
              </a:rPr>
              <a:t> main() </a:t>
            </a: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fun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200" y="126036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unctions can be defined as a group of program state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4120" y="1996920"/>
            <a:ext cx="84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execution of every program in C++ begins with the function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main(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400" y="304812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t marks the starting point of execution of the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4120" y="382572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is is a special name recognized by the system under which C++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0160" y="4892760"/>
            <a:ext cx="857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main() function is thus the centralized point for all processing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in a C++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64240" y="304920"/>
            <a:ext cx="672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Unicode MS"/>
              </a:rPr>
              <a:t>Processing State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240" y="126036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statement declaring the main() function is followed by the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symbol ‘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‘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960" y="207324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right brace ‘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’ indicates the end of the main()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1960" y="2666880"/>
            <a:ext cx="73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All processing statements related to the main() function 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   should be defined within the curly br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3400" y="3521160"/>
            <a:ext cx="83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area within the braces is defined as the body of the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8080" y="4114800"/>
            <a:ext cx="18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{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71440" y="4772160"/>
            <a:ext cx="62960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ut &lt;&lt; "Hello There !!!" ;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5457960"/>
            <a:ext cx="181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}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04:31:40Z</dcterms:created>
  <dc:creator>Amit Shindore</dc:creator>
  <dc:description/>
  <dc:language>en-US</dc:language>
  <cp:lastModifiedBy>Sindhu</cp:lastModifiedBy>
  <dcterms:modified xsi:type="dcterms:W3CDTF">2001-07-04T12:06:59Z</dcterms:modified>
  <cp:revision>173</cp:revision>
  <dc:subject/>
  <dc:title>PowerPoint Presentation</dc:title>
</cp:coreProperties>
</file>