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648450" cy="9805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0A21-35F3-47C3-8B06-A5A0AA26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CAF0-8AB9-4116-8AE0-61D8C710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46FB-2054-4E5E-BC08-E5BB25EA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012A-0FBD-47F3-9020-642F6DB3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F662-BA49-439C-9725-A7E99A8B1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FC93-6129-4393-99A8-C0146911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4581-265A-410E-A45F-64F650C4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79F4-925D-4F8D-B42E-ED27C202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F828-2D1B-49C6-994C-902CE4A8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244A-FA8E-4F9A-B21A-1790C33F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365B-63A2-41AB-A129-D202DE26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96A9-04AB-4262-9C53-2360AE43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C7F9-7A99-432E-8E12-BB745083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3363-BF50-4E21-9BFE-31C4779C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CAB1-6709-40B9-A260-4695C663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800B-7B75-4FBE-82D7-0444A9830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A14C-7226-4868-801A-4AD7E1920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1D19-EB93-4900-997A-FB778BC4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93B6-BA48-4F23-AA2F-27AE8641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4050-F2BA-4ABD-BDA6-A65BD9FC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0804-A88D-4E45-B29E-0BA02B66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D51C-0E2E-4719-A423-CCEF4881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6827-9CC9-4E53-ACB5-CB430AC4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AC89-DCAD-4846-821F-FD0FEE07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5981-FC50-43AC-927D-78E966F5FB57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35"/>
          <p:cNvSpPr/>
          <p:nvPr/>
        </p:nvSpPr>
        <p:spPr>
          <a:xfrm>
            <a:off x="0" y="655308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nux, C, C++ / Object Oriented Programming with C++ / Session 9 / </a:t>
            </a:r>
            <a:fld id="{D523C876-578E-4829-8837-4A67BDB326A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of 3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5"/>
          <p:cNvSpPr/>
          <p:nvPr/>
        </p:nvSpPr>
        <p:spPr>
          <a:xfrm>
            <a:off x="0" y="655308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nux, C, C++ / Object Oriented Programming with C++ / Session 9 / </a:t>
            </a:r>
            <a:fld id="{263B941C-0524-43C2-AB0E-26E47FAE94A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of 3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01D2-1DA0-49F7-9C48-5847D3555AE3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6400800" cy="16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Unicode MS"/>
              </a:rPr>
              <a:t>Session 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WordArt 4"/>
          <p:cNvSpPr txBox="1"/>
          <p:nvPr/>
        </p:nvSpPr>
        <p:spPr>
          <a:xfrm>
            <a:off x="533520" y="1306440"/>
            <a:ext cx="8305560" cy="372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Clas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Impact"/>
              </a:rPr>
              <a:t>Inline func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Allocating Arrays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8600" y="10663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*pt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tr = new int[100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 [] pt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en you allocate an array of objects using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new,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you must use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in the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statem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ying to </a:t>
            </a:r>
            <a:r>
              <a:rPr b="1" lang="en-GB" sz="2800" spc="-1" strike="noStrike">
                <a:solidFill>
                  <a:srgbClr val="44546a"/>
                </a:solidFill>
                <a:latin typeface="Courier New"/>
              </a:rPr>
              <a:t>delet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a variable that has been allocated using </a:t>
            </a:r>
            <a:r>
              <a:rPr b="1" lang="en-GB" sz="2800" spc="-1" strike="noStrike">
                <a:solidFill>
                  <a:srgbClr val="44546a"/>
                </a:solidFill>
                <a:latin typeface="Courier New"/>
              </a:rPr>
              <a:t>malloc</a:t>
            </a:r>
            <a:r>
              <a:rPr b="1" lang="en-GB" sz="2800" spc="-1" strike="noStrike">
                <a:solidFill>
                  <a:srgbClr val="44546a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nd trying </a:t>
            </a:r>
            <a:r>
              <a:rPr b="1" lang="en-GB" sz="2800" spc="-1" strike="noStrike">
                <a:solidFill>
                  <a:srgbClr val="44546a"/>
                </a:solidFill>
                <a:latin typeface="Courier New"/>
              </a:rPr>
              <a:t>fre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a variable that was allocated with </a:t>
            </a:r>
            <a:r>
              <a:rPr b="1" lang="en-GB" sz="2800" spc="-1" strike="noStrike">
                <a:solidFill>
                  <a:srgbClr val="44546a"/>
                </a:solidFill>
                <a:latin typeface="Courier New"/>
              </a:rPr>
              <a:t>new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will generate an err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Pointers to objects (1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8600" y="1523880"/>
            <a:ext cx="87631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inters can point to objects as well as to simple data typ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claring a pointer to an object of a particular class is the same as declaring a pointer to a variable of any data typ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Pointers to objects (2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0880" y="1371240"/>
            <a:ext cx="830592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44546a"/>
                </a:solidFill>
                <a:latin typeface="Courier New"/>
              </a:rPr>
              <a:t>date *today_ptr;</a:t>
            </a:r>
            <a:r>
              <a:rPr b="1" lang="en-GB" sz="2400" spc="-1" strike="noStrike">
                <a:solidFill>
                  <a:srgbClr val="44546a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//pointer to an object of type d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44546a"/>
                </a:solidFill>
                <a:latin typeface="Courier New"/>
              </a:rPr>
              <a:t>today_ptr = new date;</a:t>
            </a:r>
            <a:r>
              <a:rPr b="1" lang="en-GB" sz="2400" spc="-1" strike="noStrike">
                <a:solidFill>
                  <a:srgbClr val="44546a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//points to the new date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access a method of the object use the arrow (-&gt;) opera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44546a"/>
                </a:solidFill>
                <a:latin typeface="Courier New"/>
              </a:rPr>
              <a:t>today_ptr-&gt;getdate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Constructors (1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2952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 constructor is a special member function for automatic initialisation of an object.</a:t>
            </a: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s the same name as the class it belongs t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n be declared and defined within the class, or can be declared within the class and defined outside the clas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return type is used for construc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3300" spc="-1" strike="noStrike">
                <a:solidFill>
                  <a:srgbClr val="00ffff"/>
                </a:solidFill>
                <a:latin typeface="Arial Unicode MS"/>
              </a:rPr>
              <a:t>Constructors (2)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28600" y="9144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5716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class username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public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username();</a:t>
            </a: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 //constru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username::username() { 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ou can have more than one construc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 case of multiple constructors, the types of the arguments or the number of arguments should diff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date now;</a:t>
            </a: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date today(4);</a:t>
            </a: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date all(23,3,1998);</a:t>
            </a:r>
            <a:r>
              <a:rPr b="1" lang="en-GB" sz="2000" spc="-1" strike="noStrike">
                <a:solidFill>
                  <a:srgbClr val="44546a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6632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Constructors (3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0520" y="1447920"/>
            <a:ext cx="8610840" cy="455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Courier New"/>
              </a:rPr>
              <a:t>class date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Courier New"/>
              </a:rPr>
              <a:t>int month, day, yea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Courier New"/>
              </a:rPr>
              <a:t>date()</a:t>
            </a:r>
            <a:r>
              <a:rPr b="1" lang="en-GB" sz="24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//default constru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Courier New"/>
              </a:rPr>
              <a:t>{day=1; month=1; year=1999;}</a:t>
            </a:r>
            <a:r>
              <a:rPr b="1" lang="en-GB" sz="24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Courier New"/>
              </a:rPr>
              <a:t>date(int x) </a:t>
            </a:r>
            <a:r>
              <a:rPr b="1" lang="en-GB" sz="24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//only day is specif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Courier New"/>
              </a:rPr>
              <a:t>{day=x; month=1; year=1999;}</a:t>
            </a:r>
            <a:r>
              <a:rPr b="1" lang="en-GB" sz="24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8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Courier New"/>
              </a:rPr>
              <a:t>date(int x, int y, int z)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//day month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Courier New"/>
              </a:rPr>
              <a:t>{day=x; month=y; year=z;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3300" spc="-1" strike="noStrike">
                <a:solidFill>
                  <a:srgbClr val="00ffff"/>
                </a:solidFill>
                <a:latin typeface="Arial Unicode MS"/>
              </a:rPr>
              <a:t>Destruc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8600" y="8380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destructor is a member function that is called automatically when an object is destroyed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not be directly called from the class. The compiler itself generates a call to a destructor when an object expire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ame name as the class but with a tilde (~) before the class nam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class username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public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~username();</a:t>
            </a: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//destru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structors have no return type and they take no argumen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2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Arial Unicode MS"/>
              </a:rPr>
              <a:t>De-allocate memory with delet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2860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44546a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400" spc="-1" strike="noStrike">
                <a:solidFill>
                  <a:srgbClr val="44546a"/>
                </a:solidFill>
                <a:latin typeface="Calibri"/>
              </a:rPr>
              <a:t>Destructors are used  to de-allocate memory that was allocated for the object by the construc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class String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char *str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String(char *s){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//constru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int length = strlen(s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str = new char[length+1]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strcpy(str,s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~String() {delete[] str;} //destru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5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The Const keyword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 constant is an entity whose value does not change during the execution of a progra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keywor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used to declare a const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 constant cannot be assigned to, so it must be initiali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Courier New"/>
              </a:rPr>
              <a:t>const int num=100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Courier New"/>
              </a:rPr>
              <a:t>num=200;</a:t>
            </a:r>
            <a:r>
              <a:rPr b="1" lang="en-US" sz="2400" spc="-1" strike="noStrike">
                <a:solidFill>
                  <a:srgbClr val="44546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44546a"/>
                </a:solidFill>
                <a:latin typeface="Courier New"/>
              </a:rPr>
              <a:t>//er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Courier New"/>
              </a:rPr>
              <a:t>num++;</a:t>
            </a:r>
            <a:r>
              <a:rPr b="1" lang="en-US" sz="2400" spc="-1" strike="noStrike">
                <a:solidFill>
                  <a:srgbClr val="44546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44546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44546a"/>
                </a:solidFill>
                <a:latin typeface="Courier New"/>
              </a:rPr>
              <a:t>//er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Const with pointers (1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600" y="9144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n we use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with a pointer, there are two objects involved - the pointer and the object pointed t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efixing a declaration of a pointer with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makes the object, but not the pointer, a constant.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num =10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Courier New"/>
              </a:rPr>
              <a:t>const int *iptr = &amp;num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Courier New"/>
              </a:rPr>
              <a:t>*iptr = 25;</a:t>
            </a:r>
            <a:r>
              <a:rPr b="1" lang="en-US" sz="2400" spc="-1" strike="noStrike">
                <a:solidFill>
                  <a:srgbClr val="44546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44546a"/>
                </a:solidFill>
                <a:latin typeface="Courier New"/>
              </a:rPr>
              <a:t>  //er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Courier New"/>
              </a:rPr>
              <a:t>num = 25;</a:t>
            </a:r>
            <a:r>
              <a:rPr b="1" lang="en-US" sz="2400" spc="-1" strike="noStrike">
                <a:solidFill>
                  <a:srgbClr val="44546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44546a"/>
                </a:solidFill>
                <a:latin typeface="Courier New"/>
              </a:rPr>
              <a:t>  //valid, num is not const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Courier New"/>
              </a:rPr>
              <a:t>int xyz = 200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Courier New"/>
              </a:rPr>
              <a:t>iptr  = &amp;xyz; //iptr can point anywhere el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Courier New"/>
              </a:rPr>
              <a:t>*iptr = 305;</a:t>
            </a:r>
            <a:r>
              <a:rPr b="1" lang="en-US" sz="2400" spc="-1" strike="noStrike">
                <a:solidFill>
                  <a:srgbClr val="44546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44546a"/>
                </a:solidFill>
                <a:latin typeface="Courier New"/>
              </a:rPr>
              <a:t> //er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Unicode MS"/>
              </a:rPr>
              <a:t>Session Objectives</a:t>
            </a:r>
            <a:r>
              <a:rPr b="0" lang="en-GB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Arial Unicode MS"/>
              </a:rPr>
              <a:t>(1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219320" y="1371240"/>
            <a:ext cx="777240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Use the scope resolution operato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Use dynamic memory allocation with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Use pointers to obj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Define and use Constructor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Define and use Destructo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Define the "Const" keywor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Const with pointers (2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28600" y="12952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t is possible to declare a pointer itself as a constant using the </a:t>
            </a:r>
            <a:r>
              <a:rPr b="1" lang="en-GB" sz="2800" spc="-1" strike="noStrike">
                <a:solidFill>
                  <a:srgbClr val="44546a"/>
                </a:solidFill>
                <a:latin typeface="Courier New"/>
              </a:rPr>
              <a:t>*const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rator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44546a"/>
                </a:solidFill>
                <a:latin typeface="Courier New"/>
              </a:rPr>
              <a:t>int a1 = 777; //constant pointer to inte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44546a"/>
                </a:solidFill>
                <a:latin typeface="Courier New"/>
              </a:rPr>
              <a:t>int *const ptr = &amp;a1;</a:t>
            </a:r>
            <a:r>
              <a:rPr b="1" lang="en-GB" sz="2400" spc="-1" strike="noStrike">
                <a:solidFill>
                  <a:srgbClr val="44546a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44546a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44546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44546a"/>
                </a:solidFill>
                <a:latin typeface="Courier New"/>
              </a:rPr>
              <a:t>*ptr = 66;</a:t>
            </a:r>
            <a:r>
              <a:rPr b="1" lang="en-GB" sz="2400" spc="-1" strike="noStrike">
                <a:solidFill>
                  <a:srgbClr val="44546a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44546a"/>
                </a:solidFill>
                <a:latin typeface="Courier New"/>
              </a:rPr>
              <a:t> //val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44546a"/>
                </a:solidFill>
                <a:latin typeface="Courier New"/>
              </a:rPr>
              <a:t>int a2 = 45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44546a"/>
                </a:solidFill>
                <a:latin typeface="Courier New"/>
              </a:rPr>
              <a:t>ptr = &amp;a2;</a:t>
            </a:r>
            <a:r>
              <a:rPr b="1" lang="en-GB" sz="2400" spc="-1" strike="noStrike">
                <a:solidFill>
                  <a:srgbClr val="44546a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44546a"/>
                </a:solidFill>
                <a:latin typeface="Courier New"/>
              </a:rPr>
              <a:t>//error, ptr is a const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Const with pointers (3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600" y="1142640"/>
            <a:ext cx="86868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GB" sz="2800" spc="-1" strike="noStrike">
                <a:solidFill>
                  <a:srgbClr val="44546a"/>
                </a:solidFill>
                <a:latin typeface="Courier New"/>
              </a:rPr>
              <a:t>const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keyword can also be used in parameter lis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44546a"/>
                </a:solidFill>
                <a:latin typeface="Courier New"/>
              </a:rPr>
              <a:t>void func(const char *st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44546a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44546a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44546a"/>
                </a:solidFill>
                <a:latin typeface="Courier New"/>
              </a:rPr>
              <a:t>str  = "hello";</a:t>
            </a:r>
            <a:r>
              <a:rPr b="1" lang="en-GB" sz="2400" spc="-1" strike="noStrike">
                <a:solidFill>
                  <a:srgbClr val="44546a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44546a"/>
                </a:solidFill>
                <a:latin typeface="Courier New"/>
              </a:rPr>
              <a:t>//val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44546a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44546a"/>
                </a:solidFill>
                <a:latin typeface="Courier New"/>
              </a:rPr>
              <a:t>*str = 'A';</a:t>
            </a:r>
            <a:r>
              <a:rPr b="1" lang="en-GB" sz="2400" spc="-1" strike="noStrike">
                <a:solidFill>
                  <a:srgbClr val="44546a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44546a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44546a"/>
                </a:solidFill>
                <a:latin typeface="Courier New"/>
              </a:rPr>
              <a:t>//er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44546a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44546a"/>
                </a:solidFill>
                <a:latin typeface="Courier New"/>
              </a:rPr>
              <a:t>void func1(const int index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44546a"/>
                </a:solidFill>
                <a:latin typeface="Courier New"/>
              </a:rPr>
              <a:t>{ index = 5;}   </a:t>
            </a:r>
            <a:r>
              <a:rPr b="1" lang="en-GB" sz="2400" spc="-1" strike="noStrike">
                <a:solidFill>
                  <a:srgbClr val="44546a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44546a"/>
                </a:solidFill>
                <a:latin typeface="Courier New"/>
              </a:rPr>
              <a:t>//er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98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Arial Unicode MS"/>
              </a:rPr>
              <a:t>The </a:t>
            </a:r>
            <a:r>
              <a:rPr b="1" lang="en-GB" sz="4000" spc="-1" strike="noStrike">
                <a:solidFill>
                  <a:srgbClr val="000000"/>
                </a:solidFill>
                <a:latin typeface="Arial Unicode MS"/>
              </a:rPr>
              <a:t>this</a:t>
            </a:r>
            <a:r>
              <a:rPr b="0" lang="en-GB" sz="4000" spc="-1" strike="noStrike">
                <a:solidFill>
                  <a:srgbClr val="00ffff"/>
                </a:solidFill>
                <a:latin typeface="Arial Unicode MS"/>
              </a:rPr>
              <a:t> pointer (1)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28600" y="8380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Keyword </a:t>
            </a:r>
            <a:r>
              <a:rPr b="1" lang="en-GB" sz="2400" spc="-1" strike="noStrike">
                <a:solidFill>
                  <a:srgbClr val="44546a"/>
                </a:solidFill>
                <a:latin typeface="Courier New"/>
              </a:rPr>
              <a:t>this</a:t>
            </a:r>
            <a:r>
              <a:rPr b="1" lang="en-GB" sz="2400" spc="-1" strike="noStrike">
                <a:solidFill>
                  <a:srgbClr val="44546a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ives the address of the object, which was used to invoke the member function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never a member function is called, the compiler assigns the address of the object, which invoked the function, to the </a:t>
            </a:r>
            <a:r>
              <a:rPr b="1" lang="en-GB" sz="2400" spc="-1" strike="noStrike">
                <a:solidFill>
                  <a:srgbClr val="44546a"/>
                </a:solidFill>
                <a:latin typeface="Courier New"/>
              </a:rPr>
              <a:t>thi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ointer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be used like any other pointer to an objec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 be used to access the members of the object it points to using the arrow operator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44546a"/>
                </a:solidFill>
                <a:latin typeface="Courier New"/>
              </a:rPr>
              <a:t>this-&gt;age = 5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44546a"/>
                </a:solidFill>
                <a:latin typeface="Courier New"/>
              </a:rPr>
              <a:t>this-&gt;getdata(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Arial Unicode MS"/>
              </a:rPr>
              <a:t>The </a:t>
            </a:r>
            <a:r>
              <a:rPr b="1" lang="en-GB" sz="4000" spc="-1" strike="noStrike">
                <a:solidFill>
                  <a:srgbClr val="000000"/>
                </a:solidFill>
                <a:latin typeface="Arial Unicode MS"/>
              </a:rPr>
              <a:t>this</a:t>
            </a:r>
            <a:r>
              <a:rPr b="0" lang="en-GB" sz="4000" spc="-1" strike="noStrike">
                <a:solidFill>
                  <a:srgbClr val="00ffff"/>
                </a:solidFill>
                <a:latin typeface="Arial Unicode MS"/>
              </a:rPr>
              <a:t> pointer (2)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0880" y="990360"/>
            <a:ext cx="8382240" cy="525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800000"/>
                </a:solidFill>
                <a:latin typeface="Courier New"/>
              </a:rPr>
              <a:t>class Person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800000"/>
                </a:solidFill>
                <a:latin typeface="Courier New"/>
              </a:rPr>
              <a:t>privat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800000"/>
                </a:solidFill>
                <a:latin typeface="Courier New"/>
              </a:rPr>
              <a:t>int ag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800000"/>
                </a:solidFill>
                <a:latin typeface="Courier New"/>
              </a:rPr>
              <a:t>public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800000"/>
                </a:solidFill>
                <a:latin typeface="Courier New"/>
              </a:rPr>
              <a:t>void display(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80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800000"/>
                </a:solidFill>
                <a:latin typeface="Courier New"/>
              </a:rPr>
              <a:t>void Person :: display(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800000"/>
                </a:solidFill>
                <a:latin typeface="Courier New"/>
              </a:rPr>
              <a:t>{ this-&gt;age = 25; </a:t>
            </a:r>
            <a:r>
              <a:rPr b="1" lang="en-GB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800000"/>
                </a:solidFill>
                <a:latin typeface="Courier New"/>
              </a:rPr>
              <a:t>// same as age=2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800000"/>
                </a:solidFill>
                <a:latin typeface="Courier New"/>
              </a:rPr>
              <a:t>cout&lt;&lt;this-&gt;age;</a:t>
            </a:r>
            <a:r>
              <a:rPr b="1" lang="en-GB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800000"/>
                </a:solidFill>
                <a:latin typeface="Courier New"/>
              </a:rPr>
              <a:t>// same as cout&lt;&lt;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800000"/>
                </a:solidFill>
                <a:latin typeface="Courier New"/>
              </a:rPr>
              <a:t>void main(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800000"/>
                </a:solidFill>
                <a:latin typeface="Courier New"/>
              </a:rPr>
              <a:t>{</a:t>
            </a:r>
            <a:r>
              <a:rPr b="1" lang="en-GB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800000"/>
                </a:solidFill>
                <a:latin typeface="Courier New"/>
              </a:rPr>
              <a:t>Person Jack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800000"/>
                </a:solidFill>
                <a:latin typeface="Courier New"/>
              </a:rPr>
              <a:t>Jack.display(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72960" y="212400"/>
            <a:ext cx="83980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Arial Unicode MS"/>
              </a:rPr>
              <a:t>Objects and functions in memory (1)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28600" y="167616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ach object has its own copy of the data members of the clas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member functions are created and placed in memory only once - when they are defined in the class specifier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1371600" y="1623960"/>
            <a:ext cx="167652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Arial Unicode MS"/>
              </a:rPr>
              <a:t>Objects and functions in memory (2)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34" name="Object 37"/>
          <p:cNvGraphicFramePr/>
          <p:nvPr/>
        </p:nvGraphicFramePr>
        <p:xfrm>
          <a:off x="685800" y="1068480"/>
          <a:ext cx="7772400" cy="50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8480"/>
                    <a:ext cx="7772400" cy="50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3300" spc="-1" strike="noStrike">
                <a:solidFill>
                  <a:srgbClr val="00ffff"/>
                </a:solidFill>
                <a:latin typeface="Arial Unicode MS"/>
              </a:rPr>
              <a:t>Static Data Members (1)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ful when all objects of the same class must share a common item of information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f a data item in a class is defined as static, then only one such item is created for the entire class, no matter how many objects there a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nly visible within the class, but its lifetime is through the entire program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44546a"/>
                </a:solidFill>
                <a:latin typeface="Courier New"/>
              </a:rPr>
              <a:t>static data_type variabl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Static Data Members (2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1142640"/>
            <a:ext cx="5181840" cy="487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Courier New"/>
              </a:rPr>
              <a:t>class race_cars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Courier New"/>
              </a:rPr>
              <a:t>static int coun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Courier New"/>
              </a:rPr>
              <a:t>int car_numbe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Courier New"/>
              </a:rPr>
              <a:t>char name[30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Courier New"/>
              </a:rPr>
              <a:t>race_cars(){count++;}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Courier New"/>
              </a:rPr>
              <a:t>~race_cars(){count--;}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Courier New"/>
              </a:rPr>
              <a:t>int race_cars::count;</a:t>
            </a:r>
            <a:r>
              <a:rPr b="1" lang="en-GB" sz="2400" spc="-1" strike="noStrike">
                <a:solidFill>
                  <a:srgbClr val="8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5867280" y="24382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static data member should be created and initialised before the main() program beg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4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6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2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4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0" dur="5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4582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More on Static Data members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2860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ccess rules are same as for other data memb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f declared as private, the non-member functions cannot access i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f declared as public, then any member of the class can access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atic member can become a global data for the clas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90000"/>
            <a:ext cx="81536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Static Member Functions (1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 static member function can manipulate only on the static data member of the clas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cts as global for members of its class without affecting the rest of the program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t is not part of the objects of a class.  It does not have a </a:t>
            </a:r>
            <a:r>
              <a:rPr b="1" lang="en-GB" sz="2800" spc="-1" strike="noStrike">
                <a:solidFill>
                  <a:srgbClr val="44546a"/>
                </a:solidFill>
                <a:latin typeface="Courier New"/>
              </a:rPr>
              <a:t>this</a:t>
            </a:r>
            <a:r>
              <a:rPr b="1" lang="en-GB" sz="2800" spc="-1" strike="noStrike">
                <a:solidFill>
                  <a:srgbClr val="44546a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in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3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8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Unicode MS"/>
              </a:rPr>
              <a:t>Session Objectives</a:t>
            </a:r>
            <a:r>
              <a:rPr b="0" lang="en-GB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Arial Unicode MS"/>
              </a:rPr>
              <a:t>(2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62120" y="990360"/>
            <a:ext cx="77724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Define and use the "this" point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Describe how objects and functions are arranged in memor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tatic Data Memb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tatic member Fun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Describe type conversions us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nverting by assign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ype ca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Explain Inline func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Static Member Functions (2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0520" y="1295280"/>
            <a:ext cx="8534520" cy="457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e7e6e6"/>
                </a:solidFill>
                <a:latin typeface="Courier New"/>
              </a:rPr>
              <a:t>class alpha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e7e6e6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e7e6e6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e7e6e6"/>
                </a:solidFill>
                <a:latin typeface="Courier New"/>
              </a:rPr>
              <a:t>static int count;</a:t>
            </a:r>
            <a:r>
              <a:rPr b="1" lang="en-GB" sz="2400" spc="-1" strike="noStrike">
                <a:solidFill>
                  <a:srgbClr val="e7e6e6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800000"/>
                </a:solidFill>
                <a:latin typeface="Courier New"/>
              </a:rPr>
              <a:t>//static data me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e7e6e6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e7e6e6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e7e6e6"/>
                </a:solidFill>
                <a:latin typeface="Courier New"/>
              </a:rPr>
              <a:t>alpha(){count++;}</a:t>
            </a:r>
            <a:r>
              <a:rPr b="1" lang="en-GB" sz="2400" spc="-1" strike="noStrike">
                <a:solidFill>
                  <a:srgbClr val="e7e6e6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800000"/>
                </a:solidFill>
                <a:latin typeface="Courier New"/>
              </a:rPr>
              <a:t>//constructor increments</a:t>
            </a:r>
            <a:r>
              <a:rPr b="1" lang="en-GB" sz="2400" spc="-1" strike="noStrike">
                <a:solidFill>
                  <a:srgbClr val="e7e6e6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e7e6e6"/>
                </a:solidFill>
                <a:latin typeface="Courier New"/>
              </a:rPr>
              <a:t>                 </a:t>
            </a:r>
            <a:r>
              <a:rPr b="1" lang="en-GB" sz="2400" spc="-1" strike="noStrike">
                <a:solidFill>
                  <a:srgbClr val="800000"/>
                </a:solidFill>
                <a:latin typeface="Courier New"/>
              </a:rPr>
              <a:t>//cou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e7e6e6"/>
                </a:solidFill>
                <a:latin typeface="Courier New"/>
              </a:rPr>
              <a:t>static void display_count() </a:t>
            </a:r>
            <a:r>
              <a:rPr b="1" lang="en-GB" sz="2400" spc="-1" strike="noStrike">
                <a:solidFill>
                  <a:srgbClr val="800000"/>
                </a:solidFill>
                <a:latin typeface="Courier New"/>
              </a:rPr>
              <a:t>//static me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800000"/>
                </a:solidFill>
                <a:latin typeface="Courier New"/>
              </a:rPr>
              <a:t>//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e7e6e6"/>
                </a:solidFill>
                <a:latin typeface="Courier New"/>
              </a:rPr>
              <a:t>{ cout&lt;&lt;count; 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3430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e7e6e6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07696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Static Member Functions (3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void main(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alpha::display_count();    //before any object </a:t>
            </a: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//is crea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alpha  obj1, obj2, obj3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alpha::display_count();</a:t>
            </a: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//after three </a:t>
            </a: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//objects crea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ven when no object has been created we can directly call the static member using the name of the class and the scope-resolution operator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44546a"/>
                </a:solidFill>
                <a:latin typeface="Courier New"/>
              </a:rPr>
              <a:t>alpha::display_count(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3300" spc="-1" strike="noStrike">
                <a:solidFill>
                  <a:srgbClr val="00ffff"/>
                </a:solidFill>
                <a:latin typeface="Arial Unicode MS"/>
              </a:rPr>
              <a:t>Inline Functions (1)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600" y="9903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en a compiler sees a function call, it jumps to the function. At the end of the function it goes back to the instruction following the function ca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save execution time in short functions use inline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n inline function is written just like a normal function in the source file but compiles into inline code instead of into a func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44546a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44546a"/>
                </a:solidFill>
                <a:latin typeface="Courier New"/>
              </a:rPr>
              <a:t>inline float converter(float dollars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9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4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Inline Functions (2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52" name="Object 27"/>
          <p:cNvGraphicFramePr/>
          <p:nvPr/>
        </p:nvGraphicFramePr>
        <p:xfrm>
          <a:off x="228600" y="1260360"/>
          <a:ext cx="8458200" cy="468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60360"/>
                    <a:ext cx="8458200" cy="46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Inline Functions (3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520" y="13712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ery short functions suitable for inl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hown as a separate entity in source file but when program is compiled, the function body is inserted into the program wherever a function call occu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en you define an inline function for an application that involves different source files, you should not give different implementations of the inline member function in different source fil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Unicode MS"/>
              </a:rPr>
              <a:t>Scope resolution operator (1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" y="9903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unction can be defined outside the class specifier using a scope resolution operator (::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44546a"/>
                </a:solidFill>
                <a:latin typeface="Courier New"/>
              </a:rPr>
              <a:t>return_type class_name ::member_functions(arg1, arg2,. . ,arg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dentifies the function as a member of a particular clas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d to refer to global variable names in cases where a global variable and a local variable share the same name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44546a"/>
                </a:solidFill>
                <a:latin typeface="Courier New"/>
              </a:rPr>
              <a:t>::global_vari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Scope resolution operator (2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" y="990360"/>
            <a:ext cx="8610480" cy="5181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class sample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	</a:t>
            </a:r>
            <a:r>
              <a:rPr b="1" lang="en-GB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	</a:t>
            </a:r>
            <a:r>
              <a:rPr b="1" lang="en-GB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	</a:t>
            </a:r>
            <a:r>
              <a:rPr b="1" lang="en-GB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.</a:t>
            </a:r>
            <a:r>
              <a:rPr b="1" lang="en-GB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	</a:t>
            </a:r>
            <a:r>
              <a:rPr b="1" lang="en-GB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public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	</a:t>
            </a:r>
            <a:r>
              <a:rPr b="1" lang="en-GB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int sum();</a:t>
            </a:r>
            <a:r>
              <a:rPr b="1" lang="en-GB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	</a:t>
            </a:r>
            <a:r>
              <a:rPr b="1" lang="en-GB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// declaration of the fun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int sample::sum()// definition of member fun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	</a:t>
            </a:r>
            <a:r>
              <a:rPr b="1" lang="en-GB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.</a:t>
            </a:r>
            <a:r>
              <a:rPr b="1" lang="en-GB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	</a:t>
            </a:r>
            <a:r>
              <a:rPr b="1" lang="en-GB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	</a:t>
            </a:r>
            <a:r>
              <a:rPr b="1" lang="en-GB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	</a:t>
            </a:r>
            <a:r>
              <a:rPr b="1" lang="en-GB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//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	</a:t>
            </a:r>
            <a:r>
              <a:rPr b="1" lang="en-GB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	</a:t>
            </a:r>
            <a:r>
              <a:rPr b="1" lang="en-GB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return value of type in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Unicode MS"/>
              </a:rPr>
              <a:t>Dynamic memory allocation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1920" y="12193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n object is created when its definition appears in a program and it is destroyed when its name goes out of scope or the program terminate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The keyword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44546a"/>
                </a:solidFill>
                <a:latin typeface="Courier New"/>
              </a:rPr>
              <a:t>new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- creates object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operator </a:t>
            </a:r>
            <a:r>
              <a:rPr b="1" lang="en-GB" sz="2800" spc="-1" strike="noStrike">
                <a:solidFill>
                  <a:srgbClr val="44546a"/>
                </a:solidFill>
                <a:latin typeface="Courier New"/>
              </a:rPr>
              <a:t>delet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destroys objec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ects allocated by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are said to be on the free sto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Unicode MS"/>
              </a:rPr>
              <a:t>New (1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28600" y="9903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operator is used to create a memory space for an object of a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general syntax of the new operator 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000" spc="-1" strike="noStrike">
                <a:solidFill>
                  <a:srgbClr val="44546a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44546a"/>
                </a:solidFill>
                <a:latin typeface="Courier New"/>
              </a:rPr>
              <a:t>data_type pointer_variable  = new data_typ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int *p;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//pointer to integer typ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float *f;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//pointer to a float ty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p = new int;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//allocates memory for an inte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f = new float; //allocates memory for a flo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Unicode MS"/>
              </a:rPr>
              <a:t>New</a:t>
            </a: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 (</a:t>
            </a:r>
            <a:r>
              <a:rPr b="0" lang="en-GB" sz="48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28600" y="15238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If call to </a:t>
            </a:r>
            <a:r>
              <a:rPr b="0" lang="en-GB" sz="21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 is successful, it returns a pointer to the space that is allocated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turns zero if the space is not available or if some error is detect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operator is similar to the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malloc(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function used in 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Unicode MS"/>
              </a:rPr>
              <a:t>Delete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231560"/>
            <a:ext cx="861048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ect created by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44546a"/>
                </a:solidFill>
                <a:latin typeface="Courier New"/>
              </a:rPr>
              <a:t>new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ists until it is explicitly destroyed using </a:t>
            </a:r>
            <a:r>
              <a:rPr b="1" lang="en-GB" sz="2800" spc="-1" strike="noStrike">
                <a:solidFill>
                  <a:srgbClr val="44546a"/>
                </a:solidFill>
                <a:latin typeface="Courier New"/>
              </a:rPr>
              <a:t>delet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44546a"/>
                </a:solidFill>
                <a:latin typeface="Courier New"/>
              </a:rPr>
              <a:t>delete pointer_variabl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*pt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tr = new i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ptr = 1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t &lt;&lt; *pt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 pt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4T21:39:20Z</dcterms:created>
  <dc:creator>vinod</dc:creator>
  <dc:description/>
  <dc:language>en-US</dc:language>
  <cp:lastModifiedBy>Admin</cp:lastModifiedBy>
  <cp:lastPrinted>1999-06-19T10:28:25Z</cp:lastPrinted>
  <dcterms:modified xsi:type="dcterms:W3CDTF">2017-05-26T06:52:36Z</dcterms:modified>
  <cp:revision>87</cp:revision>
  <dc:subject/>
  <dc:title>More on Classes</dc:title>
</cp:coreProperties>
</file>