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0B9BF-6E8F-40A8-9BAB-9AFBC3BD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AE7A5-5841-4E24-B141-22E8620B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539FB-9212-42A5-B680-4576947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1EBAE-4014-483E-8E65-4D909CF0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59DC9-E139-4686-AFFE-906FA255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94FE6-631D-424B-B76C-E8B8FBEC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B9011-965B-4A5D-91EA-7C2197CE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FA396-3425-440D-9418-CA740C74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01713-F669-49B4-AEE1-6A2749B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6ACE7-F6E2-4DCC-B2A6-B6353A2E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94FD6-C973-4033-B297-820EF622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76B27-7B3D-4C74-A450-3B0B739E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inux, C, C++ / Object Oriented Programming with C++ / Session 6 / </a:t>
            </a:r>
            <a:fld id="{00DB295A-F81E-49EC-85A0-5C43C502788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of 37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FD8F-102A-4310-9F8F-113570565C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64840" y="90360"/>
            <a:ext cx="285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6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133720"/>
            <a:ext cx="807732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2764782"/>
                <a:gd name="adj2" fmla="val 51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Function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796480" y="152280"/>
            <a:ext cx="42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rgument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90720" y="1143000"/>
          <a:ext cx="761976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61976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68480" y="152280"/>
            <a:ext cx="738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turn from function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19320" y="1981080"/>
            <a:ext cx="6933960" cy="2235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A function can return a value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o its calling function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906480" y="3992400"/>
            <a:ext cx="74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Functions with the return data type ‘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oid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56560" y="4678200"/>
            <a:ext cx="42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o not return any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304812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eyword used is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tu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8480" y="152280"/>
            <a:ext cx="738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turn from function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19320" y="990720"/>
          <a:ext cx="678168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8168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68480" y="152280"/>
            <a:ext cx="738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turn from functions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624040" y="1371600"/>
          <a:ext cx="621504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4040" y="1371600"/>
                    <a:ext cx="621504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057400" y="2133720"/>
            <a:ext cx="990720" cy="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752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 retur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0"/>
            <a:ext cx="67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Return from functions (4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5280" y="95256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Character values can be returne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23880" y="2057400"/>
          <a:ext cx="632484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32484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14880" y="76320"/>
            <a:ext cx="629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cope of Variable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95480" y="1295280"/>
            <a:ext cx="3438720" cy="14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scope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90720" y="4152960"/>
            <a:ext cx="75866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ae3b7"/>
                    </a:gs>
                    <a:gs pos="5000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Arial Black"/>
              </a:rPr>
              <a:t>Depends upon th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ae3b7"/>
                  </a:gs>
                  <a:gs pos="5000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ae3b7"/>
                    </a:gs>
                    <a:gs pos="5000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Arial Black"/>
              </a:rPr>
              <a:t>location in the progra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ae3b7"/>
                  </a:gs>
                  <a:gs pos="5000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16680" y="76320"/>
            <a:ext cx="629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cope of Variable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95480" y="1295280"/>
            <a:ext cx="3438720" cy="14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Variabl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2895480"/>
            <a:ext cx="1752480" cy="236232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39625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ocal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ariabl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5000" y="39625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Global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ariabl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16680" y="76320"/>
            <a:ext cx="629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cope of Variables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60020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ariables defined within a function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n be accessed and modified within that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3809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ariables not defined within any function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n be accessed and modified by all the functions in that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16680" y="76320"/>
            <a:ext cx="629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cope of Variables (4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990720"/>
            <a:ext cx="746748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int gi_area;  //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Declaring a global variable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void main(vo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{  void using_globalvar(void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void g_func(void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int li_len, li_wid;  //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Declaring local vari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 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using_globalvar() ;  //Function 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Times New Roman"/>
                <a:ea typeface="Times New Roman"/>
              </a:rPr>
              <a:t> 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void using_globalvar(vo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\nArea = " &lt;&lt; gi_area; //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Global vari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getch()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return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2880" y="7632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cope of function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1520" y="1143000"/>
            <a:ext cx="7872480" cy="825480"/>
          </a:xfrm>
          <a:prstGeom prst="rect">
            <a:avLst/>
          </a:prstGeom>
          <a:gradFill rotWithShape="0">
            <a:gsLst>
              <a:gs pos="0">
                <a:srgbClr val="020202"/>
              </a:gs>
              <a:gs pos="50000">
                <a:srgbClr val="4d4d4d"/>
              </a:gs>
              <a:gs pos="100000">
                <a:srgbClr val="02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a function is declared within a function bod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s scope is limited to the function within which it is def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90720" y="2104920"/>
          <a:ext cx="7238880" cy="36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04920"/>
                    <a:ext cx="7238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32960" y="166680"/>
            <a:ext cx="624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objective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066680"/>
            <a:ext cx="8632800" cy="502920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663a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Understand what functions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Identify the function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Discuss the arguments of a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Discuss return from th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Discuss the type of a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Identify function decl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Identify function prot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Discuss more on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449720" y="76320"/>
            <a:ext cx="58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Scope of functions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31760" y="898560"/>
            <a:ext cx="6909120" cy="703800"/>
          </a:xfrm>
          <a:prstGeom prst="rect">
            <a:avLst/>
          </a:prstGeom>
          <a:gradFill rotWithShape="0">
            <a:gsLst>
              <a:gs pos="0">
                <a:srgbClr val="020202"/>
              </a:gs>
              <a:gs pos="50000">
                <a:srgbClr val="4d4d4d"/>
              </a:gs>
              <a:gs pos="100000">
                <a:srgbClr val="02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f a function is declared outside any function, then it becom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cessible to all of the functions within the progra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371600" y="1752480"/>
          <a:ext cx="67816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7816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8480" y="20304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Actual and Formal parameters (1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000" y="1523880"/>
            <a:ext cx="835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he parameter specified during a function ca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6560" y="2438280"/>
            <a:ext cx="75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ctual parameter ( argument 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7920" y="3711600"/>
            <a:ext cx="91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he corresponding parameter in the called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7760" y="4572000"/>
            <a:ext cx="77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mal parameter ( argument 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1295280"/>
            <a:ext cx="8305920" cy="417960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 </a:t>
            </a: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void test_function(int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test_function(1) ; \\ </a:t>
            </a:r>
            <a:r>
              <a:rPr b="1" lang="en-GB" sz="2400" spc="-1" strike="noStrike">
                <a:solidFill>
                  <a:srgbClr val="301d14"/>
                </a:solidFill>
                <a:latin typeface="Courier New"/>
                <a:ea typeface="Courier New"/>
              </a:rPr>
              <a:t>actual para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Void test_function(i_recd_value)\\</a:t>
            </a:r>
            <a:r>
              <a:rPr b="1" lang="en-GB" sz="2400" spc="-1" strike="noStrike">
                <a:solidFill>
                  <a:srgbClr val="301d14"/>
                </a:solidFill>
                <a:latin typeface="Courier New"/>
                <a:ea typeface="Courier New"/>
              </a:rPr>
              <a:t>formal para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int i_recd_value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Value passed = " &lt;&lt; i_recd_value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return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2520" y="20304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Actual and Formal parameters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57520" y="152280"/>
            <a:ext cx="502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Default Argument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143000"/>
            <a:ext cx="9144000" cy="39344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#include &lt;iostream.h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int called_function(int i1=1,int i2= ,int i3=1,int i4=1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void main(vo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lled_function(10, 10, 10, 10) ;// Call with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lled_function() ;//Without parameters using default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int called_function(int i1, int i2, int i3, int i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i1 &lt;&lt; endl &lt;&lt; i2 &lt;&lt; endl &lt;&lt; i3 &lt;&lt; endl  &lt;&lt; i4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return 1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89720" y="4619520"/>
            <a:ext cx="6909120" cy="1373760"/>
          </a:xfrm>
          <a:prstGeom prst="rect">
            <a:avLst/>
          </a:prstGeom>
          <a:gradFill rotWithShape="0">
            <a:gsLst>
              <a:gs pos="0">
                <a:srgbClr val="0000d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default argument is a value automatical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igned to a formal variable if the ac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gument from the function call is om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91240" y="228600"/>
            <a:ext cx="697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he sizeof() operator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09680" y="1828800"/>
            <a:ext cx="4953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unary compile time operat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19000" y="3672000"/>
            <a:ext cx="75060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returns the length of the variables in byt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91240" y="228600"/>
            <a:ext cx="697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he sizeof() operator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95280" y="1295280"/>
          <a:ext cx="646272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646272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2895480" y="4648320"/>
          <a:ext cx="356256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4648320"/>
                    <a:ext cx="3562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45320" y="152280"/>
            <a:ext cx="663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cursive function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73840" y="1494000"/>
            <a:ext cx="645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cursion is a process in 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function calls itself repeated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til some specified condition is m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94920" y="3505320"/>
            <a:ext cx="48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To solve a problem recurs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06640" y="4486320"/>
            <a:ext cx="74214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the problem must be written in recursive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0640" y="5400720"/>
            <a:ext cx="744408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the problem must include a stopping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50000" y="0"/>
            <a:ext cx="609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Recursive functions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914400" y="762120"/>
          <a:ext cx="7543800" cy="54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543800" cy="54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345320" y="152280"/>
            <a:ext cx="663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cursive functions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47800" y="1325520"/>
            <a:ext cx="5781600" cy="5814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Execution of recursive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622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95280" y="2362320"/>
          <a:ext cx="6881760" cy="31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88176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79800" y="5500800"/>
            <a:ext cx="845748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Different set of local variables are created for each c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091960" y="152280"/>
            <a:ext cx="546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torage classe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76240" y="1889280"/>
            <a:ext cx="2868840" cy="7034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utomat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29160" y="2895480"/>
            <a:ext cx="1826280" cy="7034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t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9880" y="3886200"/>
            <a:ext cx="2475720" cy="70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ter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0600" y="4861080"/>
            <a:ext cx="2390400" cy="7034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gis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32960" y="166680"/>
            <a:ext cx="624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objective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066680"/>
            <a:ext cx="8632800" cy="502920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663a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Recognize the scope rules for a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Understand the sizeof() ope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Discuss call by value and call by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Explain recursive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Identify storage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Discuss functions in multifile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4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Explain function declar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for extern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7440" y="152280"/>
            <a:ext cx="55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uto storage clas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5520" y="2971800"/>
            <a:ext cx="8864640" cy="642600"/>
          </a:xfrm>
          <a:prstGeom prst="rect">
            <a:avLst/>
          </a:prstGeom>
          <a:gradFill rotWithShape="0">
            <a:gsLst>
              <a:gs pos="0">
                <a:srgbClr val="9ce157"/>
              </a:gs>
              <a:gs pos="100000">
                <a:srgbClr val="66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Times New Roman"/>
              </a:rPr>
              <a:t>Local variables are by default auto variab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76800" y="1467000"/>
            <a:ext cx="678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tomatic variables do not retain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lue over a number of function c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960" y="4181400"/>
            <a:ext cx="8020440" cy="94716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declare an automatic variable the keyword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au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ich is optional for local variables, i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67000" y="152280"/>
            <a:ext cx="65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tatic storage clas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23040" y="1523880"/>
            <a:ext cx="613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tic variables retain their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ver a number of function c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9880" y="3352680"/>
            <a:ext cx="7158960" cy="947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declare a static variable the keyword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st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 placed at the head of the decl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67000" y="152280"/>
            <a:ext cx="65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tatic storage clas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1195560"/>
            <a:ext cx="8458200" cy="45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void print_auto(vo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static int i = 0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auto j =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 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\nValue of i before incrementing = " &lt;&lt; i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\nValue of j before incrementing = " &lt;&lt; j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 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i += 10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j += 10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 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\nValue of i after incrementing = " &lt;&lt; i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\nValue of i after incrementing = " &lt;&lt; j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 </a:t>
            </a:r>
            <a:r>
              <a:rPr b="1" lang="en-GB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467000" y="152280"/>
            <a:ext cx="65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tatic storage class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079640"/>
            <a:ext cx="281952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clrscr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print_auto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&lt;&lt;”\n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print_auto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&lt;&lt;”\n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print_auto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733920" y="1676520"/>
          <a:ext cx="50306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676520"/>
                    <a:ext cx="50306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289880" y="90360"/>
            <a:ext cx="679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xtern storage clas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65840" y="2484360"/>
            <a:ext cx="6720120" cy="1556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A global variable located in  fil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can be accessed by a function in file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using the keyword 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ex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213560" y="90360"/>
            <a:ext cx="679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xtern storage clas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04920" y="1066680"/>
          <a:ext cx="62881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288120" cy="3714840"/>
                  </a:xfrm>
                  <a:prstGeom prst="rect">
                    <a:avLst/>
                  </a:prstGeom>
                  <a:ln w="57240">
                    <a:solidFill>
                      <a:srgbClr val="000044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646360" y="2286000"/>
          <a:ext cx="626904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6360" y="2286000"/>
                    <a:ext cx="6269040" cy="3695760"/>
                  </a:xfrm>
                  <a:prstGeom prst="rect">
                    <a:avLst/>
                  </a:prstGeom>
                  <a:ln w="57240">
                    <a:solidFill>
                      <a:srgbClr val="000044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370160" y="76320"/>
            <a:ext cx="643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gister storage clas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8360" y="2174760"/>
            <a:ext cx="5106240" cy="8254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Register storage class can be spec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only for local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066680"/>
            <a:ext cx="3978360" cy="8254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Register memory is a part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microprocessor itse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7280" y="3292560"/>
            <a:ext cx="5022360" cy="825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For faster execution of program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register storage class can be spec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56200" y="5364000"/>
            <a:ext cx="53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ourier New"/>
              </a:rPr>
              <a:t>register in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9ce157"/>
                </a:solidFill>
                <a:latin typeface="Courier New"/>
              </a:rPr>
              <a:t>number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962680" y="1143000"/>
          <a:ext cx="257184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2680" y="1143000"/>
                    <a:ext cx="257184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378360" y="4359240"/>
            <a:ext cx="4275720" cy="8254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Address operator ‘&amp;’ can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be applied to register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323360" y="76320"/>
            <a:ext cx="659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Functions in multiple fil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1760" y="1143000"/>
            <a:ext cx="6775200" cy="5205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Programs can be composed of multiple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6280" y="1828800"/>
            <a:ext cx="7288560" cy="9471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Functions of the same program can be defin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in different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600" y="2971800"/>
            <a:ext cx="7608600" cy="9471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As with variables in multifile program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Times New Roman"/>
              </a:rPr>
              <a:t>functions can also be defined as static or exter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5880" y="4140360"/>
            <a:ext cx="475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stat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ce157"/>
                </a:solidFill>
                <a:latin typeface="Times New Roman"/>
              </a:rPr>
              <a:t>fn_typ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</a:t>
            </a:r>
            <a:r>
              <a:rPr b="1" lang="en-US" sz="2800" spc="-1" strike="noStrike">
                <a:solidFill>
                  <a:srgbClr val="9ce157"/>
                </a:solidFill>
                <a:latin typeface="Times New Roman"/>
              </a:rPr>
              <a:t>argument li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36600" y="4890960"/>
            <a:ext cx="49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exter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ce157"/>
                </a:solidFill>
                <a:latin typeface="Times New Roman"/>
              </a:rPr>
              <a:t>fn_typ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</a:t>
            </a:r>
            <a:r>
              <a:rPr b="1" lang="en-US" sz="2800" spc="-1" strike="noStrike">
                <a:solidFill>
                  <a:srgbClr val="9ce157"/>
                </a:solidFill>
                <a:latin typeface="Times New Roman"/>
              </a:rPr>
              <a:t>argument li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3276720"/>
            <a:ext cx="7772400" cy="99036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600200"/>
            <a:ext cx="7772400" cy="99072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27760" y="90360"/>
            <a:ext cx="619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Benefits of Func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01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72640" y="1870200"/>
            <a:ext cx="69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Large tasks can be broken up into manageable un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54636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Repetitive tasks can be simpl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4800600"/>
            <a:ext cx="7772400" cy="99072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5120" y="51055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Functions are lo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4648320"/>
            <a:ext cx="2057400" cy="144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04960" y="4648320"/>
            <a:ext cx="190476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81080" y="1289160"/>
            <a:ext cx="4813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&lt;iostream.h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main(vo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1(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2(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1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2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ourier New"/>
                <a:ea typeface="Courier New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28560" y="152280"/>
            <a:ext cx="465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Using func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2057400"/>
            <a:ext cx="3886200" cy="3276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  <a:effectLst>
            <a:outerShdw dist="205163" dir="17510325" blurRad="0" rotWithShape="0">
              <a:srgbClr val="0000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1d14"/>
                </a:solidFill>
                <a:latin typeface="Times New Roman"/>
              </a:rPr>
              <a:t>The program compon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1d1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1d14"/>
                </a:solidFill>
                <a:latin typeface="Times New Roman"/>
              </a:rPr>
              <a:t>main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1d14"/>
                </a:solidFill>
                <a:latin typeface="Times New Roman"/>
              </a:rPr>
              <a:t>is also consi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1d1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1d14"/>
                </a:solidFill>
                <a:latin typeface="Times New Roman"/>
              </a:rPr>
              <a:t>a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1752480"/>
            <a:ext cx="723888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838080"/>
            <a:ext cx="4495680" cy="106704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223a0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4520" y="0"/>
            <a:ext cx="56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Structure of a Fun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5600" y="198108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 name that identifies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2666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he type of the value returned by the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320" y="350532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The function’s parameters and their data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3080" y="990720"/>
            <a:ext cx="42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ttributes of a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5561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return data typ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  <a:ea typeface="Courier New"/>
              </a:rPr>
              <a:t>function_name</a:t>
            </a:r>
            <a:r>
              <a:rPr b="0" lang="en-GB" sz="1800" spc="-1" strike="noStrike">
                <a:solidFill>
                  <a:srgbClr val="00ffff"/>
                </a:solidFill>
                <a:latin typeface="Courier New"/>
                <a:ea typeface="Courier New"/>
              </a:rPr>
              <a:t>(parameter type [parameter name]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ssing stat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48520" y="152280"/>
            <a:ext cx="614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alling a Function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4200" y="1165320"/>
            <a:ext cx="149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in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func1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func1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1371600"/>
            <a:ext cx="609840" cy="1676520"/>
          </a:xfrm>
          <a:custGeom>
            <a:avLst/>
            <a:gdLst>
              <a:gd name="textAreaLeft" fmla="*/ 0 w 609840"/>
              <a:gd name="textAreaRight" fmla="*/ 220320 w 6098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3886200"/>
            <a:ext cx="609840" cy="2209680"/>
          </a:xfrm>
          <a:custGeom>
            <a:avLst/>
            <a:gdLst>
              <a:gd name="textAreaLeft" fmla="*/ 0 w 609840"/>
              <a:gd name="textAreaRight" fmla="*/ 220320 w 6098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7400" y="1905120"/>
            <a:ext cx="35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Calling function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464832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Called function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nc1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724280" y="1981080"/>
            <a:ext cx="4191120" cy="838440"/>
          </a:xfrm>
          <a:prstGeom prst="rect">
            <a:avLst/>
          </a:prstGeom>
          <a:solidFill>
            <a:srgbClr val="0000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3971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143000"/>
            <a:ext cx="7924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first_function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irst_function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first_functio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Writing my first C++ function !!!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8355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18520" y="213372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ing my first C++ function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48520" y="152280"/>
            <a:ext cx="614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alling a Function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796480" y="152280"/>
            <a:ext cx="42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rgument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62120" y="2324160"/>
            <a:ext cx="7772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a passed between functi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81240" y="1257480"/>
            <a:ext cx="658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so known as paramete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1072080" y="3276720"/>
            <a:ext cx="7107480" cy="6426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00007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can be more than one arg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43000" y="4533840"/>
            <a:ext cx="7238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eperate them by comma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20:26:09Z</dcterms:created>
  <dc:creator>Victor</dc:creator>
  <dc:description/>
  <dc:language>en-US</dc:language>
  <cp:lastModifiedBy>Sindhu</cp:lastModifiedBy>
  <dcterms:modified xsi:type="dcterms:W3CDTF">2001-09-20T06:50:26Z</dcterms:modified>
  <cp:revision>129</cp:revision>
  <dc:subject/>
  <dc:title>PowerPoint Presentation</dc:title>
</cp:coreProperties>
</file>